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9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14.png" ContentType="image/png"/>
  <Override PartName="/ppt/media/image6.gif" ContentType="image/gif"/>
  <Override PartName="/ppt/media/image21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8.gif" ContentType="image/gif"/>
  <Override PartName="/ppt/media/image4.jpeg" ContentType="image/jpeg"/>
  <Override PartName="/ppt/media/image2.png" ContentType="image/png"/>
  <Override PartName="/ppt/media/image13.gif" ContentType="image/gif"/>
  <Override PartName="/ppt/media/image1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21EE-85C3-427A-B5AE-BE2E5C0C4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8BA7-3D27-4DF7-89A3-5DD08B57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1F641-16E5-4BEB-BBB4-487B32B0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1F2CB4-D0C1-44B2-B417-C19812D8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377B9-504B-4046-B99C-544D2FE9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5335B-2D3E-4200-8CC9-DEF020C1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FD7057-5748-4059-8B42-860D583F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09DD9-0F11-4822-9489-62D552C1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9CA5E7-3733-4B38-BA11-65E9AEF4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0FE195-1137-428A-9A84-055B45A13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E5780-247B-4F4E-8EF4-BB9BB9912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1E7F-8062-4568-9800-57624A4CF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033F-514B-47B8-9F0E-B38E87A2E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673C-5D90-470C-A20E-609EE1870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3FDA-DE6C-4B91-8B8D-BD6F738F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42BA-A811-44AA-9EEC-ADAA8CE7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6890-A43A-44F3-8366-FED68537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CDC6-98AD-475D-98D4-3E8483E1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73A2-B9D9-4D31-B157-CB70DF59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AA0E-B8A4-43D5-B7F7-561DDD16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CE41-5C56-425A-AA3A-9397F29E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1513-CC51-42FA-BE47-A1D9FF68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1855-AB90-4C7A-A8FB-66E040DE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63F3-9469-4C7B-B325-4CBC13B6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ED5D-53B1-497C-B978-3493B39BF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8FE6-EBFC-41F4-988D-042ABD643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AB751-E666-42CF-8D57-B2061547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8B05E-ADC0-44DC-AA3E-212AA72E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83180-1D08-4F25-B85F-1CD6A559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47DFE-7A55-41E7-A394-D1B5E2F4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0BADC-A348-4D2B-B716-EC6ECA18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D578-EC4D-4330-BAAC-3BA1C3EE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7D453-E6D3-4B91-B473-A7EE4355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29190-203D-476B-9045-7A142B38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9DDE5-318B-4BAF-85C8-226C4558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66F48-3F96-4505-AC2E-0B491AC9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CA08C-7D54-4C81-AEFE-049A914B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06DB1-70AF-4C05-A920-477C4E414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08099-8224-459A-A457-E473D737A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D3F8C-C979-4F25-B64F-562E8D93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E5CB7-7B68-45C1-AA83-73B796A9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62378-4CA8-4852-8119-C82357F9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BDF4-7C9C-4EA3-9B7F-00A1DB25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BF325-D9BB-40EB-998D-740179C8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70713-AA70-495D-9A7F-FC228271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88036-7105-4AC8-8736-63F4D81C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6279E-C32B-4578-B727-CBF500D8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6F59B-95CB-420F-BF05-E2F1F906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A4703-C3E2-47DD-B534-A6A428B4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13274-A880-46F1-881E-6B0FD89A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43B3A-5B6A-46BF-9CDF-1FE921C42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8A0B7-9959-42B5-9A0D-688CFC71C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EA93E-B012-455D-9E44-11657805A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58FD-23EB-4B97-A981-E2922116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B18E6-1054-452E-AF1D-25418DF4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FB519-DD5E-45A6-898E-F0A1A631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74C1F-59AC-41D0-8373-ABCAD8B8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EC70B-8339-4B46-B3ED-86D7431F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B5C28-1799-4D8B-8116-7550BDD4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2DEA2-F445-46A9-8BBF-2F341BE2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69C1B-E8C7-4185-B33C-A524252C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B06AC-2FE6-43DE-B875-21D0D0D4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397A9-4A21-4272-9696-957D7E84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4C251-8D00-49F1-BF5C-5AE7CCFF1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068C-BF82-4152-A92D-1B55E465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432DB-E2E1-4A8F-941A-EB638FA63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EE9AA-956C-4036-B74F-0B7132553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B8234-DCF0-4382-904B-90F53A5C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74FD9-4D6B-4A41-8330-B3C58640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8E60C-0921-41B7-BBE9-10B3A866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DA8CC-2069-41E6-8600-1ED2EE81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9B056-84F0-4E1F-9192-99392E1C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37BA8-C0DF-421C-957A-C75DBD26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C2D4A-4444-43AA-962F-5B529DC0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D684F-EC8D-49D4-BFB5-D70F3075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1B88-9F11-4ADA-BFF7-28C62F21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5B5A3-0FBC-4A2B-A143-7C692195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57D77-F06D-42F4-9B86-188E5AC50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86955-BC89-4F0E-BC48-B00A9A5E9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2079C-3F6F-4BC1-B163-40D66E4E2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317A7-62DE-42D6-BC78-1DB03240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EFB35-3568-4E90-B05D-D776DD8A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F564A-B39D-41B0-B1FC-26A978D7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D2F73-025D-419E-AAC0-3B336B16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7880C-07D3-43A8-9CD6-E081C8BB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CBB48-F34F-4768-97FC-E9349421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4A30-2B88-469B-A8CC-41035B43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2A135-F33D-4112-8402-6D4F6C9E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FFAFF-703B-441A-A64B-DC557EF2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F02F3-BB81-4081-8D07-2F2FDB44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826EE-265A-466A-92AD-58890D1C4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B169B-EEA7-4920-8855-D590E019A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963A3-1B3B-4722-B235-792B8A8F3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6BD01-7BDB-4804-8E3C-3EAE249A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2E9DF-A253-427A-BC26-87108E6E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6CAA9-BD21-4DFC-B0EC-F96919D6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E23FC-E1AC-4820-B85F-138C87AB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1333-C871-4625-8A68-0681EC54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F2141-C11F-4CD7-9A01-27362F67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795F4-B508-4309-91A9-553C6182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0B924-1AA0-4C30-A0BE-CE3C3ABC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1DD8A-103F-4D75-ADF8-3A87ABD2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95288-812B-48BF-900E-8FC0E7A5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0E963-EAC7-46DD-B6BC-D3B5FC688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44BEA-BB4A-430C-8A2D-213F05175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81159-CB27-4860-A4DF-B50EED9B4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BD93C-A497-425B-9AA6-6DBE1C89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45DA1F-2F1D-44EE-A3FC-FD8B6E84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1E03-DD23-4DA5-B9A0-D5F9C423FB1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9536-9415-4690-89A6-985CD9D42DA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22DB-9287-4E2E-B1A5-2FC9B8E009B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0925-1950-423B-8E09-3BC473C7B49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7DE9-9E6A-4DEE-8D9D-4B8143CB62A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1F09-238A-4645-B86E-1190A402151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08E3-3482-4BDE-99EF-26A7B65B404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D377-FD1A-4B39-A0D5-91192AB13F0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1ACC-171E-400F-80A9-6B11F662AF2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12.gif"/><Relationship Id="rId9" Type="http://schemas.openxmlformats.org/officeDocument/2006/relationships/image" Target="../media/image13.gi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-171360" y="450720"/>
            <a:ext cx="9169200" cy="4591080"/>
          </a:xfrm>
          <a:prstGeom prst="rect">
            <a:avLst/>
          </a:prstGeom>
          <a:ln w="0">
            <a:noFill/>
          </a:ln>
        </p:spPr>
      </p:pic>
      <p:sp>
        <p:nvSpPr>
          <p:cNvPr id="400" name="Дата 2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1642-C67C-4AE4-B4A9-D15D709318B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2" name="Рисунок 5" descr="cat13.gif"/>
          <p:cNvPicPr/>
          <p:nvPr/>
        </p:nvPicPr>
        <p:blipFill>
          <a:blip r:embed="rId2"/>
          <a:stretch/>
        </p:blipFill>
        <p:spPr>
          <a:xfrm>
            <a:off x="6572160" y="4429080"/>
            <a:ext cx="1714680" cy="185760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6" descr="cat21.gif"/>
          <p:cNvPicPr/>
          <p:nvPr/>
        </p:nvPicPr>
        <p:blipFill>
          <a:blip r:embed="rId3"/>
          <a:stretch/>
        </p:blipFill>
        <p:spPr>
          <a:xfrm>
            <a:off x="642960" y="4786200"/>
            <a:ext cx="1571760" cy="142884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7" descr="flowers32.gif"/>
          <p:cNvPicPr/>
          <p:nvPr/>
        </p:nvPicPr>
        <p:blipFill>
          <a:blip r:embed="rId4"/>
          <a:stretch/>
        </p:blipFill>
        <p:spPr>
          <a:xfrm>
            <a:off x="5643720" y="5000760"/>
            <a:ext cx="1195200" cy="130464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8" descr="f126.gif"/>
          <p:cNvPicPr/>
          <p:nvPr/>
        </p:nvPicPr>
        <p:blipFill>
          <a:blip r:embed="rId5"/>
          <a:stretch/>
        </p:blipFill>
        <p:spPr>
          <a:xfrm>
            <a:off x="7929720" y="5572080"/>
            <a:ext cx="599760" cy="65736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9" descr="flowers27.gif"/>
          <p:cNvPicPr/>
          <p:nvPr/>
        </p:nvPicPr>
        <p:blipFill>
          <a:blip r:embed="rId6"/>
          <a:stretch/>
        </p:blipFill>
        <p:spPr>
          <a:xfrm>
            <a:off x="2214720" y="4572000"/>
            <a:ext cx="952200" cy="101916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10" descr="bird2.gif"/>
          <p:cNvPicPr/>
          <p:nvPr/>
        </p:nvPicPr>
        <p:blipFill>
          <a:blip r:embed="rId7"/>
          <a:stretch/>
        </p:blipFill>
        <p:spPr>
          <a:xfrm>
            <a:off x="7000920" y="1000080"/>
            <a:ext cx="1643040" cy="200016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11" descr="ptici08.gif"/>
          <p:cNvPicPr/>
          <p:nvPr/>
        </p:nvPicPr>
        <p:blipFill>
          <a:blip r:embed="rId8"/>
          <a:stretch/>
        </p:blipFill>
        <p:spPr>
          <a:xfrm>
            <a:off x="1214280" y="785880"/>
            <a:ext cx="1143000" cy="1000080"/>
          </a:xfrm>
          <a:prstGeom prst="rect">
            <a:avLst/>
          </a:prstGeom>
          <a:ln w="0">
            <a:noFill/>
          </a:ln>
        </p:spPr>
      </p:pic>
      <p:pic>
        <p:nvPicPr>
          <p:cNvPr id="409" name="Рисунок 12" descr="5742c64de29c0fa8960ed1a63542e99f.gif"/>
          <p:cNvPicPr/>
          <p:nvPr/>
        </p:nvPicPr>
        <p:blipFill>
          <a:blip r:embed="rId9"/>
          <a:stretch/>
        </p:blipFill>
        <p:spPr>
          <a:xfrm>
            <a:off x="3857760" y="642960"/>
            <a:ext cx="142848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3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85428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1599840"/>
            <a:ext cx="4767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Bookman Old Style"/>
              </a:rPr>
              <a:t>На двух ногах бочка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Bookman Old Style"/>
              </a:rPr>
              <a:t>На бочке – кочка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Bookman Old Style"/>
              </a:rPr>
              <a:t>А на кочке – лес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2" name="Содержимое 6" descr=""/>
          <p:cNvPicPr/>
          <p:nvPr/>
        </p:nvPicPr>
        <p:blipFill>
          <a:blip r:embed="rId2"/>
          <a:stretch/>
        </p:blipFill>
        <p:spPr>
          <a:xfrm>
            <a:off x="5072040" y="1857240"/>
            <a:ext cx="35006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3" descr=""/>
          <p:cNvPicPr/>
          <p:nvPr/>
        </p:nvPicPr>
        <p:blipFill>
          <a:blip r:embed="rId1"/>
          <a:stretch/>
        </p:blipFill>
        <p:spPr>
          <a:xfrm>
            <a:off x="298440" y="401760"/>
            <a:ext cx="8699400" cy="61920"/>
          </a:xfrm>
          <a:prstGeom prst="rect">
            <a:avLst/>
          </a:prstGeom>
          <a:ln w="0">
            <a:noFill/>
          </a:ln>
        </p:spPr>
      </p:pic>
      <p:pic>
        <p:nvPicPr>
          <p:cNvPr id="414" name="Содержимое 7" descr=""/>
          <p:cNvPicPr/>
          <p:nvPr/>
        </p:nvPicPr>
        <p:blipFill>
          <a:blip r:embed="rId2"/>
          <a:stretch/>
        </p:blipFill>
        <p:spPr>
          <a:xfrm>
            <a:off x="-6480" y="-19080"/>
            <a:ext cx="915696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432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0" y="15717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70c0"/>
                </a:solidFill>
                <a:latin typeface="Constantia"/>
              </a:rPr>
              <a:t>Почему некоторые люди </a:t>
            </a:r>
            <a:r>
              <a:rPr b="1" i="1" lang="ru-RU" sz="4800" spc="-1" strike="noStrike">
                <a:solidFill>
                  <a:srgbClr val="ff0000"/>
                </a:solidFill>
                <a:latin typeface="Constantia"/>
              </a:rPr>
              <a:t>часто</a:t>
            </a:r>
            <a:r>
              <a:rPr b="1" lang="ru-RU" sz="4800" spc="-1" strike="noStrike">
                <a:solidFill>
                  <a:srgbClr val="0070c0"/>
                </a:solidFill>
                <a:latin typeface="Constantia"/>
              </a:rPr>
              <a:t> </a:t>
            </a:r>
            <a:r>
              <a:rPr b="0" lang="ru-RU" sz="4800" spc="-1" strike="noStrike">
                <a:solidFill>
                  <a:srgbClr val="0070c0"/>
                </a:solidFill>
                <a:latin typeface="Constantia"/>
              </a:rPr>
              <a:t>болеют, 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70c0"/>
                </a:solidFill>
                <a:latin typeface="Constantia"/>
              </a:rPr>
              <a:t>а другие – </a:t>
            </a:r>
            <a:r>
              <a:rPr b="1" i="1" lang="ru-RU" sz="4800" spc="-1" strike="noStrike">
                <a:solidFill>
                  <a:srgbClr val="ff0000"/>
                </a:solidFill>
                <a:latin typeface="Constantia"/>
              </a:rPr>
              <a:t>нет</a:t>
            </a:r>
            <a:r>
              <a:rPr b="1" lang="ru-RU" sz="4800" spc="-1" strike="noStrike">
                <a:solidFill>
                  <a:srgbClr val="0070c0"/>
                </a:solidFill>
                <a:latin typeface="Constantia"/>
              </a:rPr>
              <a:t>?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Рисунок 3" descr=""/>
          <p:cNvPicPr/>
          <p:nvPr/>
        </p:nvPicPr>
        <p:blipFill>
          <a:blip r:embed="rId2"/>
          <a:stretch/>
        </p:blipFill>
        <p:spPr>
          <a:xfrm>
            <a:off x="1714680" y="4429080"/>
            <a:ext cx="5857560" cy="17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20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9" name="Rectangle 21"/>
          <p:cNvSpPr/>
          <p:nvPr/>
        </p:nvSpPr>
        <p:spPr>
          <a:xfrm>
            <a:off x="1258920" y="0"/>
            <a:ext cx="1225440" cy="6858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Rectangle 22"/>
          <p:cNvSpPr/>
          <p:nvPr/>
        </p:nvSpPr>
        <p:spPr>
          <a:xfrm>
            <a:off x="2484360" y="0"/>
            <a:ext cx="1440000" cy="6858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Rectangle 23"/>
          <p:cNvSpPr/>
          <p:nvPr/>
        </p:nvSpPr>
        <p:spPr>
          <a:xfrm>
            <a:off x="3851280" y="0"/>
            <a:ext cx="1297080" cy="6858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2" name="Rectangle 24"/>
          <p:cNvSpPr/>
          <p:nvPr/>
        </p:nvSpPr>
        <p:spPr>
          <a:xfrm>
            <a:off x="5148360" y="0"/>
            <a:ext cx="1368360" cy="6858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3" name="Rectangle 25"/>
          <p:cNvSpPr/>
          <p:nvPr/>
        </p:nvSpPr>
        <p:spPr>
          <a:xfrm>
            <a:off x="6516720" y="0"/>
            <a:ext cx="1295280" cy="6858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Rectangle 26"/>
          <p:cNvSpPr/>
          <p:nvPr/>
        </p:nvSpPr>
        <p:spPr>
          <a:xfrm>
            <a:off x="7775640" y="0"/>
            <a:ext cx="1368360" cy="6858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5" name="Picture 2" descr="Картинка 31 из 9787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611280" y="549360"/>
            <a:ext cx="1101600" cy="11016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" descr="Картинка 31 из 9787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7451640" y="404640"/>
            <a:ext cx="1101960" cy="11019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4" descr="Картинка 31 из 9787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4067280" y="2781360"/>
            <a:ext cx="1101600" cy="11016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Картинка 31 из 9787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611280" y="5300640"/>
            <a:ext cx="1101600" cy="11016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6" descr="Картинка 31 из 9787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7524720" y="5300640"/>
            <a:ext cx="1101600" cy="11016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7" descr="Картинка 31 из 9787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4067280" y="404640"/>
            <a:ext cx="1101600" cy="11019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Картинка 31 из 9787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4140360" y="5300640"/>
            <a:ext cx="1101600" cy="11016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9" descr="Картинка 31 из 9787"/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6372360" y="2781360"/>
            <a:ext cx="1101600" cy="11016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0" descr="Картинка 31 из 9787"/>
          <p:cNvPicPr/>
          <p:nvPr/>
        </p:nvPicPr>
        <p:blipFill>
          <a:blip r:embed="rId9">
            <a:lum bright="-6000"/>
          </a:blip>
          <a:stretch/>
        </p:blipFill>
        <p:spPr>
          <a:xfrm>
            <a:off x="1547640" y="2708280"/>
            <a:ext cx="1101960" cy="11016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27" descr=""/>
          <p:cNvPicPr/>
          <p:nvPr/>
        </p:nvPicPr>
        <p:blipFill>
          <a:blip r:embed="rId10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4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7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1" nodeType="after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5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9" nodeType="after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3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7" nodeType="after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1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45" nodeType="after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7000"/>
                            </p:stCondLst>
                            <p:childTnLst>
                              <p:par>
                                <p:cTn id="149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" dur="10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8000"/>
                            </p:stCondLst>
                            <p:childTnLst>
                              <p:par>
                                <p:cTn id="154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5" dur="10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9000"/>
                            </p:stCondLst>
                            <p:childTnLst>
                              <p:par>
                                <p:cTn id="159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0" dur="10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0"/>
                            </p:stCondLst>
                            <p:childTnLst>
                              <p:par>
                                <p:cTn id="164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5" dur="10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1000"/>
                            </p:stCondLst>
                            <p:childTnLst>
                              <p:par>
                                <p:cTn id="169" nodeType="afterEffect" fill="hold" presetClass="path" presetID="3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712 -0.00208 L 0.01823 -0.34282 L 0.2941 -0.00208 L 0.01823 0.33935 L -0.25712 -0.00208 Z">
                                      <p:cBhvr>
                                        <p:cTn id="170" dur="3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3:11:01Z</dcterms:created>
  <dc:creator>WIN7XP</dc:creator>
  <dc:description/>
  <dc:language>en-US</dc:language>
  <cp:lastModifiedBy>dns</cp:lastModifiedBy>
  <dcterms:modified xsi:type="dcterms:W3CDTF">2019-12-22T14:05:18Z</dcterms:modified>
  <cp:revision>30</cp:revision>
  <dc:subject/>
  <dc:title>Слайд 1</dc:title>
</cp:coreProperties>
</file>