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ED6-DBD8-4462-B9EA-AAAD61E9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C22-EE96-48D2-AD72-39829E67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C0CCB-8D24-4D7B-8CA9-757D828A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C4F38-49AE-452D-AA50-F5E0A822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FEA6A-AFAF-4CDA-BDF3-82D1FD92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33C56-B358-41E7-B3A1-EF40A3A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567F2-3845-4DDF-969A-0BE402D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151BF-394E-4054-8259-A2A3C757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A59BB-6886-41B0-A389-0C1899E4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6099E-2620-4BFD-889D-E8026CC8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A5BB0-31A0-41D5-8570-36A42B92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F6F-56C9-4AF2-A6E3-1A2754AB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983-DE89-4EB2-8285-64581B63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47FA-FB39-4577-ADC6-36A86BBB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D9B-0414-4FA3-AEB9-88672F27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628B-9F80-45CC-A902-55A6475D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7BF-4834-48C0-A934-D8B7A266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121A-EF2A-4F96-A775-F874F5D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8854-36AE-444E-AF14-F3FB5F61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E123-D400-43AD-B08F-1161940A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D9B-88DF-4935-9D9D-350D8F75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D42C-370C-4F32-9026-59A9D77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A51B-4834-4C38-B5A8-6E3A9DA9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9F1-1AAA-4568-BF35-B891828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D9DE-4F4F-49D1-A350-799DD2E8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2F8A-DBC7-44FD-B40E-E68DA95E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D559-59F3-47C0-BA71-3755F53C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BD8A-CA86-4A00-AE24-22ACF959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E5DA-6B1C-41A2-99F5-9F50A527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1EC2-4E57-42F1-B2F7-35F02A73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9BCD-4F0D-4632-805D-0DCEDA77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414-9582-433F-8E7E-69858510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71E1-3BD8-4C63-BEBD-843F1BCE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25214-AF53-4FAD-8917-4C0E4A86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6EC0-666F-4934-99BA-E2E4F18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7FEB-C3E6-493D-B41B-2DB2325D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793D-DE7C-4C69-A2F5-8844BE1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256B-0343-49DC-A882-526CADDE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89D1F-8F3A-46EE-832B-43A6E6E2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E479C-F804-45D5-AB7D-4564590A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4E03-203D-488F-83AE-931A638E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EEBF-AAD6-4E94-AB9B-0ED70C7F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531-6ACC-480C-9285-C3CCF497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7555-66FF-48EE-AEAD-F93E474A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52C01-6EC7-4CB5-A242-42306752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31C6-4C06-4EDD-ABC7-2D7DA489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9C00-7C3C-42B2-9D6A-FF69420C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64DF-27F6-41FE-B62E-2245028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6FB4-DA09-428F-8307-A6C5A7EF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B486-F909-4BA9-8FEB-E3B31098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0386-41CD-4940-A5D5-5794C7BB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A3B9-046E-43CF-B6E1-E3550155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FACA0-2AAB-4DA4-8AAF-D3323794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C08-1808-4E4E-89B1-0A656889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31C6-D296-43B3-B311-4DFEE7E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BA991-4621-42BE-9A09-3A22C9CE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7EAE-56F4-49CE-8882-9ED01C59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72BF1-54EF-4021-9FBB-415A28E8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85E1B-7925-48A2-845A-81C3185B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86C2-D465-4A78-89FD-775F2B32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4EE0A-6C49-4107-B574-983F95A8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F50A0-E3F0-4A2C-8E7A-06953838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F2ED3-2584-4F26-8416-961D13E3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96D9B-1A64-496C-A7E2-296271C3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C4A-7F25-4C01-860F-B71D5E82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79013-2339-4EB2-B2B1-D78D7156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523D4-EABB-4D5E-AC3D-D194DEB0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3B48-E4D9-41C9-BDFD-A3027F40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BAC62-2D11-4944-933D-458EF181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808EA-B23D-4040-ACE5-61EA6BD0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34D4C-57D8-4053-AC4E-3A5AFA5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B1659-03C5-4FD3-8B70-E7A9923F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681F3-45E6-40FD-9F8C-26EFE85E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833BE-D5FD-4AF8-AFDA-24076110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32E08-6717-47D7-8AB0-1EE49E09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1EF-2869-4134-BF92-C15ADD4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FDE8A-B95E-4AC4-AB75-CD436F45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AA332-09E5-4190-9EBE-BF0BFF4E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D9980-8ABC-4A80-ACD9-E1DAB450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3C187-42AD-4D31-9881-4FCB7505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B7BC2-18A7-4A3E-B2C2-48A1D202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386AD-9B8B-49AC-A5AD-D65998C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819D3-8EAD-41A9-8CCF-D6A2CC4A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1E16E-C1C0-438A-A574-86553827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3E744-6B51-4144-B7A1-F571213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8AE9-15BD-44B9-86AD-A28D4AB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356-F1E9-4478-B950-7D7E6978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D94AD-46A4-436C-BAE8-1F96CAB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A0C20-DBF1-45CA-B3DE-D060A107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04B45-217D-49FD-B6FF-2DE69B46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4866F-F068-496F-84B4-25342450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FEAE0-02C8-4767-8AAA-56FD9464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2AB84-3B2D-4045-B7F6-92E29FCE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04D8D-9AAB-44C1-B750-8057BE2B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581A6-8BB0-4877-89CE-2E238B94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067A8-9C9F-4787-B20A-123D52CE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BD74F-74B6-4CD7-B694-1B97721F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E27-C45A-4C73-ADF2-4347E014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F9E73-CDA1-40BC-8371-9C114608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381EF-4586-419F-A175-A3337D5A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72F49-479B-4E67-979E-0ED4A55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C2D77-3CF8-4B62-9F91-70959EB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CF27B-1329-45D0-8D75-3C572C2C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DD2F9-51C0-4A15-80E2-FBA437EB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93E8F-F1F3-42BD-BDDF-C9942D56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9FCC5-10CA-4CD9-B0CE-69C1879B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2D36B-3CCB-40DF-910F-DA92B8A5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34AA4-237C-488C-9E88-A32365AE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1D91-92B1-44B1-A1B2-2F31986E21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C0BC-CA26-496F-88CA-EE2412BFA3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1C95-DBF3-4662-9A91-99202F8C3C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9EB-4A19-4327-B8AD-EDD0AEB500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05F8-72DD-4F51-A2D4-5AC25DB8F9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A6E0-6855-4537-995B-C95195AA94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A2C8-F1CC-4724-AC7D-B965FF4C0D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5E3C-FB77-4E5B-86A1-D45C08609A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E271-E897-44DC-9A86-BB3577475C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642960" y="714240"/>
            <a:ext cx="80722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Почему плохо быть «грязнулей»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  </a:t>
            </a: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Как часто следует мыть глаза, уши,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    </a:t>
            </a: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волосы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Где больше всего скапливается  грязи на теле человека? Когда надо  обязательно мыть руки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1" i="1" lang="ru-RU" sz="3200" spc="-1" strike="noStrike">
                <a:solidFill>
                  <a:srgbClr val="0070c0"/>
                </a:solidFill>
                <a:latin typeface="Constantia"/>
              </a:rPr>
              <a:t>Почему хирург так тщательно обрабатывает руки перед операцией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1" descr=""/>
          <p:cNvPicPr/>
          <p:nvPr/>
        </p:nvPicPr>
        <p:blipFill>
          <a:blip r:embed="rId1"/>
          <a:stretch/>
        </p:blipFill>
        <p:spPr>
          <a:xfrm>
            <a:off x="2857680" y="1214280"/>
            <a:ext cx="2928600" cy="3214800"/>
          </a:xfrm>
          <a:prstGeom prst="rect">
            <a:avLst/>
          </a:prstGeom>
          <a:ln w="0">
            <a:noFill/>
          </a:ln>
        </p:spPr>
      </p:pic>
      <p:pic>
        <p:nvPicPr>
          <p:cNvPr id="401" name="Заголовок 4" descr=""/>
          <p:cNvPicPr/>
          <p:nvPr/>
        </p:nvPicPr>
        <p:blipFill>
          <a:blip r:embed="rId2"/>
          <a:stretch/>
        </p:blipFill>
        <p:spPr>
          <a:xfrm>
            <a:off x="378000" y="4846680"/>
            <a:ext cx="8557920" cy="12366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" descr=""/>
          <p:cNvPicPr/>
          <p:nvPr/>
        </p:nvPicPr>
        <p:blipFill>
          <a:blip r:embed="rId1"/>
          <a:stretch/>
        </p:blipFill>
        <p:spPr>
          <a:xfrm>
            <a:off x="2857680" y="1214280"/>
            <a:ext cx="2928600" cy="3214800"/>
          </a:xfrm>
          <a:prstGeom prst="rect">
            <a:avLst/>
          </a:prstGeom>
          <a:ln w="0">
            <a:noFill/>
          </a:ln>
        </p:spPr>
      </p:pic>
      <p:pic>
        <p:nvPicPr>
          <p:cNvPr id="404" name="Заголовок 4" descr=""/>
          <p:cNvPicPr/>
          <p:nvPr/>
        </p:nvPicPr>
        <p:blipFill>
          <a:blip r:embed="rId2"/>
          <a:stretch/>
        </p:blipFill>
        <p:spPr>
          <a:xfrm>
            <a:off x="378000" y="4846680"/>
            <a:ext cx="8564400" cy="12366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:\Documents and Settings\Администратор\Рабочий стол\20102011\Титульный лист0001.BMP"/>
          <p:cNvPicPr/>
          <p:nvPr/>
        </p:nvPicPr>
        <p:blipFill>
          <a:blip r:embed="rId1"/>
          <a:stretch/>
        </p:blipFill>
        <p:spPr>
          <a:xfrm>
            <a:off x="500040" y="571680"/>
            <a:ext cx="1571760" cy="2428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Documents and Settings\Администратор\Рабочий стол\20102011\Титульный лист0002.BMP"/>
          <p:cNvPicPr/>
          <p:nvPr/>
        </p:nvPicPr>
        <p:blipFill>
          <a:blip r:embed="rId2"/>
          <a:stretch/>
        </p:blipFill>
        <p:spPr>
          <a:xfrm>
            <a:off x="6572160" y="642960"/>
            <a:ext cx="1717920" cy="24289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Documents and Settings\Администратор\Рабочий стол\20102011\Титульный лист0003.BMP"/>
          <p:cNvPicPr/>
          <p:nvPr/>
        </p:nvPicPr>
        <p:blipFill>
          <a:blip r:embed="rId3"/>
          <a:stretch/>
        </p:blipFill>
        <p:spPr>
          <a:xfrm>
            <a:off x="2714760" y="857160"/>
            <a:ext cx="3357360" cy="2071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C:\Documents and Settings\Администратор\Рабочий стол\20102011\Титульный лист0004.BMP"/>
          <p:cNvPicPr/>
          <p:nvPr/>
        </p:nvPicPr>
        <p:blipFill>
          <a:blip r:embed="rId4"/>
          <a:stretch/>
        </p:blipFill>
        <p:spPr>
          <a:xfrm>
            <a:off x="714240" y="3929040"/>
            <a:ext cx="2928960" cy="2174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C:\Documents and Settings\Администратор\Рабочий стол\20102011\Титульный лист0005.BMP"/>
          <p:cNvPicPr/>
          <p:nvPr/>
        </p:nvPicPr>
        <p:blipFill>
          <a:blip r:embed="rId5"/>
          <a:stretch/>
        </p:blipFill>
        <p:spPr>
          <a:xfrm>
            <a:off x="4454640" y="3929040"/>
            <a:ext cx="354636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3:11:01Z</dcterms:created>
  <dc:creator>WIN7XP</dc:creator>
  <dc:description/>
  <dc:language>en-US</dc:language>
  <cp:lastModifiedBy>dns</cp:lastModifiedBy>
  <dcterms:modified xsi:type="dcterms:W3CDTF">2019-12-22T14:07:40Z</dcterms:modified>
  <cp:revision>31</cp:revision>
  <dc:subject/>
  <dc:title>Слайд 1</dc:title>
</cp:coreProperties>
</file>