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8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0.gif" ContentType="image/gif"/>
  <Override PartName="/ppt/media/image9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5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401-CC16-4C45-917F-4195080B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A46-487B-4106-83B7-34CB9A81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BE923-4FCA-40C3-A65D-7EAAA8E3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92430-5933-4118-AA2F-D6F03AAE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AF7BD-8123-4673-A79C-4F845166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3A284-247E-4E50-8870-3BF27640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26DCF-CEAA-4E77-9650-E379EEC6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AA541-8822-4F39-9E7A-0052DAC3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481E3-5FED-44F8-8384-99A204FF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A4AAA-E413-4676-A908-B38D37C0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E3ED0-1C0F-4ADC-A19C-00AF6F53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BDF-D6D3-4F42-BB91-9E9B8CCF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0B8-5E44-4A5F-AC89-0351ACB1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3E84-FBF3-4861-A009-5A302027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DC18-CAF6-43CA-887F-63F101EC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41AE-E9A7-4C73-BBB3-8C4605DD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1A1A-66C8-4F56-9138-35208936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26B8-8895-4D73-B83A-35E54372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386E-0965-476B-87EF-7449AC54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1654-AA6A-4E39-9407-DAFDCB62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170-82B8-4673-8C30-81119337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9881-7292-4EBA-855E-AD14BDE7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BC61-80A2-41F2-B307-8ADCA33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F2CC-CF11-461F-995E-52E16142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08A4-0172-406E-9703-EE597DC1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CAF9-CE36-40F2-B5DB-9EEAFF20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527CF-972A-4B2B-BA1D-770BF0B1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BF0D-DD5E-402A-A077-68FC858C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55E0D-EDB8-43D0-81C5-40281BF3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21E1-B106-4584-AD38-618A83B0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F891-4461-4BDB-AF9A-0074F5EA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9AF-ABE4-4E53-9277-2A0FAA7B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C9AA-496D-4617-B175-D5260DB2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243F-10F1-4B70-B395-452C0B0A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3049-8C9C-44B2-8C71-F14CDA2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2915-C73B-4974-B191-4A530DF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37B8-EFBA-450C-85F6-66388231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EA7B-B35D-4294-9F29-EBC803B5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BC0C-2968-4A18-A2EF-1123F498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90D6-F451-4ABB-B505-F12FABB5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00FC-48FD-4E62-AA1C-258F7468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FD40E-204D-46F8-8C2B-4CE3E953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4C3-B76F-4684-BB58-C264B6CB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82B4-B82B-4F17-BF7C-356AC66B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B5E0D-BA81-422A-BA6C-D2D4AD96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A094A-D5F1-4278-BA06-9B164A6F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1957C-37EC-4591-9C09-07A1CF6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20366-DE14-4DA4-8067-D2E22E27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8BDB9-8CE4-4E29-8B1C-6589716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1DD6D-422A-4F17-AC2D-CC648BB6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A77D-DE7B-4983-B58D-850403B5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D645-22EA-47FC-B9D9-86E7B219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6D222-83F1-436D-97E0-F22B0A1B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9BD-C169-467A-BA09-A519C8B3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48F75-2872-4DC1-A198-2835AB44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E46F5-091E-473A-84D8-406E1B10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C075E-0C4F-4CB6-B75B-168FB1A1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BEA4-F44F-48C3-AEB4-EABDF2FC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48760-2854-4F53-9D45-4986A23E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31213-F74D-44EA-A866-6083F807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2FD5B-B7B9-4265-B2FA-06ECA3FB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F1C5A-FB08-4102-935E-2B123113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2942D-8454-4EED-BF76-B1414DE8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49FC9-10BA-4E82-9E94-30DE8F92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9F9-2C33-4ED7-8243-2337CED6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94C23-B89D-4A32-B40D-0433DA89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D948C-9AA2-4266-9357-19373259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18F3E-CB8C-4A55-8E90-092316FA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B5FEE-163D-411A-91B5-636E949E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1B3A6-A65D-44AE-91E4-307C205A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EEC9F-FB4A-4FFA-B43F-4CF19A84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6E39-9403-44FF-B0EE-BF351F34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BD241-217D-4C5F-95F4-4BEA37AB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ABF79-32DF-4030-B270-380F1906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56C3E-28E8-4BCA-8D4C-4473F83C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BA6-5884-42DA-BDDA-1BC7793A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D593D-0834-4B24-9EAF-8D612C7A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B5525-7F32-4E4E-8D6E-F1D8DC24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34FFC-F57E-4C1E-B58E-C131521A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15C64-E9BD-4161-81AD-5D7F50B8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954B2-76F3-4051-B5A5-93831C33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FD309-6DFE-4C4F-897E-7A302FA4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46756-511F-42E5-9DA8-D1446A0F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9BC06-2826-4DF1-8DC7-AFE7A55F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059ED-1A70-4EFB-9A87-4DF442B6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39A4F-C2FA-4C94-9120-CC8B5515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687-897F-4349-8D98-A8A8868F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4F94-F4CD-4AE6-97AF-5BF63BA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4B2A-26FB-485B-9C36-C844098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D6D28-6FC2-454D-8BA9-21618C3D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48A1E-D7AD-46DA-8111-1506FE17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FCBBC-92EB-46EC-A3D2-58416A35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A1DA0-AE4A-4420-A1EB-5E99C450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773BF-AAAD-4644-82DB-121C4B40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3C011-A876-410D-A12F-67CE2694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46831-5E5E-4648-8E4A-47A231DB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E334-103F-47E1-BC2B-0D0BCC2F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0C4-F9A6-4E9D-881D-12BB82BB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113BA-7786-46E2-86F8-5C165186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39B09-7600-4B58-8FBD-40FFE888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6CE97-27AE-48AA-A979-AC414583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B4C1A-7915-4E01-A038-39426739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547B7-4C18-4A61-B991-0D9D9B74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D8D34-701C-4E39-B3C9-B9EFEB1D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64B87-6EE1-4A49-AD89-317E32AB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73A99-A01C-413D-91E8-5A5E82C2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EB37D-7A3C-461A-90E2-42283444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97A5F-672D-4DBC-8E1D-358A9D7F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060E-72FB-49DA-8088-D1C2B21F95D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8374-08E9-4FC6-924C-A1D819A123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76B2-9542-4D30-92D1-877CE6A1B3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D2A6-4700-4064-AEFD-2ED9CF7B2E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9575-7DE2-457A-A8F7-04EE7A8573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BFA6-F50C-46FC-B017-BC6B794C0B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D09F-D7F2-4E3F-B08A-4227211A17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0267-B086-4099-845D-3AB31A9285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3ACE-F30A-4092-9159-A868B2B904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image" Target="../media/image20.gif"/><Relationship Id="rId21" Type="http://schemas.openxmlformats.org/officeDocument/2006/relationships/image" Target="../media/image20.gif"/><Relationship Id="rId22" Type="http://schemas.openxmlformats.org/officeDocument/2006/relationships/image" Target="../media/image20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285840" y="5274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акое гигиена?                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нают кошки и гиены,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рый мишка, мишка белый,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ж, собака и пчел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всегда не грех помыться,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мыть лапы и копытц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у а после можно смел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ниматься за дела!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0" name="Рисунок 2" descr="cat13.gif"/>
          <p:cNvPicPr/>
          <p:nvPr/>
        </p:nvPicPr>
        <p:blipFill>
          <a:blip r:embed="rId1"/>
          <a:stretch/>
        </p:blipFill>
        <p:spPr>
          <a:xfrm>
            <a:off x="714240" y="3786120"/>
            <a:ext cx="171468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Segoe Print"/>
              </a:rPr>
              <a:t>Быстрого и ловкого болезнь не догонит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Segoe Print"/>
              </a:rPr>
              <a:t>Здоровье не купишь – его разум дарит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Segoe Print"/>
              </a:rPr>
              <a:t>Здоровым будешь – все добудешь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20840" y="4900680"/>
            <a:ext cx="8474040" cy="14446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Segoe Print"/>
              </a:rPr>
              <a:t>Товарищи!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Segoe Print"/>
              </a:rPr>
              <a:t>В школе, в театре, в саду,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Segoe Print"/>
              </a:rPr>
              <a:t>В метро в метро и на уличной шири-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Segoe Print"/>
              </a:rPr>
              <a:t>Везде вы должны соблюдать чистоту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Segoe Print"/>
              </a:rPr>
              <a:t>Как в собственной вашей квартир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Segoe Print"/>
              </a:rPr>
              <a:t>Ведь улиц асфальтовых темная гладь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Segoe Print"/>
              </a:rPr>
              <a:t>И парков зеленые рощи-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Segoe Print"/>
              </a:rPr>
              <a:t>Все это – наш город, точнее сказа</a:t>
            </a:r>
            <a:r>
              <a:rPr b="0" lang="ru-RU" sz="2200" spc="-1" strike="noStrike">
                <a:solidFill>
                  <a:srgbClr val="0070c0"/>
                </a:solidFill>
                <a:latin typeface="Franklin Gothic Book"/>
              </a:rPr>
              <a:t>ть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Segoe Print"/>
              </a:rPr>
              <a:t>Огромная наша жилплощад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Рисунок 4" descr=""/>
          <p:cNvPicPr/>
          <p:nvPr/>
        </p:nvPicPr>
        <p:blipFill>
          <a:blip r:embed="rId2"/>
          <a:stretch/>
        </p:blipFill>
        <p:spPr>
          <a:xfrm>
            <a:off x="428760" y="642960"/>
            <a:ext cx="2928960" cy="41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-274680" y="450720"/>
            <a:ext cx="9272520" cy="3780000"/>
          </a:xfrm>
          <a:prstGeom prst="rect">
            <a:avLst/>
          </a:prstGeom>
          <a:ln w="0">
            <a:noFill/>
          </a:ln>
        </p:spPr>
      </p:pic>
      <p:sp>
        <p:nvSpPr>
          <p:cNvPr id="408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DBA5-B108-40EB-A1D3-BC7AEBB1E34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5DA-685D-4E8D-91F8-937C7C0C53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0" name="Рисунок 4" descr="butterfly52.gif"/>
          <p:cNvPicPr/>
          <p:nvPr/>
        </p:nvPicPr>
        <p:blipFill>
          <a:blip r:embed="rId2"/>
          <a:stretch/>
        </p:blipFill>
        <p:spPr>
          <a:xfrm>
            <a:off x="6143760" y="4214880"/>
            <a:ext cx="2357280" cy="19288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5" descr="butterfly39.gif"/>
          <p:cNvPicPr/>
          <p:nvPr/>
        </p:nvPicPr>
        <p:blipFill>
          <a:blip r:embed="rId3"/>
          <a:stretch/>
        </p:blipFill>
        <p:spPr>
          <a:xfrm>
            <a:off x="1714680" y="928800"/>
            <a:ext cx="1357200" cy="9284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6" descr="mouse14.gif"/>
          <p:cNvPicPr/>
          <p:nvPr/>
        </p:nvPicPr>
        <p:blipFill>
          <a:blip r:embed="rId4"/>
          <a:stretch/>
        </p:blipFill>
        <p:spPr>
          <a:xfrm>
            <a:off x="3929040" y="4286160"/>
            <a:ext cx="1571760" cy="150012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7" descr="0009b.gif"/>
          <p:cNvPicPr/>
          <p:nvPr/>
        </p:nvPicPr>
        <p:blipFill>
          <a:blip r:embed="rId5"/>
          <a:stretch/>
        </p:blipFill>
        <p:spPr>
          <a:xfrm>
            <a:off x="2000160" y="4857840"/>
            <a:ext cx="1738440" cy="14191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8" descr="t021.gif"/>
          <p:cNvPicPr/>
          <p:nvPr/>
        </p:nvPicPr>
        <p:blipFill>
          <a:blip r:embed="rId6"/>
          <a:stretch/>
        </p:blipFill>
        <p:spPr>
          <a:xfrm>
            <a:off x="428760" y="4786200"/>
            <a:ext cx="1833480" cy="159552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9" descr="sw58.gif"/>
          <p:cNvPicPr/>
          <p:nvPr/>
        </p:nvPicPr>
        <p:blipFill>
          <a:blip r:embed="rId7"/>
          <a:stretch/>
        </p:blipFill>
        <p:spPr>
          <a:xfrm>
            <a:off x="6572160" y="785880"/>
            <a:ext cx="1357560" cy="114300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1" descr="тигр на хвосте.gif"/>
          <p:cNvPicPr/>
          <p:nvPr/>
        </p:nvPicPr>
        <p:blipFill>
          <a:blip r:embed="rId8"/>
          <a:stretch/>
        </p:blipFill>
        <p:spPr>
          <a:xfrm>
            <a:off x="642960" y="3000240"/>
            <a:ext cx="785880" cy="182880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2" descr="flowers6.gif"/>
          <p:cNvPicPr/>
          <p:nvPr/>
        </p:nvPicPr>
        <p:blipFill>
          <a:blip r:embed="rId9"/>
          <a:stretch/>
        </p:blipFill>
        <p:spPr>
          <a:xfrm>
            <a:off x="7500960" y="371484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3" descr="butterfly5.gif"/>
          <p:cNvPicPr/>
          <p:nvPr/>
        </p:nvPicPr>
        <p:blipFill>
          <a:blip r:embed="rId10"/>
          <a:stretch/>
        </p:blipFill>
        <p:spPr>
          <a:xfrm>
            <a:off x="7786800" y="3000240"/>
            <a:ext cx="857160" cy="78588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4" descr="star7.gif"/>
          <p:cNvPicPr/>
          <p:nvPr/>
        </p:nvPicPr>
        <p:blipFill>
          <a:blip r:embed="rId11"/>
          <a:stretch/>
        </p:blipFill>
        <p:spPr>
          <a:xfrm>
            <a:off x="192888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5" descr="star7.gif"/>
          <p:cNvPicPr/>
          <p:nvPr/>
        </p:nvPicPr>
        <p:blipFill>
          <a:blip r:embed="rId12"/>
          <a:stretch/>
        </p:blipFill>
        <p:spPr>
          <a:xfrm>
            <a:off x="5857920" y="35719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6" descr="star7.gif"/>
          <p:cNvPicPr/>
          <p:nvPr/>
        </p:nvPicPr>
        <p:blipFill>
          <a:blip r:embed="rId13"/>
          <a:stretch/>
        </p:blipFill>
        <p:spPr>
          <a:xfrm>
            <a:off x="3857760" y="17146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17" descr="star7.gif"/>
          <p:cNvPicPr/>
          <p:nvPr/>
        </p:nvPicPr>
        <p:blipFill>
          <a:blip r:embed="rId14"/>
          <a:stretch/>
        </p:blipFill>
        <p:spPr>
          <a:xfrm>
            <a:off x="4143240" y="6000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18" descr="star7.gif"/>
          <p:cNvPicPr/>
          <p:nvPr/>
        </p:nvPicPr>
        <p:blipFill>
          <a:blip r:embed="rId15"/>
          <a:stretch/>
        </p:blipFill>
        <p:spPr>
          <a:xfrm>
            <a:off x="2143080" y="4786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19" descr="star7.gif"/>
          <p:cNvPicPr/>
          <p:nvPr/>
        </p:nvPicPr>
        <p:blipFill>
          <a:blip r:embed="rId16"/>
          <a:stretch/>
        </p:blipFill>
        <p:spPr>
          <a:xfrm>
            <a:off x="5643720" y="57150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20" descr="star13.gif"/>
          <p:cNvPicPr/>
          <p:nvPr/>
        </p:nvPicPr>
        <p:blipFill>
          <a:blip r:embed="rId17"/>
          <a:stretch/>
        </p:blipFill>
        <p:spPr>
          <a:xfrm>
            <a:off x="4286160" y="3276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21" descr="star13.gif"/>
          <p:cNvPicPr/>
          <p:nvPr/>
        </p:nvPicPr>
        <p:blipFill>
          <a:blip r:embed="rId18"/>
          <a:stretch/>
        </p:blipFill>
        <p:spPr>
          <a:xfrm>
            <a:off x="428760" y="435780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22" descr="star13.gif"/>
          <p:cNvPicPr/>
          <p:nvPr/>
        </p:nvPicPr>
        <p:blipFill>
          <a:blip r:embed="rId19"/>
          <a:stretch/>
        </p:blipFill>
        <p:spPr>
          <a:xfrm>
            <a:off x="7715160" y="5500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23" descr="star13.gif"/>
          <p:cNvPicPr/>
          <p:nvPr/>
        </p:nvPicPr>
        <p:blipFill>
          <a:blip r:embed="rId20"/>
          <a:stretch/>
        </p:blipFill>
        <p:spPr>
          <a:xfrm>
            <a:off x="4071960" y="500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24" descr="star13.gif"/>
          <p:cNvPicPr/>
          <p:nvPr/>
        </p:nvPicPr>
        <p:blipFill>
          <a:blip r:embed="rId21"/>
          <a:stretch/>
        </p:blipFill>
        <p:spPr>
          <a:xfrm>
            <a:off x="1071720" y="192888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25" descr="star13.gif"/>
          <p:cNvPicPr/>
          <p:nvPr/>
        </p:nvPicPr>
        <p:blipFill>
          <a:blip r:embed="rId22"/>
          <a:stretch/>
        </p:blipFill>
        <p:spPr>
          <a:xfrm>
            <a:off x="7643880" y="2071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26" descr="star15.gif"/>
          <p:cNvPicPr/>
          <p:nvPr/>
        </p:nvPicPr>
        <p:blipFill>
          <a:blip r:embed="rId23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27" descr="star15.gif"/>
          <p:cNvPicPr/>
          <p:nvPr/>
        </p:nvPicPr>
        <p:blipFill>
          <a:blip r:embed="rId24"/>
          <a:stretch/>
        </p:blipFill>
        <p:spPr>
          <a:xfrm>
            <a:off x="928800" y="6429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28" descr="star15.gif"/>
          <p:cNvPicPr/>
          <p:nvPr/>
        </p:nvPicPr>
        <p:blipFill>
          <a:blip r:embed="rId25"/>
          <a:stretch/>
        </p:blipFill>
        <p:spPr>
          <a:xfrm>
            <a:off x="7929720" y="7142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29" descr="star15.gif"/>
          <p:cNvPicPr/>
          <p:nvPr/>
        </p:nvPicPr>
        <p:blipFill>
          <a:blip r:embed="rId26"/>
          <a:stretch/>
        </p:blipFill>
        <p:spPr>
          <a:xfrm>
            <a:off x="5429160" y="18572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30" descr="star15.gif"/>
          <p:cNvPicPr/>
          <p:nvPr/>
        </p:nvPicPr>
        <p:blipFill>
          <a:blip r:embed="rId27"/>
          <a:stretch/>
        </p:blipFill>
        <p:spPr>
          <a:xfrm>
            <a:off x="3143160" y="371484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3:11:01Z</dcterms:created>
  <dc:creator>WIN7XP</dc:creator>
  <dc:description/>
  <dc:language>en-US</dc:language>
  <cp:lastModifiedBy>dns</cp:lastModifiedBy>
  <dcterms:modified xsi:type="dcterms:W3CDTF">2019-12-22T14:08:09Z</dcterms:modified>
  <cp:revision>31</cp:revision>
  <dc:subject/>
  <dc:title>Слайд 1</dc:title>
</cp:coreProperties>
</file>