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058-F190-4F9A-A4CA-BFE283E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3A6-0E45-42AB-A495-D6F073C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CD6-3BD4-42E0-9125-9FC6508B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189-AFED-4F63-B89B-77046CC3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6BFA-E1DC-4968-A847-D7289E6A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7185-67C2-43BA-AB4A-C346E3D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7DF4-690C-4659-AF49-47ADAF9B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329-8362-412C-9983-589C591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8462-F604-430E-8B3C-6384D06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A4A-0BB9-43E8-AA6A-2C188AD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EE9-04F3-42CD-968A-5D8BA40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6D6-578E-4E81-AA15-E1446542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8DF1-7B77-4742-A742-F7481A5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1644-B6AB-4B89-8A14-76F0994B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08A-CB19-4AD7-AFCD-5E3BFB3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6753-1715-49F7-AEFC-E02562C0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FBDE-1047-469B-9C74-7EED33A9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8E2-48DA-44B6-88C1-AFBABEB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4FE-F9E6-45A8-8FBE-EA79D1F2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4B4-F8D7-47AD-8808-BA763AC9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630-E6AB-4D74-B43A-80B938E1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490-1862-4201-A312-71F8200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5CA-CE60-4BAC-9800-22586EC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A1F-0654-4D44-AEA7-C32A45D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FAC-6534-40E7-84C4-4218C5F313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5BB-FF52-4BE5-9974-3AF1B06980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 слайд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 слайд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55640" y="3357720"/>
            <a:ext cx="770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e2619"/>
                </a:solidFill>
                <a:latin typeface="Colonna MT"/>
              </a:rPr>
              <a:t>И Г Р У Ш К 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слайд 2"/>
          <p:cNvPicPr/>
          <p:nvPr/>
        </p:nvPicPr>
        <p:blipFill>
          <a:blip r:embed="rId1"/>
          <a:stretch/>
        </p:blipFill>
        <p:spPr>
          <a:xfrm>
            <a:off x="6443640" y="2133720"/>
            <a:ext cx="2293920" cy="4546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 flipV="1" rot="10800000">
            <a:off x="320400" y="4168440"/>
            <a:ext cx="597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Здравствуйте ребята! Меня зовут кукла Кат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У меня сегодня День рождения! Поможете м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подготовиться к приему госте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7" descr="prazdnik26"/>
          <p:cNvPicPr/>
          <p:nvPr/>
        </p:nvPicPr>
        <p:blipFill>
          <a:blip r:embed="rId2"/>
          <a:stretch/>
        </p:blipFill>
        <p:spPr>
          <a:xfrm>
            <a:off x="1258920" y="260280"/>
            <a:ext cx="5273640" cy="2973600"/>
          </a:xfrm>
          <a:prstGeom prst="rect">
            <a:avLst/>
          </a:prstGeom>
          <a:ln w="0">
            <a:noFill/>
          </a:ln>
        </p:spPr>
      </p:pic>
      <p:pic>
        <p:nvPicPr>
          <p:cNvPr id="88" name="Pesnya_pro_den_rozhdeniya._-_Den_rozhdeniya_-luchshij_den_v_godu_(iPlayer.fm).mp3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9442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слайд 3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40600" y="5937120"/>
            <a:ext cx="79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моги мне одеться к праздни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6300720" y="1246320"/>
            <a:ext cx="2594160" cy="5141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594240" cy="5452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"/>
          <p:cNvPicPr/>
          <p:nvPr/>
        </p:nvPicPr>
        <p:blipFill>
          <a:blip r:embed="rId4"/>
          <a:stretch/>
        </p:blipFill>
        <p:spPr>
          <a:xfrm>
            <a:off x="-541440" y="-531720"/>
            <a:ext cx="461016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0.01412 C 0.02291 0.01829 -0.00209 0.01135 0.03298 0.01667 C 0.03854 0.0176 0.0441 0.02084 0.05 0.02176 C 0.05607 0.02431 0.06041 0.0257 0.06701 0.02662 C 0.07517 0.03102 0.08264 0.03496 0.09149 0.03681 C 0.11059 0.04537 0.12656 0.06158 0.14531 0.07084 C 0.14913 0.07593 0.15555 0.07871 0.16041 0.08218 C 0.16441 0.08982 0.171 0.0963 0.17639 0.10232 C 0.17986 0.10602 0.18246 0.11112 0.18594 0.11482 C 0.19201 0.12153 0.19965 0.1257 0.20573 0.13241 C 0.2092 0.13635 0.21475 0.1426 0.21892 0.14491 C 0.22135 0.1463 0.22413 0.147 0.22639 0.14885 C 0.22743 0.14954 0.2283 0.15047 0.22934 0.15116 C 0.23767 0.15579 0.24722 0.15741 0.25573 0.16135 C 0.25607 0.16135 0.27465 0.16135 0.28107 0.1588 C 0.28732 0.15649 0.29149 0.15371 0.29809 0.15255 C 0.30503 0.15 0.31111 0.14561 0.31788 0.14237 C 0.32725 0.13056 0.3401 0.12801 0.35191 0.12223 C 0.36024 0.1169 0.3691 0.10903 0.37986 0.10602 C 0.38611 0.10348 0.3908 0.10116 0.39618 0.09977 C 0.41111 0.10139 0.41719 0.10278 0.43489 0.10348 C 0.43837 0.10741 0.44826 0.10926 0.45469 0.11112 C 0.45798 0.11505 0.46944 0.11713 0.47639 0.11852 C 0.48403 0.12362 0.49288 0.12662 0.49809 0.12987 C 0.50573 0.13172 0.50937 0.13496 0.51423 0.13612 C 0.51927 0.13866 0.52482 0.14098 0.53021 0.14237 C 0.53142 0.14329 0.53264 0.14422 0.53403 0.14491 C 0.53559 0.14561 0.53715 0.14561 0.53871 0.1463 C 0.54687 0.15047 0.55243 0.1588 0.56128 0.1625 C 0.56788 0.16829 0.56493 0.16644 0.56979 0.16899 C 0.57708 0.16852 0.5842 0.16852 0.59149 0.1676 C 0.60104 0.16644 0.61007 0.16227 0.61979 0.16135 C 0.62066 0.16088 0.62257 0.15996 0.62257 0.16019 E">
                                      <p:cBhvr>
                                        <p:cTn id="2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0.00047 C 0.00868 0.00208 0.01111 0.00324 0.01423 0.00462 C 0.02621 0.003 0.03663 0.00162 0.04913 0.00092 C 0.05972 -0.00093 0.06962 -0.00209 0.08038 -0.00278 C 0.10399 -0.00163 0.12743 -0.00047 0.15104 0.00092 C 0.15972 0.00138 0.16805 0.00462 0.17656 0.00601 C 0.20764 0.01064 0.23889 0.0155 0.26996 0.01967 C 0.2783 0.02222 0.28611 0.02476 0.29444 0.02615 C 0.31475 0.0331 0.33403 0.04282 0.35486 0.04745 C 0.37969 0.053 0.40521 0.05601 0.43038 0.05879 C 0.44844 0.06064 0.46632 0.06898 0.4842 0.07129 C 0.50225 0.07384 0.5184 0.07708 0.53594 0.08263 C 0.54201 0.08217 0.54809 0.0824 0.55399 0.08148 C 0.5592 0.08078 0.56475 0.07754 0.56996 0.07638 C 0.57864 0.0706 0.59236 0.07013 0.60208 0.06875 C 0.60486 0.06759 0.60764 0.0662 0.61059 0.06504 C 0.61614 0.06689 0.61823 0.06967 0.62274 0.07384 C 0.62465 0.08032 0.625 0.08009 0.62274 0.09027 C 0.62239 0.09166 0.62187 0.08634 0.62187 0.08657 E">
                                      <p:cBhvr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516680" y="279360"/>
            <a:ext cx="612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я накрыла красивый сто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его на праздничном столе не хват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2843280" y="4654440"/>
            <a:ext cx="2376360" cy="1535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7308720" y="3933720"/>
            <a:ext cx="1511280" cy="1190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3"/>
          <p:cNvSpPr/>
          <p:nvPr/>
        </p:nvSpPr>
        <p:spPr>
          <a:xfrm>
            <a:off x="14760" y="279360"/>
            <a:ext cx="87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атя накрыла к празднику стол. Посмотри, все ли она правильно сдел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оги убрать ненужные ве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7"/>
          <p:cNvSpPr/>
          <p:nvPr/>
        </p:nvSpPr>
        <p:spPr>
          <a:xfrm>
            <a:off x="32040" y="5805360"/>
            <a:ext cx="78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ка Тэдди решил угостить Катю вкусной мал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 ему собрать всю малину в корзи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0" descr="куст"/>
          <p:cNvPicPr/>
          <p:nvPr/>
        </p:nvPicPr>
        <p:blipFill>
          <a:blip r:embed="rId1"/>
          <a:stretch/>
        </p:blipFill>
        <p:spPr>
          <a:xfrm>
            <a:off x="0" y="692280"/>
            <a:ext cx="590544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малина"/>
          <p:cNvPicPr/>
          <p:nvPr/>
        </p:nvPicPr>
        <p:blipFill>
          <a:blip r:embed="rId2"/>
          <a:stretch/>
        </p:blipFill>
        <p:spPr>
          <a:xfrm>
            <a:off x="1979640" y="1268280"/>
            <a:ext cx="1011240" cy="122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малина"/>
          <p:cNvPicPr/>
          <p:nvPr/>
        </p:nvPicPr>
        <p:blipFill>
          <a:blip r:embed="rId3"/>
          <a:stretch/>
        </p:blipFill>
        <p:spPr>
          <a:xfrm>
            <a:off x="3635280" y="907920"/>
            <a:ext cx="97956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малина"/>
          <p:cNvPicPr/>
          <p:nvPr/>
        </p:nvPicPr>
        <p:blipFill>
          <a:blip r:embed="rId4"/>
          <a:stretch/>
        </p:blipFill>
        <p:spPr>
          <a:xfrm>
            <a:off x="4427640" y="1916280"/>
            <a:ext cx="90000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малина"/>
          <p:cNvPicPr/>
          <p:nvPr/>
        </p:nvPicPr>
        <p:blipFill>
          <a:blip r:embed="rId5"/>
          <a:stretch/>
        </p:blipFill>
        <p:spPr>
          <a:xfrm>
            <a:off x="1258920" y="2781360"/>
            <a:ext cx="1074600" cy="132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малина"/>
          <p:cNvPicPr/>
          <p:nvPr/>
        </p:nvPicPr>
        <p:blipFill>
          <a:blip r:embed="rId6"/>
          <a:stretch/>
        </p:blipFill>
        <p:spPr>
          <a:xfrm>
            <a:off x="4211640" y="3284640"/>
            <a:ext cx="10508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_8390d_2e16d4a8_L"/>
          <p:cNvPicPr/>
          <p:nvPr/>
        </p:nvPicPr>
        <p:blipFill>
          <a:blip r:embed="rId7"/>
          <a:stretch/>
        </p:blipFill>
        <p:spPr>
          <a:xfrm>
            <a:off x="6012000" y="3500280"/>
            <a:ext cx="2590560" cy="2337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" descr=""/>
          <p:cNvPicPr/>
          <p:nvPr/>
        </p:nvPicPr>
        <p:blipFill>
          <a:blip r:embed="rId8"/>
          <a:stretch/>
        </p:blipFill>
        <p:spPr>
          <a:xfrm>
            <a:off x="5651640" y="115920"/>
            <a:ext cx="3270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33333E-006 C -0.00522 -0.00255 -0.01077 -0.00301 -0.01615 -0.0051 C -0.02258 -0.01088 -0.01963 -0.00926 -0.02449 -0.01135 C -0.03803 -0.02315 -0.04549 -0.04491 -0.0547 -0.06181 C -0.05695 -0.07223 -0.06251 -0.08125 -0.06424 -0.0919 C -0.06702 -0.10857 -0.07171 -0.12385 -0.07362 -0.14098 C -0.07449 -0.15857 -0.07536 -0.17616 -0.07744 -0.19375 C -0.07709 -0.20834 -0.07692 -0.22315 -0.0764 -0.23774 C -0.07588 -0.25186 -0.07327 -0.26482 -0.0698 -0.27801 C -0.06824 -0.28403 -0.06668 -0.29167 -0.06234 -0.29561 C -0.05418 -0.30278 -0.0382 -0.30787 -0.02831 -0.30949 C -0.02032 -0.31482 -0.0106 -0.31598 -0.00192 -0.31829 C 0.01232 -0.32199 0.02638 -0.325 0.04062 -0.32848 C 0.06006 -0.32755 0.07725 -0.32454 0.09617 -0.32199 C 0.10329 -0.31991 0.11076 -0.31736 0.11787 -0.31459 C 0.12516 -0.31181 0.13228 -0.30718 0.13957 -0.30579 C 0.14513 -0.30301 0.15103 -0.30093 0.15659 -0.29815 C 0.15937 -0.29676 0.1651 -0.29561 0.1651 -0.29561 C 0.16909 -0.2919 0.17326 -0.28936 0.17725 -0.28565 C 0.18124 -0.28195 0.18332 -0.27361 0.1868 -0.26922 C 0.19027 -0.25996 0.19357 -0.25024 0.19808 -0.24167 C 0.19982 -0.2338 0.20381 -0.22824 0.20555 -0.22153 C 0.21006 -0.2044 0.21666 -0.18912 0.21978 -0.17107 C 0.21944 -0.16528 0.21961 -0.15926 0.21891 -0.15348 C 0.2177 -0.14352 0.20971 -0.13172 0.20277 -0.12963 C 0.20069 -0.12755 0.19808 -0.12662 0.19617 -0.12454 C 0.19218 -0.12014 0.18923 -0.11343 0.18489 -0.10949 C 0.18176 -0.10672 0.17846 -0.10394 0.17638 -0.09954 C 0.17343 -0.09352 0.16978 -0.08797 0.16701 -0.08195 C 0.1651 -0.07778 0.16423 -0.07338 0.16214 -0.06922 C 0.16093 -0.06227 0.15885 -0.05602 0.15555 -0.05047 C 0.15416 -0.04074 0.15155 -0.03149 0.14999 -0.02153 C 0.14947 -0.01783 0.14808 -0.01019 0.14808 -0.01019 C 0.14773 0.01435 0.14131 0.06875 0.15381 0.09305 C 0.1552 0.09884 0.15589 0.10324 0.1585 0.1081 C 0.15989 0.11412 0.16648 0.12592 0.16978 0.13078 C 0.17152 0.13333 0.17412 0.13518 0.17551 0.13819 C 0.17725 0.14213 0.17829 0.14583 0.1802 0.14953 C 0.18124 0.15416 0.18228 0.15902 0.18385 0.16342 E">
                                      <p:cBhvr>
                                        <p:cTn id="5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6.2963E-006 C 0.00608 -0.0118 0.0132 -0.01759 0.02275 -0.02268 C 0.02935 -0.02615 0.03213 -0.03032 0.03959 -0.03263 C 0.04393 -0.03541 0.0481 -0.03587 0.05279 -0.03772 C 0.05591 -0.03726 0.05921 -0.03726 0.06233 -0.03634 C 0.06598 -0.03518 0.06893 -0.02847 0.07362 -0.02638 C 0.07831 -0.02222 0.08299 -0.01805 0.08785 -0.01388 C 0.09063 -0.01134 0.09289 -0.00578 0.09532 -0.00254 C 0.0974 0.00672 0.10313 0.01343 0.1066 0.02153 C 0.10782 0.02431 0.10851 0.02755 0.10956 0.03033 C 0.11095 0.03866 0.11858 0.05371 0.12275 0.06158 C 0.12431 0.06829 0.12553 0.07524 0.12744 0.08172 C 0.12831 0.09399 0.12917 0.10695 0.13299 0.11829 C 0.13525 0.12501 0.13282 0.11899 0.1349 0.12709 C 0.13577 0.13056 0.13785 0.13704 0.13785 0.13704 C 0.13942 0.14885 0.14202 0.16482 0.14723 0.17478 C 0.14845 0.1801 0.15053 0.18473 0.15192 0.19005 C 0.1547 0.2014 0.15678 0.21667 0.1632 0.22524 C 0.16546 0.23612 0.17067 0.24376 0.1764 0.25163 C 0.18126 0.25834 0.1849 0.26621 0.1915 0.27038 C 0.19515 0.27524 0.19879 0.27964 0.20383 0.28172 C 0.21112 0.28936 0.22015 0.29376 0.22935 0.29561 C 0.24237 0.30209 0.2573 0.29862 0.27084 0.297 C 0.27987 0.29237 0.28872 0.28704 0.2981 0.28311 C 0.30209 0.27964 0.30608 0.27941 0.31042 0.27686 C 0.31702 0.27316 0.32223 0.26667 0.32935 0.26413 C 0.33126 0.26251 0.33299 0.26089 0.3349 0.25927 C 0.33595 0.25834 0.33785 0.25672 0.33785 0.25672 C 0.34324 0.247 0.34931 0.23172 0.35851 0.22778 C 0.36407 0.22038 0.3691 0.21274 0.37449 0.2051 C 0.37761 0.19399 0.37275 0.20903 0.37831 0.19885 C 0.38178 0.1926 0.38351 0.1838 0.38959 0.18126 C 0.39636 0.16644 0.41164 0.14816 0.42362 0.14098 C 0.43126 0.13635 0.44185 0.13427 0.45001 0.13218 C 0.45782 0.12825 0.46633 0.12802 0.47449 0.12593 C 0.47883 0.12478 0.48247 0.12223 0.48681 0.12084 C 0.49845 0.1213 0.51008 0.1213 0.52171 0.122 C 0.52917 0.12246 0.53716 0.12894 0.54445 0.13079 C 0.54792 0.13311 0.55626 0.13797 0.55851 0.14098 C 0.56129 0.14468 0.56338 0.14862 0.56615 0.15232 C 0.56737 0.15788 0.57171 0.16135 0.57449 0.16598 C 0.57518 0.16714 0.57553 0.16899 0.5764 0.16991 C 0.57692 0.17038 0.57761 0.16991 0.57831 0.16991 E">
                                      <p:cBhvr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6.2963E-006 C 0.00069 -0.00255 0.00087 -0.00533 0.00191 -0.00765 C 0.00295 -0.01043 0.00573 -0.01529 0.00573 -0.01529 C 0.00885 -0.02848 0.02326 -0.03797 0.03298 -0.04029 C 0.04462 -0.04816 0.05972 -0.05255 0.07274 -0.05418 C 0.08107 -0.05672 0.08871 -0.05927 0.09722 -0.06043 C 0.10746 -0.06413 0.11493 -0.06459 0.12639 -0.06552 C 0.13941 -0.06459 0.15208 -0.06297 0.1651 -0.06181 C 0.17135 -0.0595 0.17778 -0.05811 0.18403 -0.05533 C 0.19253 -0.05163 0.20087 -0.04677 0.20955 -0.04422 C 0.21441 -0.04075 0.21909 -0.03797 0.22448 -0.03658 C 0.22621 -0.03496 0.22864 -0.03473 0.23021 -0.03288 C 0.23107 -0.03195 0.23125 -0.0301 0.23212 -0.02894 C 0.23628 -0.02316 0.24219 -0.01945 0.24722 -0.01529 C 0.24982 -0.01297 0.25121 -0.00857 0.25382 -0.00626 C 0.25469 -0.00556 0.25573 -0.00464 0.25659 -0.00394 C 0.26094 0.00462 0.2618 0.003 0.26614 0.00995 C 0.26857 0.01388 0.27031 0.01874 0.27274 0.02245 C 0.27482 0.02569 0.2776 0.028 0.27934 0.03147 C 0.28142 0.03587 0.28159 0.03842 0.28489 0.04143 C 0.29357 0.05832 0.30521 0.07106 0.31614 0.08541 C 0.32014 0.0905 0.32187 0.09768 0.32552 0.103 C 0.32795 0.10647 0.33212 0.11434 0.33212 0.11434 C 0.3335 0.12059 0.33576 0.12476 0.33958 0.12823 C 0.34305 0.13495 0.3467 0.1412 0.35 0.14837 C 0.35121 0.15092 0.35382 0.15578 0.35382 0.15578 C 0.35538 0.16295 0.35746 0.1699 0.3585 0.17731 C 0.35781 0.18957 0.35903 0.19282 0.35469 0.20115 C 0.35225 0.21504 0.34531 0.22893 0.33871 0.24004 C 0.33732 0.24235 0.3368 0.24606 0.33489 0.24745 C 0.32986 0.25231 0.3243 0.2574 0.32083 0.26411 C 0.3184 0.26874 0.31441 0.27407 0.31232 0.27916 C 0.31076 0.28309 0.31041 0.2868 0.3085 0.2905 C 0.30712 0.29606 0.30434 0.30601 0.30191 0.31064 C 0.30087 0.31527 0.30017 0.3199 0.29913 0.32453 C 0.29896 0.34698 0.29392 0.43471 0.29913 0.47291 C 0.30052 0.51411 0.3 0.48981 0.3 0.54582 E">
                                      <p:cBhvr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92593E-006 C -0.00226 -0.0162 -0.00052 -0.00948 -0.00382 -0.02013 C -0.00486 -0.02754 -0.00712 -0.03402 -0.00851 -0.04143 C -0.00781 -0.06157 -0.0066 -0.07545 0.00191 -0.09189 C 0.00417 -0.10138 0.01042 -0.10694 0.01597 -0.11319 C 0.0224 -0.12059 0.02917 -0.12453 0.03681 -0.12962 C 0.04757 -0.1368 0.05469 -0.14258 0.06702 -0.14467 C 0.07691 -0.14883 0.08715 -0.15115 0.09722 -0.15485 C 0.1217 -0.1537 0.14618 -0.15161 0.17066 -0.14976 C 0.17952 -0.14721 0.18594 -0.14374 0.1934 -0.13703 C 0.19618 -0.13448 0.19931 -0.12777 0.20191 -0.12453 C 0.20452 -0.11365 0.20035 -0.12823 0.20556 -0.11828 C 0.20955 -0.11064 0.2099 -0.10208 0.21511 -0.09559 C 0.21858 -0.08055 0.22014 -0.06249 0.2132 -0.04907 C 0.21215 -0.04374 0.20747 -0.03402 0.20747 -0.03402 C 0.20573 -0.02684 0.20052 -0.02013 0.19722 -0.01388 C 0.19497 -0.00971 0.19375 -0.00416 0.19149 5.92593E-006 C 0.18837 0.00556 0.18386 0.00996 0.18108 0.01621 C 0.17986 0.01899 0.17969 0.02269 0.1783 0.02524 C 0.17309 0.03496 0.16458 0.04237 0.15747 0.04908 C 0.15347 0.05302 0.15052 0.05834 0.14618 0.06158 C 0.14219 0.06459 0.13767 0.06667 0.13386 0.07038 C 0.13142 0.07269 0.12882 0.07431 0.12639 0.07663 C 0.11997 0.08311 0.11337 0.09376 0.10556 0.09677 C 0.10122 0.1007 0.09861 0.10603 0.0934 0.10811 C 0.08958 0.11158 0.08507 0.11598 0.08212 0.12084 C 0.07917 0.1257 0.08108 0.12478 0.07639 0.12964 C 0.07083 0.13542 0.06649 0.13728 0.0632 0.14584 C 0.06146 0.15603 0.05816 0.16691 0.05469 0.17617 C 0.05261 0.197 0.05052 0.22038 0.0566 0.24029 C 0.05816 0.25371 0.06129 0.27038 0.06702 0.28172 C 0.07066 0.29746 0.07813 0.30695 0.08577 0.31945 C 0.09896 0.34075 0.12222 0.36899 0.14236 0.37732 C 0.14809 0.38265 0.15382 0.3882 0.16042 0.39121 C 0.16858 0.39955 0.17847 0.40163 0.18767 0.40742 C 0.19149 0.40996 0.2 0.41251 0.2 0.41251 C 0.20695 0.41899 0.19774 0.41112 0.2132 0.4176 C 0.22327 0.42177 0.23386 0.42547 0.24427 0.42755 C 0.25052 0.43056 0.25747 0.43056 0.26406 0.43265 C 0.29583 0.43149 0.32674 0.43033 0.35851 0.43265 C 0.37118 0.43103 0.38281 0.42524 0.39531 0.42269 C 0.40799 0.41575 0.42118 0.41158 0.4349 0.40996 C 0.44705 0.40186 0.46979 0.40348 0.48212 0.40255 C 0.5 0.4014 0.51788 0.39955 0.53577 0.39862 C 0.53906 0.39723 0.54202 0.39515 0.54531 0.39376 C 0.54705 0.39144 0.54931 0.39005 0.55087 0.38751 C 0.55642 0.37825 0.54653 0.38843 0.55469 0.38103 C 0.5559 0.37848 0.55729 0.37617 0.55851 0.37362 C 0.5592 0.37223 0.56042 0.36968 0.56042 0.36968 C 0.56146 0.36552 0.56198 0.36135 0.5632 0.35718 C 0.56302 0.35487 0.56129 0.33867 0.56129 0.33195 E">
                                      <p:cBhvr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7037E-007 C -0.00086 -0.00579 -0.00138 -0.00903 -0.00381 -0.01389 C -0.00503 -0.0213 -0.00642 -0.02847 -0.0085 -0.03542 C -0.01058 -0.05023 -0.01701 -0.06736 -0.02361 -0.0794 C -0.02465 -0.08658 -0.0269 -0.09306 -0.02933 -0.09954 C -0.03038 -0.10718 -0.03229 -0.11528 -0.03489 -0.12222 C -0.03611 -0.12986 -0.03802 -0.13797 -0.04062 -0.14468 C -0.0434 -0.16482 -0.0394 -0.14005 -0.0434 -0.15486 C -0.04635 -0.16551 -0.0467 -0.17778 -0.04808 -0.18889 C -0.04843 -0.19491 -0.04895 -0.20787 -0.04999 -0.21528 C -0.05052 -0.21898 -0.0519 -0.22662 -0.0519 -0.22662 C -0.05121 -0.23797 -0.05069 -0.25023 -0.04149 -0.25417 C -0.03767 -0.25764 -0.0335 -0.25949 -0.02933 -0.26181 C -0.0151 -0.26968 -0.00104 -0.275 0.01407 -0.2794 C 0.04063 -0.27824 0.04046 -0.27871 0.05851 -0.27315 C 0.06511 -0.26875 0.07205 -0.26412 0.07917 -0.26181 C 0.08924 -0.2551 0.09619 -0.24885 0.10747 -0.24537 C 0.10955 -0.24398 0.11216 -0.24375 0.11407 -0.24167 C 0.11494 -0.24074 0.11511 -0.23889 0.11598 -0.23773 C 0.11841 -0.23472 0.12188 -0.23426 0.12448 -0.23148 C 0.12761 -0.22801 0.12883 -0.22454 0.13212 -0.22153 C 0.13612 -0.21412 0.1415 -0.20764 0.14723 -0.20255 C 0.15018 -0.1963 0.15556 -0.19028 0.15938 -0.18496 C 0.16198 -0.18125 0.16094 -0.18056 0.1632 -0.17616 C 0.16615 -0.17084 0.16893 -0.16551 0.17171 -0.15996 C 0.17275 -0.15486 0.17414 -0.15047 0.17639 -0.14607 C 0.17848 -0.13635 0.18073 -0.12685 0.18299 -0.11713 C 0.18438 -0.09977 0.18525 -0.07755 0.1915 -0.06181 C 0.19289 -0.04769 0.19358 -0.03125 0.19723 -0.0176 C 0.1981 -0.00972 0.19948 -0.00162 0.20087 0.00625 C 0.20139 0.00926 0.20278 0.01504 0.20278 0.01504 C 0.20435 0.03588 0.20469 0.03449 0.20278 0.06273 C 0.20174 0.07824 0.19549 0.09421 0.19237 0.10926 C 0.19133 0.11921 0.18959 0.12778 0.18681 0.13703 C 0.18508 0.1493 0.18264 0.16342 0.1783 0.17477 C 0.17744 0.18634 0.17553 0.19722 0.17448 0.20879 C 0.17483 0.21412 0.17501 0.21967 0.17553 0.225 C 0.17587 0.22916 0.17935 0.23657 0.18021 0.23889 C 0.18282 0.2456 0.18438 0.25486 0.18872 0.26018 E">
                                      <p:cBhvr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1:05:41Z</dcterms:created>
  <dc:creator>Андрей</dc:creator>
  <dc:description/>
  <dc:language>en-US</dc:language>
  <cp:lastModifiedBy>Галина</cp:lastModifiedBy>
  <cp:lastPrinted>2017-04-06T12:30:06Z</cp:lastPrinted>
  <dcterms:modified xsi:type="dcterms:W3CDTF">2019-12-22T14:41:08Z</dcterms:modified>
  <cp:revision>104</cp:revision>
  <dc:subject/>
  <dc:title>Слайд 1</dc:title>
</cp:coreProperties>
</file>