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D5D-7381-42FF-8065-AF9B9792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E90-B6B1-4BDE-927A-D846C7D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89D-F409-4E43-AB52-FB696EF4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F8D-3815-4CD4-98F4-A2E46B47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DC2-01C7-4AE7-8555-550E135D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BB4-CA40-4D4A-B356-35D645A3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D0C-4141-4AF1-A66B-02B1249C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8B3-B9BC-48D1-8CBF-06713DB5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E3E-F60F-4AE3-AEA9-0694942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A56-B1F0-4ECD-A6FF-708E7E4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B52-5662-49D5-9C42-4E99AB9D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03A-843E-48D2-AABE-5363CD9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0E2-ED68-4326-BB2D-944EB24E6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6760" y="85716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Мне стали сниться мачты, волны, паруса, чайки, неизвестные страны, огни маяков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56760" y="11430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Больной необходимо не столько лекарство, сколько питание           и покой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6760" y="71424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1349"/>
              </a:spcBef>
              <a:tabLst>
                <a:tab algn="l" pos="0"/>
                <a:tab algn="l" pos="35388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овременные гаджеты обучены контролировать многое: давление, дыхание, сон и даже количество солнца              на вашей кож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32523"/>
                </a:solidFill>
                <a:latin typeface="Calibri"/>
              </a:rPr>
              <a:t>Однородные члены предложен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- умение сформировано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- умение не сформировано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- возникают слож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2:57:27Z</dcterms:created>
  <dc:creator>Юлия</dc:creator>
  <dc:description>http://aida.ucoz.ru</dc:description>
  <dc:language>en-US</dc:language>
  <cp:lastModifiedBy>User</cp:lastModifiedBy>
  <dcterms:modified xsi:type="dcterms:W3CDTF">2019-01-27T09:34:14Z</dcterms:modified>
  <cp:revision>154</cp:revision>
  <dc:subject/>
  <dc:title>Седьмое февраля. Классная работа.</dc:title>
</cp:coreProperties>
</file>