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60A-A27A-4908-8A91-69513B65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FD4-2843-4CE8-87D8-BD092609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156-19BA-4716-B2AF-E600DECC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89C-0397-42D2-9FDC-57FF455A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7034-951E-4AA1-8362-A2FD9910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178A-2C4B-42E0-97B3-988AD19D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7CCB-0928-4196-B789-2EF965F2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F9F6-E3DE-4581-961A-CDBFEA06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40AB-EB60-4D29-A80A-11D6CB12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5EC9-4958-4262-9EC3-F82025B8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88D0-DAE1-42AB-A58C-50361CC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E35-8431-446B-9941-2C98476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D87E-FD86-4287-80C3-B2672A2B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235D-E82F-4088-83BC-C379882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1D58-CC74-4A2E-BE32-7C339510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717E-AE3F-4729-92D7-3AE1235F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01F3-8EF2-47D0-9BE4-213507F4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037-37BA-4D23-BEC3-6715569A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CF5-B452-4D70-BD55-4EF2E446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D99-784A-46B4-B7D4-FA36AEB4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059-379C-4B64-AF03-75808C3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254-D961-4A25-B657-0AA04BA0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2B1-4493-4508-B313-63D0E5DE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59D-BC1B-4C80-8DC1-6F5E1487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1D0C-5878-4998-918F-8C7835514F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7FA2-5A02-49F5-8540-16A440CD6C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фильмРолик_Крымск.a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14ac"/>
                </a:solidFill>
                <a:latin typeface="Times New Roman"/>
                <a:ea typeface="Times New Roman"/>
              </a:rPr>
              <a:t>Классный час на тему:</a:t>
            </a:r>
            <a:br>
              <a:rPr sz="3600"/>
            </a:br>
            <a:r>
              <a:rPr b="1" lang="ru-RU" sz="3600" spc="-1" strike="noStrike">
                <a:solidFill>
                  <a:srgbClr val="3f14ac"/>
                </a:solidFill>
                <a:latin typeface="Times New Roman"/>
                <a:ea typeface="Times New Roman"/>
              </a:rPr>
              <a:t>«Чтобы озарять светом других, нужно носить солнце в себе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212760" y="444600"/>
            <a:ext cx="8798040" cy="305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867280" y="3832200"/>
            <a:ext cx="3092400" cy="302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3348000" y="350028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2449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1444680" y="396720"/>
            <a:ext cx="7321320" cy="1833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:\фото концерт приют\акция_00024.jpg"/>
          <p:cNvPicPr/>
          <p:nvPr/>
        </p:nvPicPr>
        <p:blipFill>
          <a:blip r:embed="rId2"/>
          <a:stretch/>
        </p:blipFill>
        <p:spPr>
          <a:xfrm>
            <a:off x="2800440" y="3780000"/>
            <a:ext cx="4105080" cy="307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H:\Детдом\Разное 26.12.11. 048.jpg"/>
          <p:cNvPicPr/>
          <p:nvPr/>
        </p:nvPicPr>
        <p:blipFill>
          <a:blip r:embed="rId3"/>
          <a:stretch/>
        </p:blipFill>
        <p:spPr>
          <a:xfrm>
            <a:off x="5005440" y="1974960"/>
            <a:ext cx="3800520" cy="2851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H:\Детдом\Разное 26.12.11. 061.jpg"/>
          <p:cNvPicPr/>
          <p:nvPr/>
        </p:nvPicPr>
        <p:blipFill>
          <a:blip r:embed="rId4"/>
          <a:stretch/>
        </p:blipFill>
        <p:spPr>
          <a:xfrm>
            <a:off x="108000" y="1989000"/>
            <a:ext cx="3774960" cy="2830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324000" y="630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55640" y="6021360"/>
            <a:ext cx="691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тча Все оставляет свой след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c17a9"/>
                </a:solidFill>
                <a:latin typeface="Times New Roman"/>
                <a:ea typeface="Times New Roman"/>
              </a:rPr>
              <a:t>Качества характер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916280"/>
          <a:ext cx="8858160" cy="3031920"/>
        </p:xfrm>
        <a:graphic>
          <a:graphicData uri="http://schemas.openxmlformats.org/drawingml/2006/table">
            <a:tbl>
              <a:tblPr/>
              <a:tblGrid>
                <a:gridCol w="2808360"/>
                <a:gridCol w="2520720"/>
                <a:gridCol w="3529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бр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ьн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данн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сел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лыбчив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утки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мел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естн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нимательн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грессивн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ло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честн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внодушн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жив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дражительный</a:t>
                      </a:r>
                      <a:endParaRPr b="1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37"/>
          <p:cNvSpPr/>
          <p:nvPr/>
        </p:nvSpPr>
        <p:spPr>
          <a:xfrm>
            <a:off x="179280" y="6453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5:54:09Z</dcterms:created>
  <dc:creator>home</dc:creator>
  <dc:description/>
  <dc:language>en-US</dc:language>
  <cp:lastModifiedBy>home</cp:lastModifiedBy>
  <dcterms:modified xsi:type="dcterms:W3CDTF">2013-01-22T17:10:26Z</dcterms:modified>
  <cp:revision>35</cp:revision>
  <dc:subject/>
  <dc:title>Не печалься о том, что люди не знают тебя,  а печалься о том, что ты не знаешь людей.  Конфуций </dc:title>
</cp:coreProperties>
</file>