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6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8.jpeg" ContentType="image/jpeg"/>
  <Override PartName="/ppt/media/image10.jpeg" ContentType="image/jpeg"/>
  <Override PartName="/ppt/media/image5.png" ContentType="image/png"/>
  <Override PartName="/ppt/media/image19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gif" ContentType="image/gif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0.jpeg" ContentType="image/jpeg"/>
  <Override PartName="/ppt/media/image2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2E0E-9890-40B4-A0E3-861D250950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2C93-A696-4235-B39E-C1F936ED35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понятие мы изучаем уже не первый раз. Давайте вспомним определение понятия «Культура». На какие виды условно его разделяют историки? Далее суммируются ответы учащихся и выводится определени термина «культу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A3BA7-44E8-4C64-A735-3238481F63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итывается отрывок из былины. Учащиеся называют название былины и ее главного героя. После этого демонстрируется картина «Три богатыря». Вопрос к учащимся: «Кто автор данной картины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3D9-6B02-44D5-883A-98EF5B6EB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8821-2822-474E-85C6-C1460EB20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BDF-65AF-445F-8F27-4FA29DB47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81EE-E44C-4CDC-B2A2-EB015B20E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A498-E98F-4AD5-B76C-0253440D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06AA-EEAB-427D-B173-72D8E1E1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01BBA-E134-446D-A132-97DBE51C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CA825-8529-4118-BD72-5EE5C186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ECD2C-4199-4DB4-B0E2-E3F6EFC54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601CF-E28A-434F-8606-FD070B02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D3FF-BFF7-4C15-9B3B-AF04C2F7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8915-2890-4963-9589-5BAB53B6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ACB5-8C75-4D5B-85CF-4DAB3817E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A266-6C83-4912-B167-0D591847B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4C427-516A-4A3E-B082-9EC1852C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8C5EF-BD6C-4FA4-90D6-2227B6CE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BFB0D-3A2E-46A6-A117-513E0FE71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14A7-85D3-42AE-B830-00A4289C5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E39-96B1-45FC-8DC3-000D3C84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CF2-346E-4227-93EE-A6D316F0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24F3-838D-4AA9-8F7F-E6C91E38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1B6-AF02-4FA7-8A33-0DB6F9D8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D757-7E3D-4796-B73F-4F4CC0B3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B03D-198C-4ADC-AF1A-BCA5529B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B12C-AF3B-4597-9725-AED67D3940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71CB-694F-42E6-9F8D-DD01AE2B785F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hyperlink" Target="http://gramoty.ru/gramoty/bb366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gramoty.ru/prorisi/bb366.gif" TargetMode="External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6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езентацию подготовила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читель истории и обществозн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рякова Елена Владимировн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9" descr="bb203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268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онфим1"/>
          <p:cNvPicPr/>
          <p:nvPr/>
        </p:nvPicPr>
        <p:blipFill>
          <a:blip r:embed="rId2"/>
          <a:stretch/>
        </p:blipFill>
        <p:spPr>
          <a:xfrm>
            <a:off x="4648320" y="4114800"/>
            <a:ext cx="4114800" cy="2255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6" descr="Берестяная грамота №366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8600" y="15238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bb366">
            <a:hlinkClick r:id="rId5"/>
          </p:cNvPr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28600" y="4114800"/>
            <a:ext cx="404172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44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мый крупный из них – Кие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5" name="Picture 10" descr="Рисунок8"/>
          <p:cNvPicPr/>
          <p:nvPr/>
        </p:nvPicPr>
        <p:blipFill>
          <a:blip r:embed="rId1"/>
          <a:stretch/>
        </p:blipFill>
        <p:spPr>
          <a:xfrm>
            <a:off x="533520" y="1219320"/>
            <a:ext cx="5410080" cy="5105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1"/>
          <p:cNvSpPr/>
          <p:nvPr/>
        </p:nvSpPr>
        <p:spPr>
          <a:xfrm>
            <a:off x="228600" y="6461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Киева в серед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8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9" dur="1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2670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457200" y="15238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ые ворота были главным въездом в Кие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533520" y="1676520"/>
            <a:ext cx="396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Picture 15" descr="Золотые ворота"/>
          <p:cNvPicPr/>
          <p:nvPr/>
        </p:nvPicPr>
        <p:blipFill>
          <a:blip r:embed="rId1"/>
          <a:stretch/>
        </p:blipFill>
        <p:spPr>
          <a:xfrm>
            <a:off x="4495680" y="380880"/>
            <a:ext cx="445608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16"/>
          <p:cNvSpPr/>
          <p:nvPr/>
        </p:nvSpPr>
        <p:spPr>
          <a:xfrm>
            <a:off x="46483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Здесь находился парадный въезд "в город Ярослава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1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фийский собор был построен по образцу византийск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лане храма основу составлял крест, образованный основным и  боковыми неф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9" descr="2"/>
          <p:cNvPicPr/>
          <p:nvPr/>
        </p:nvPicPr>
        <p:blipFill>
          <a:blip r:embed="rId4"/>
          <a:stretch/>
        </p:blipFill>
        <p:spPr>
          <a:xfrm>
            <a:off x="4572000" y="2133720"/>
            <a:ext cx="4419720" cy="4495680"/>
          </a:xfrm>
          <a:prstGeom prst="rect">
            <a:avLst/>
          </a:prstGeom>
          <a:ln w="12600">
            <a:solidFill>
              <a:srgbClr val="999900"/>
            </a:solidFill>
            <a:miter/>
          </a:ln>
        </p:spPr>
      </p:pic>
      <p:sp>
        <p:nvSpPr>
          <p:cNvPr id="177" name="Text Box 11"/>
          <p:cNvSpPr/>
          <p:nvPr/>
        </p:nvSpPr>
        <p:spPr>
          <a:xfrm>
            <a:off x="5867280" y="16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5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Picture 4" descr="София К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380880" y="152280"/>
            <a:ext cx="8382240" cy="60040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1447920" y="6172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AutoShape 18"/>
          <p:cNvSpPr/>
          <p:nvPr/>
        </p:nvSpPr>
        <p:spPr>
          <a:xfrm>
            <a:off x="457200" y="3352680"/>
            <a:ext cx="4038480" cy="16002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AutoShape 19"/>
          <p:cNvSpPr/>
          <p:nvPr/>
        </p:nvSpPr>
        <p:spPr>
          <a:xfrm>
            <a:off x="1981080" y="4724280"/>
            <a:ext cx="3733920" cy="18288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685800" y="35812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озаика – картина из вдавленных в сырую штукатурку стекловидных камешков (смаль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Text Box 21"/>
          <p:cNvSpPr/>
          <p:nvPr/>
        </p:nvSpPr>
        <p:spPr>
          <a:xfrm>
            <a:off x="2209680" y="5105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Фреска – картина, написанная водяными красками по сырой штукатур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5943600" y="838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озаики Софийского собора в Киев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25" descr="Оранта"/>
          <p:cNvPicPr/>
          <p:nvPr/>
        </p:nvPicPr>
        <p:blipFill>
          <a:blip r:embed="rId1"/>
          <a:stretch/>
        </p:blipFill>
        <p:spPr>
          <a:xfrm>
            <a:off x="6019920" y="1676520"/>
            <a:ext cx="2790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2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190760" y="144756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коны, как правило писались на липовой до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Специфика иконописного письм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изображались плоским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временное изображен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не отбрасывают те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ечение вокруг головы в виде круга (нимб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28600" y="571500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дриан святой. Фреска Софийского собора в Киев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41972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Picture 7" descr="Адриан"/>
          <p:cNvPicPr/>
          <p:nvPr/>
        </p:nvPicPr>
        <p:blipFill>
          <a:blip r:embed="rId5"/>
          <a:stretch/>
        </p:blipFill>
        <p:spPr>
          <a:xfrm>
            <a:off x="457200" y="533520"/>
            <a:ext cx="299088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3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9" dur="1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1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4343400" y="4038480"/>
            <a:ext cx="4648320" cy="259092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5105520" y="441972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анон – свод положений, норм, прав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ог быть “лицевым” и “словесным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Picture 16" descr="мозаика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17"/>
          <p:cNvSpPr/>
          <p:nvPr/>
        </p:nvSpPr>
        <p:spPr>
          <a:xfrm>
            <a:off x="228600" y="57913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оанн Златоуст. Мозаика Софийского собора в Кие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4952880" y="380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вгород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1052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построен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бо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Св.Соф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5105520" y="1752480"/>
            <a:ext cx="403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роена София новгородская в основном из камня, и только арки порталов, и оконных проёмов выложены из кирпича, а своды в интерьере - частично из камня, частично из кирпи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12" descr="Изображение:Cathedral of St. Sophia, the Holy Wisdom of God in Novgorod, Russia.jpg"/>
          <p:cNvPicPr/>
          <p:nvPr/>
        </p:nvPicPr>
        <p:blipFill>
          <a:blip r:embed="rId1"/>
          <a:stretch/>
        </p:blipFill>
        <p:spPr>
          <a:xfrm>
            <a:off x="304920" y="1295280"/>
            <a:ext cx="4419360" cy="4343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13"/>
          <p:cNvSpPr/>
          <p:nvPr/>
        </p:nvSpPr>
        <p:spPr>
          <a:xfrm>
            <a:off x="228600" y="57150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авный православный храм Великого Новгорода, созданный в 1045—105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од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495320" y="17521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7" descr="y_mon"/>
          <p:cNvPicPr/>
          <p:nvPr/>
        </p:nvPicPr>
        <p:blipFill>
          <a:blip r:embed="rId1"/>
          <a:stretch/>
        </p:blipFill>
        <p:spPr>
          <a:xfrm>
            <a:off x="380880" y="1600200"/>
            <a:ext cx="3954600" cy="4157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8"/>
          <p:cNvSpPr/>
          <p:nvPr/>
        </p:nvSpPr>
        <p:spPr>
          <a:xfrm>
            <a:off x="152280" y="59436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ривна Владимира Мономах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104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1295280" y="1447920"/>
            <a:ext cx="6019920" cy="91440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752480" y="16758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609480" y="2895480"/>
            <a:ext cx="2895840" cy="83844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181480" y="2895480"/>
            <a:ext cx="2895840" cy="76212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83808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8380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548640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ухов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Line 11"/>
          <p:cNvSpPr/>
          <p:nvPr/>
        </p:nvSpPr>
        <p:spPr>
          <a:xfrm flipH="1">
            <a:off x="2590920" y="23623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Line 12"/>
          <p:cNvSpPr/>
          <p:nvPr/>
        </p:nvSpPr>
        <p:spPr>
          <a:xfrm>
            <a:off x="4267080" y="236232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13"/>
          <p:cNvSpPr/>
          <p:nvPr/>
        </p:nvSpPr>
        <p:spPr>
          <a:xfrm>
            <a:off x="838080" y="4800600"/>
            <a:ext cx="6934320" cy="1752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447920" y="5181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истема созданных человеком материальных и культурных ценностей на определенном историческом этап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Picture 16" descr="ag00029_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848720" y="3049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7"/>
          <p:cNvSpPr/>
          <p:nvPr/>
        </p:nvSpPr>
        <p:spPr>
          <a:xfrm>
            <a:off x="1066680" y="3962520"/>
            <a:ext cx="60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материаль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духов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11" name="Picture 11" descr="2454m"/>
          <p:cNvPicPr/>
          <p:nvPr/>
        </p:nvPicPr>
        <p:blipFill>
          <a:blip r:embed="rId1"/>
          <a:stretch/>
        </p:blipFill>
        <p:spPr>
          <a:xfrm>
            <a:off x="6172200" y="1676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12"/>
          <p:cNvSpPr/>
          <p:nvPr/>
        </p:nvSpPr>
        <p:spPr>
          <a:xfrm>
            <a:off x="5486400" y="4648320"/>
            <a:ext cx="3429000" cy="22096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4"/>
          <p:cNvSpPr/>
          <p:nvPr/>
        </p:nvSpPr>
        <p:spPr>
          <a:xfrm>
            <a:off x="5791320" y="5029200"/>
            <a:ext cx="2895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льчуга - оборонительный доспех из продетых друг в друга железных кол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609588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оин в доспех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9" descr="skan"/>
          <p:cNvPicPr/>
          <p:nvPr/>
        </p:nvPicPr>
        <p:blipFill>
          <a:blip r:embed="rId2"/>
          <a:stretch/>
        </p:blipFill>
        <p:spPr>
          <a:xfrm>
            <a:off x="228600" y="1752480"/>
            <a:ext cx="2381400" cy="21243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0"/>
          <p:cNvSpPr/>
          <p:nvPr/>
        </p:nvSpPr>
        <p:spPr>
          <a:xfrm>
            <a:off x="2971800" y="15238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жка-подвеска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І-ХІІІ с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7" name="Picture 25" descr="Шлем Ярослава Всеволодовча"/>
          <p:cNvPicPr/>
          <p:nvPr/>
        </p:nvPicPr>
        <p:blipFill>
          <a:blip r:embed="rId3"/>
          <a:stretch/>
        </p:blipFill>
        <p:spPr>
          <a:xfrm>
            <a:off x="2819520" y="2743200"/>
            <a:ext cx="2492280" cy="378144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26"/>
          <p:cNvSpPr/>
          <p:nvPr/>
        </p:nvSpPr>
        <p:spPr>
          <a:xfrm>
            <a:off x="228600" y="4876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лем Ярослава Всеволодович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nodeType="clickEffect" fill="hold">
                      <p:stCondLst>
                        <p:cond delay="indefinite"/>
                      </p:stCondLst>
                      <p:childTnLst>
                        <p:par>
                          <p:cTn id="7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nodeType="clickEffect" fill="hold">
                      <p:stCondLst>
                        <p:cond delay="indefinite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7" descr="Картинка 6 из 160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4120" y="304920"/>
            <a:ext cx="3276360" cy="35812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Картинка 25 из 160"/>
          <p:cNvPicPr/>
          <p:nvPr/>
        </p:nvPicPr>
        <p:blipFill>
          <a:blip r:embed="rId2"/>
          <a:stretch/>
        </p:blipFill>
        <p:spPr>
          <a:xfrm>
            <a:off x="3657600" y="4038480"/>
            <a:ext cx="2857680" cy="25527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10"/>
          <p:cNvSpPr/>
          <p:nvPr/>
        </p:nvSpPr>
        <p:spPr>
          <a:xfrm>
            <a:off x="16765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ережка-подвес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11"/>
          <p:cNvSpPr/>
          <p:nvPr/>
        </p:nvSpPr>
        <p:spPr>
          <a:xfrm>
            <a:off x="6705720" y="44956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сина, украшенная зернь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4572000"/>
            <a:ext cx="80773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др.-рус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к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Picture 7" descr="Картинка 12 из 622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048120" y="380880"/>
            <a:ext cx="5790960" cy="4140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Колт. Серебро. Скань. XII в."/>
          <p:cNvPicPr/>
          <p:nvPr/>
        </p:nvPicPr>
        <p:blipFill>
          <a:blip r:embed="rId2"/>
          <a:stretch/>
        </p:blipFill>
        <p:spPr>
          <a:xfrm>
            <a:off x="380880" y="1828800"/>
            <a:ext cx="25624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5" descr="Файл:Klad desyatinnaya.jpg"/>
          <p:cNvPicPr/>
          <p:nvPr/>
        </p:nvPicPr>
        <p:blipFill>
          <a:blip r:embed="rId1"/>
          <a:stretch/>
        </p:blipFill>
        <p:spPr>
          <a:xfrm>
            <a:off x="380880" y="1600200"/>
            <a:ext cx="556272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86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4" name="Picture 3" descr="D:\Мои документы\Коллекция картинок (Microsoft)\j0433165.jpg"/>
          <p:cNvPicPr/>
          <p:nvPr/>
        </p:nvPicPr>
        <p:blipFill>
          <a:blip r:embed="rId1"/>
          <a:stretch/>
        </p:blipFill>
        <p:spPr>
          <a:xfrm>
            <a:off x="2212920" y="1981080"/>
            <a:ext cx="47973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4" descr="ag00029_"/>
          <p:cNvPicPr/>
          <p:nvPr/>
        </p:nvPicPr>
        <p:blipFill>
          <a:blip r:embed="rId1"/>
          <a:stretch/>
        </p:blipFill>
        <p:spPr>
          <a:xfrm>
            <a:off x="7620120" y="12193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115" name="Documents"/>
          <p:cNvSpPr/>
          <p:nvPr/>
        </p:nvSpPr>
        <p:spPr>
          <a:xfrm>
            <a:off x="838080" y="1523880"/>
            <a:ext cx="6858000" cy="5334120"/>
          </a:xfrm>
          <a:custGeom>
            <a:avLst/>
            <a:gdLst>
              <a:gd name="textAreaLeft" fmla="*/ 522000 w 6858000"/>
              <a:gd name="textAreaRight" fmla="*/ 5245920 w 6858000"/>
              <a:gd name="textAreaTop" fmla="*/ 1029960 h 5334120"/>
              <a:gd name="textAreaBottom" fmla="*/ 427572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219320" y="2133720"/>
            <a:ext cx="48765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у древнерусско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ультур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тавляло наследие восточных славя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523880" y="4721400"/>
            <a:ext cx="6553440" cy="1660680"/>
          </a:xfrm>
          <a:prstGeom prst="rect">
            <a:avLst/>
          </a:prstGeom>
          <a:solidFill>
            <a:srgbClr val="e7d091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2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9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Устное народное творчеств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9" descr="bogatyri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520" y="4040280"/>
            <a:ext cx="3314520" cy="2060640"/>
          </a:xfrm>
          <a:prstGeom prst="rect">
            <a:avLst/>
          </a:prstGeom>
          <a:ln w="0">
            <a:noFill/>
          </a:ln>
        </p:spPr>
      </p:pic>
      <p:sp>
        <p:nvSpPr>
          <p:cNvPr id="123" name="AutoShape 10"/>
          <p:cNvSpPr/>
          <p:nvPr/>
        </p:nvSpPr>
        <p:spPr>
          <a:xfrm>
            <a:off x="609480" y="2133720"/>
            <a:ext cx="1905120" cy="53316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066680" y="22096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13"/>
          <p:cNvSpPr/>
          <p:nvPr/>
        </p:nvSpPr>
        <p:spPr>
          <a:xfrm>
            <a:off x="1371600" y="2666880"/>
            <a:ext cx="2209680" cy="60984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1905120" y="281664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ыл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AutoShape 15"/>
          <p:cNvSpPr/>
          <p:nvPr/>
        </p:nvSpPr>
        <p:spPr>
          <a:xfrm>
            <a:off x="1981080" y="3276720"/>
            <a:ext cx="2210040" cy="609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16"/>
          <p:cNvSpPr/>
          <p:nvPr/>
        </p:nvSpPr>
        <p:spPr>
          <a:xfrm>
            <a:off x="2514600" y="34290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Rectangle 18"/>
          <p:cNvSpPr/>
          <p:nvPr/>
        </p:nvSpPr>
        <p:spPr>
          <a:xfrm>
            <a:off x="4419720" y="1368720"/>
            <a:ext cx="4495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1"/>
          <p:cNvSpPr/>
          <p:nvPr/>
        </p:nvSpPr>
        <p:spPr>
          <a:xfrm>
            <a:off x="3049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аснецов. Три богатыр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22"/>
          <p:cNvSpPr/>
          <p:nvPr/>
        </p:nvSpPr>
        <p:spPr>
          <a:xfrm>
            <a:off x="228600" y="13716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0000"/>
                </a:solidFill>
                <a:latin typeface="Arial"/>
              </a:rPr>
              <a:t>Что мы подразумеваем под термином УН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4876920" y="6400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0000"/>
                </a:solidFill>
                <a:latin typeface="Arial"/>
              </a:rPr>
              <a:t>Вы узнали отрыв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3505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ждый крупный город вел свою летопи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Нестором,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уд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«Повесть Временных лет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5" name="Picture 8" descr="Рисунок2"/>
          <p:cNvPicPr/>
          <p:nvPr/>
        </p:nvPicPr>
        <p:blipFill>
          <a:blip r:embed="rId1"/>
          <a:stretch/>
        </p:blipFill>
        <p:spPr>
          <a:xfrm>
            <a:off x="380880" y="1371600"/>
            <a:ext cx="2210040" cy="43434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152280" y="579132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ица из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Picture 10" descr="Рисунок2"/>
          <p:cNvPicPr/>
          <p:nvPr/>
        </p:nvPicPr>
        <p:blipFill>
          <a:blip r:embed="rId2"/>
          <a:stretch/>
        </p:blipFill>
        <p:spPr>
          <a:xfrm>
            <a:off x="6324480" y="609480"/>
            <a:ext cx="2613240" cy="45720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1"/>
          <p:cNvSpPr/>
          <p:nvPr/>
        </p:nvSpPr>
        <p:spPr>
          <a:xfrm>
            <a:off x="6553080" y="5257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048120" y="5486400"/>
            <a:ext cx="3581280" cy="13716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3276720" y="5867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етопись – погодная запись собы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untitled"/>
          <p:cNvPicPr/>
          <p:nvPr/>
        </p:nvPicPr>
        <p:blipFill>
          <a:blip r:embed="rId1"/>
          <a:stretch/>
        </p:blipFill>
        <p:spPr>
          <a:xfrm>
            <a:off x="380880" y="175248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9528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5486400" y="228600"/>
            <a:ext cx="32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енность у восточных славян зародилась до принятия христианства. Славянскую азбуку создали византийские монахи Кирилл и Мефодий. При церквях и монастырях были открыты школы. Появляются первые рукописные кни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ы кириллица и глагол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12" descr="Рисунок1"/>
          <p:cNvPicPr/>
          <p:nvPr/>
        </p:nvPicPr>
        <p:blipFill>
          <a:blip r:embed="rId2"/>
          <a:stretch/>
        </p:blipFill>
        <p:spPr>
          <a:xfrm>
            <a:off x="5715000" y="396252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3"/>
          <p:cNvSpPr/>
          <p:nvPr/>
        </p:nvSpPr>
        <p:spPr>
          <a:xfrm>
            <a:off x="5334120" y="6216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рукописной кни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4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7" descr="граффит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81480" y="1600200"/>
            <a:ext cx="3624480" cy="45259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5486400" y="6248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фи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AutoShape 9"/>
          <p:cNvSpPr/>
          <p:nvPr/>
        </p:nvSpPr>
        <p:spPr>
          <a:xfrm>
            <a:off x="533520" y="4343400"/>
            <a:ext cx="4267080" cy="22860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83808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2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От Гостяты к Василю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Что мне дал отец и родичи дали впридачу, то за н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11" descr="untitled-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152388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2" descr="untitled-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648320" y="4351320"/>
            <a:ext cx="403848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9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dc:language>en-US</dc:language>
  <cp:lastModifiedBy>Елена</cp:lastModifiedBy>
  <dcterms:modified xsi:type="dcterms:W3CDTF">2019-12-15T17:37:05Z</dcterms:modified>
  <cp:revision>35</cp:revision>
  <dc:subject>Культура Киевской Руси</dc:subject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