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19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2860-FE6C-4A9B-808C-95D8CB8B4B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0ABC-3AE7-4922-BA6D-15B4FA13CE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понятие мы изучаем уже не первый раз. Давайте вспомним определение понятия «Культура». На какие виды условно его разделяют историки? Далее суммируются ответы учащихся и выводится определени термина «культур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4FA2-F184-4839-818E-C05B0C71D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итывается отрывок из былины. Учащиеся называют название былины и ее главного героя. После этого демонстрируется картина «Три богатыря». Вопрос к учащимся: «Кто автор данной картины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FC0-2EF3-468C-8D6D-BFD7F17E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188-E121-4EFF-8DCC-CE81DEDB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B56-B11A-459C-A71C-F618C6D6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418-46D6-4F21-B472-F41ACB17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F061-97F9-4717-A44D-7EC87560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4F16-146C-475C-A06C-6504D9FB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C1ED-40E7-4893-8E68-C8C5965C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34C7-1ACC-4D2B-A3FD-CB17D86E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AC29-8E98-4BD9-9D5C-50AF3102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778C-60F0-4588-AAD8-58E4BE16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3334-5F1A-48A6-842E-97BE6DA8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117-5FAF-41AF-80F8-30E50875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A3AC-F125-4558-B87A-7CB8D12D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E94E-FB2F-4AEC-B848-F938F309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985B-525C-4045-A3A4-8F3E57B1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D4B6-F929-447B-B2CE-53910FA2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5AD8-A7AF-44E7-81F2-C9B369F7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E4D-C684-413B-9B7F-797BA87F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753-6A7E-4A3E-A4F1-78F0002F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29D-28BA-46DF-8CAB-CAFD8C3A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DD9-9DD2-4669-9E8A-79376C26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8F4-5BF5-446D-979C-F9908BA1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7EA-716A-4584-8E08-E9466DC2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BD8-EDFF-48E8-8EBA-A204EDD4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60BE-5A71-4334-94C1-9EF0681936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29F6-4F59-4CDC-91DF-E7A6B4079E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hyperlink" Target="http://gramoty.ru/gramoty/bb366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gramoty.ru/prorisi/bb366.gif" TargetMode="Externa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60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зентацию подготовил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читель истории и обществозн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рякова Елена Владимиров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9" descr="bb203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268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онфим1"/>
          <p:cNvPicPr/>
          <p:nvPr/>
        </p:nvPicPr>
        <p:blipFill>
          <a:blip r:embed="rId2"/>
          <a:stretch/>
        </p:blipFill>
        <p:spPr>
          <a:xfrm>
            <a:off x="4648320" y="4114800"/>
            <a:ext cx="4114800" cy="2255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Берестяная грамота №366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28600" y="15238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bb366">
            <a:hlinkClick r:id="rId5"/>
          </p:cNvPr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28600" y="4114800"/>
            <a:ext cx="4041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44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амый крупный из них – Киев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10" descr="Рисунок8"/>
          <p:cNvPicPr/>
          <p:nvPr/>
        </p:nvPicPr>
        <p:blipFill>
          <a:blip r:embed="rId1"/>
          <a:stretch/>
        </p:blipFill>
        <p:spPr>
          <a:xfrm>
            <a:off x="533520" y="1219320"/>
            <a:ext cx="5410080" cy="51051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1"/>
          <p:cNvSpPr/>
          <p:nvPr/>
        </p:nvSpPr>
        <p:spPr>
          <a:xfrm>
            <a:off x="228600" y="6461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Киева в серед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42670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57200" y="15238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ые ворота были главным въездом в Кие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33520" y="1676520"/>
            <a:ext cx="396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15" descr="Золотые ворота"/>
          <p:cNvPicPr/>
          <p:nvPr/>
        </p:nvPicPr>
        <p:blipFill>
          <a:blip r:embed="rId1"/>
          <a:stretch/>
        </p:blipFill>
        <p:spPr>
          <a:xfrm>
            <a:off x="4495680" y="380880"/>
            <a:ext cx="445608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6"/>
          <p:cNvSpPr/>
          <p:nvPr/>
        </p:nvSpPr>
        <p:spPr>
          <a:xfrm>
            <a:off x="46483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Здесь находился парадный въезд "в город Ярослава"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фийский собор был построен по образцу византийск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лане храма основу составлял крест, образованный основным и  боковыми неф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9" descr="2"/>
          <p:cNvPicPr/>
          <p:nvPr/>
        </p:nvPicPr>
        <p:blipFill>
          <a:blip r:embed="rId4"/>
          <a:stretch/>
        </p:blipFill>
        <p:spPr>
          <a:xfrm>
            <a:off x="4572000" y="2133720"/>
            <a:ext cx="4419720" cy="4495680"/>
          </a:xfrm>
          <a:prstGeom prst="rect">
            <a:avLst/>
          </a:prstGeom>
          <a:ln w="12600">
            <a:solidFill>
              <a:srgbClr val="999900"/>
            </a:solidFill>
            <a:miter/>
          </a:ln>
        </p:spPr>
      </p:pic>
      <p:sp>
        <p:nvSpPr>
          <p:cNvPr id="177" name="Text Box 11"/>
          <p:cNvSpPr/>
          <p:nvPr/>
        </p:nvSpPr>
        <p:spPr>
          <a:xfrm>
            <a:off x="5867280" y="16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4" descr="София К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380880" y="152280"/>
            <a:ext cx="8382240" cy="60040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1447920" y="6172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457200" y="3352680"/>
            <a:ext cx="4038480" cy="16002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19"/>
          <p:cNvSpPr/>
          <p:nvPr/>
        </p:nvSpPr>
        <p:spPr>
          <a:xfrm>
            <a:off x="1981080" y="4724280"/>
            <a:ext cx="3733920" cy="18288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685800" y="35812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озаика – картина из вдавленных в сырую штукатурку стекловидных камешков (смаль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2209680" y="51055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Фреска – картина, написанная водяными красками по сырой штукатур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5943600" y="8380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Мозаики Софийского собора в Киев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25" descr="Оранта"/>
          <p:cNvPicPr/>
          <p:nvPr/>
        </p:nvPicPr>
        <p:blipFill>
          <a:blip r:embed="rId1"/>
          <a:stretch/>
        </p:blipFill>
        <p:spPr>
          <a:xfrm>
            <a:off x="6019920" y="1676520"/>
            <a:ext cx="279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190760" y="144756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коны, как правило писались на липовой дос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Специфика иконописного письм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изображались плоским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евременное изображени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не отбрасывают тен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ечение вокруг головы в виде круга (нимб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28600" y="571500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Адриан святой. Фреска Софийского собора в Киеве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441972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7" descr="Адриан"/>
          <p:cNvPicPr/>
          <p:nvPr/>
        </p:nvPicPr>
        <p:blipFill>
          <a:blip r:embed="rId5"/>
          <a:stretch/>
        </p:blipFill>
        <p:spPr>
          <a:xfrm>
            <a:off x="457200" y="533520"/>
            <a:ext cx="29908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4343400" y="4038480"/>
            <a:ext cx="4648320" cy="259092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5105520" y="4419720"/>
            <a:ext cx="3200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анон – свод положений, норм, прав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Мог быть “лицевым” и “словесным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16" descr="мозаика"/>
          <p:cNvPicPr/>
          <p:nvPr/>
        </p:nvPicPr>
        <p:blipFill>
          <a:blip r:embed="rId1"/>
          <a:stretch/>
        </p:blipFill>
        <p:spPr>
          <a:xfrm>
            <a:off x="380880" y="685800"/>
            <a:ext cx="373392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7"/>
          <p:cNvSpPr/>
          <p:nvPr/>
        </p:nvSpPr>
        <p:spPr>
          <a:xfrm>
            <a:off x="228600" y="57913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оанн Златоуст. Мозаика Софийского собора в Кие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4952880" y="380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вгород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государств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1052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построен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обор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Св.Соф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105520" y="1752480"/>
            <a:ext cx="403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троена София новгородская в основном из камня, и только арки порталов, и оконных проёмов выложены из кирпича, а своды в интерьере - частично из камня, частично из кирпи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12" descr="Изображение:Cathedral of St. Sophia, the Holy Wisdom of God in Novgorod, Russia.jpg"/>
          <p:cNvPicPr/>
          <p:nvPr/>
        </p:nvPicPr>
        <p:blipFill>
          <a:blip r:embed="rId1"/>
          <a:stretch/>
        </p:blipFill>
        <p:spPr>
          <a:xfrm>
            <a:off x="304920" y="1295280"/>
            <a:ext cx="4419360" cy="4343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"/>
          <p:cNvSpPr/>
          <p:nvPr/>
        </p:nvSpPr>
        <p:spPr>
          <a:xfrm>
            <a:off x="228600" y="57150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авный православный храм Великого Новгорода, созданный в 1045—105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ода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495320" y="175212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7" descr="y_mon"/>
          <p:cNvPicPr/>
          <p:nvPr/>
        </p:nvPicPr>
        <p:blipFill>
          <a:blip r:embed="rId1"/>
          <a:stretch/>
        </p:blipFill>
        <p:spPr>
          <a:xfrm>
            <a:off x="380880" y="1600200"/>
            <a:ext cx="3954600" cy="4157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"/>
          <p:cNvSpPr/>
          <p:nvPr/>
        </p:nvSpPr>
        <p:spPr>
          <a:xfrm>
            <a:off x="152280" y="59436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ривна Владимира Мономах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104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295280" y="1447920"/>
            <a:ext cx="6019920" cy="91440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752480" y="16758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уль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09480" y="2895480"/>
            <a:ext cx="2895840" cy="83844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181480" y="2895480"/>
            <a:ext cx="2895840" cy="76212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838080" y="312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380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48640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ухов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2590920" y="236232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4267080" y="236232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13"/>
          <p:cNvSpPr/>
          <p:nvPr/>
        </p:nvSpPr>
        <p:spPr>
          <a:xfrm>
            <a:off x="838080" y="4800600"/>
            <a:ext cx="6934320" cy="1752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447920" y="5181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истема созданных человеком материальных и культурных ценностей на определенном историческом этап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16" descr="ag00029_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848720" y="30492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7"/>
          <p:cNvSpPr/>
          <p:nvPr/>
        </p:nvSpPr>
        <p:spPr>
          <a:xfrm>
            <a:off x="1066680" y="3962520"/>
            <a:ext cx="6019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материаль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духов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1" name="Picture 11" descr="2454m"/>
          <p:cNvPicPr/>
          <p:nvPr/>
        </p:nvPicPr>
        <p:blipFill>
          <a:blip r:embed="rId1"/>
          <a:stretch/>
        </p:blipFill>
        <p:spPr>
          <a:xfrm>
            <a:off x="6172200" y="16765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12"/>
          <p:cNvSpPr/>
          <p:nvPr/>
        </p:nvSpPr>
        <p:spPr>
          <a:xfrm>
            <a:off x="5486400" y="4648320"/>
            <a:ext cx="3429000" cy="22096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5791320" y="5029200"/>
            <a:ext cx="2895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льчуга - оборонительный доспех из продетых друг в друга железных колец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6095880" y="990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оин в доспех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19" descr="skan"/>
          <p:cNvPicPr/>
          <p:nvPr/>
        </p:nvPicPr>
        <p:blipFill>
          <a:blip r:embed="rId2"/>
          <a:stretch/>
        </p:blipFill>
        <p:spPr>
          <a:xfrm>
            <a:off x="228600" y="1752480"/>
            <a:ext cx="2381400" cy="2124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0"/>
          <p:cNvSpPr/>
          <p:nvPr/>
        </p:nvSpPr>
        <p:spPr>
          <a:xfrm>
            <a:off x="2971800" y="152388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ережка-подвеска 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І-ХІІІ с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25" descr="Шлем Ярослава Всеволодовча"/>
          <p:cNvPicPr/>
          <p:nvPr/>
        </p:nvPicPr>
        <p:blipFill>
          <a:blip r:embed="rId3"/>
          <a:stretch/>
        </p:blipFill>
        <p:spPr>
          <a:xfrm>
            <a:off x="2819520" y="2743200"/>
            <a:ext cx="2492280" cy="37814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6"/>
          <p:cNvSpPr/>
          <p:nvPr/>
        </p:nvSpPr>
        <p:spPr>
          <a:xfrm>
            <a:off x="228600" y="4876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Шлем Ярослава Всеволодович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7" descr="Картинка 6 из 160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334120" y="304920"/>
            <a:ext cx="3276360" cy="3581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Картинка 25 из 160"/>
          <p:cNvPicPr/>
          <p:nvPr/>
        </p:nvPicPr>
        <p:blipFill>
          <a:blip r:embed="rId2"/>
          <a:stretch/>
        </p:blipFill>
        <p:spPr>
          <a:xfrm>
            <a:off x="3657600" y="4038480"/>
            <a:ext cx="2857680" cy="25527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1676520" y="6019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ережка-подвес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6705720" y="44956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усина, украшенная зернью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4572000"/>
            <a:ext cx="80773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др.-рус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к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7" descr="Картинка 12 из 62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048120" y="380880"/>
            <a:ext cx="5790960" cy="414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Колт. Серебро. Скань. XII в."/>
          <p:cNvPicPr/>
          <p:nvPr/>
        </p:nvPicPr>
        <p:blipFill>
          <a:blip r:embed="rId2"/>
          <a:stretch/>
        </p:blipFill>
        <p:spPr>
          <a:xfrm>
            <a:off x="380880" y="1828800"/>
            <a:ext cx="2562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Файл:Klad desyatinnaya.jpg"/>
          <p:cNvPicPr/>
          <p:nvPr/>
        </p:nvPicPr>
        <p:blipFill>
          <a:blip r:embed="rId1"/>
          <a:stretch/>
        </p:blipFill>
        <p:spPr>
          <a:xfrm>
            <a:off x="380880" y="1600200"/>
            <a:ext cx="556272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086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34" name="Picture 3" descr="D:\Мои документы\Коллекция картинок (Microsoft)\j0433165.jpg"/>
          <p:cNvPicPr/>
          <p:nvPr/>
        </p:nvPicPr>
        <p:blipFill>
          <a:blip r:embed="rId1"/>
          <a:stretch/>
        </p:blipFill>
        <p:spPr>
          <a:xfrm>
            <a:off x="2212920" y="1981080"/>
            <a:ext cx="4797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4" descr="ag00029_"/>
          <p:cNvPicPr/>
          <p:nvPr/>
        </p:nvPicPr>
        <p:blipFill>
          <a:blip r:embed="rId1"/>
          <a:stretch/>
        </p:blipFill>
        <p:spPr>
          <a:xfrm>
            <a:off x="7620120" y="12193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115" name="Documents"/>
          <p:cNvSpPr/>
          <p:nvPr/>
        </p:nvSpPr>
        <p:spPr>
          <a:xfrm>
            <a:off x="838080" y="1523880"/>
            <a:ext cx="6858000" cy="5334120"/>
          </a:xfrm>
          <a:custGeom>
            <a:avLst/>
            <a:gdLst>
              <a:gd name="textAreaLeft" fmla="*/ 522000 w 6858000"/>
              <a:gd name="textAreaRight" fmla="*/ 5245920 w 6858000"/>
              <a:gd name="textAreaTop" fmla="*/ 1029960 h 5334120"/>
              <a:gd name="textAreaBottom" fmla="*/ 427572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19320" y="2133720"/>
            <a:ext cx="48765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у древнерусско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ультуры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ставляло наследие восточных славя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523880" y="4721400"/>
            <a:ext cx="6553440" cy="1660680"/>
          </a:xfrm>
          <a:prstGeom prst="rect">
            <a:avLst/>
          </a:prstGeom>
          <a:solidFill>
            <a:srgbClr val="e7d091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Устное народное творчеств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9" descr="bogatyri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33520" y="4040280"/>
            <a:ext cx="3314520" cy="20606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>
            <a:off x="609480" y="2133720"/>
            <a:ext cx="1905120" cy="53316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066680" y="22096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ес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1371600" y="2666880"/>
            <a:ext cx="2209680" cy="60984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1905120" y="281664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Были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1981080" y="3276720"/>
            <a:ext cx="2210040" cy="609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2514600" y="34290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ка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4419720" y="1368720"/>
            <a:ext cx="4495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304920" y="6324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Васнецов. Три богатыр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228600" y="13716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0000"/>
                </a:solidFill>
                <a:latin typeface="Arial"/>
              </a:rPr>
              <a:t>Что мы подразумеваем под термином УН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4876920" y="6400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0000"/>
                </a:solidFill>
                <a:latin typeface="Arial"/>
              </a:rPr>
              <a:t>Вы узнали отрыв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3505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ждый крупный город вел свою летопи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Нестором,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уд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«Повесть Временных лет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8" descr="Рисунок2"/>
          <p:cNvPicPr/>
          <p:nvPr/>
        </p:nvPicPr>
        <p:blipFill>
          <a:blip r:embed="rId1"/>
          <a:stretch/>
        </p:blipFill>
        <p:spPr>
          <a:xfrm>
            <a:off x="380880" y="1371600"/>
            <a:ext cx="221004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152280" y="579132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ица из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10" descr="Рисунок2"/>
          <p:cNvPicPr/>
          <p:nvPr/>
        </p:nvPicPr>
        <p:blipFill>
          <a:blip r:embed="rId2"/>
          <a:stretch/>
        </p:blipFill>
        <p:spPr>
          <a:xfrm>
            <a:off x="6324480" y="609480"/>
            <a:ext cx="2613240" cy="4572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6553080" y="5257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048120" y="5486400"/>
            <a:ext cx="3581280" cy="13716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3276720" y="5867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етопись – погодная запись событ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untitled"/>
          <p:cNvPicPr/>
          <p:nvPr/>
        </p:nvPicPr>
        <p:blipFill>
          <a:blip r:embed="rId1"/>
          <a:stretch/>
        </p:blipFill>
        <p:spPr>
          <a:xfrm>
            <a:off x="380880" y="1752480"/>
            <a:ext cx="5029200" cy="43434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9528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486400" y="228600"/>
            <a:ext cx="32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енность у восточных славян зародилась до принятия христианства. Славянскую азбуку создали византийские монахи Кирилл и Мефодий. При церквях и монастырях были открыты школы. Появляются первые рукописные кни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фавиты кириллица и глагол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12" descr="Рисунок1"/>
          <p:cNvPicPr/>
          <p:nvPr/>
        </p:nvPicPr>
        <p:blipFill>
          <a:blip r:embed="rId2"/>
          <a:stretch/>
        </p:blipFill>
        <p:spPr>
          <a:xfrm>
            <a:off x="5715000" y="396252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3"/>
          <p:cNvSpPr/>
          <p:nvPr/>
        </p:nvSpPr>
        <p:spPr>
          <a:xfrm>
            <a:off x="5334120" y="62164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рукописной книг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7" descr="граффит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181480" y="1600200"/>
            <a:ext cx="3624480" cy="4525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5486400" y="6248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фи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533520" y="4343400"/>
            <a:ext cx="4267080" cy="22860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838080" y="4952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От Гостяты к Василю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Что мне дал отец и родичи дали впридачу, то за ни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1" descr="untitled-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8320" y="152388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untitled-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648320" y="4351320"/>
            <a:ext cx="40384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имова Галина Михайловна</dc:creator>
  <dc:description/>
  <dc:language>en-US</dc:language>
  <cp:lastModifiedBy>Елена</cp:lastModifiedBy>
  <dcterms:modified xsi:type="dcterms:W3CDTF">2019-12-15T17:37:05Z</dcterms:modified>
  <cp:revision>35</cp:revision>
  <dc:subject>Культура Киевской Руси</dc:subject>
  <dc:title>Культура Киевской 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