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9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B5F5-F22B-4968-A6E2-2DEC9C20A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9312-C365-4B93-8BE7-2546FB489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F29C-37C2-4268-BF46-A24E0BA40D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445-125C-4CCF-9A43-5227E9FD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F62-9555-473C-AEDE-D196AED5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CF2-7A40-4436-B0D7-6D9DD6D9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CF9-7C7D-46F0-A714-71B514C4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C7EF-B7FA-49EC-9C95-E5094B48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BDC2-2F92-4D11-8C2A-0244F45E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AD91-551F-4025-AF30-DB2E4FEE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0049-FCC3-416C-8B53-9C9EAAD2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B680-7059-4BC9-ACD3-EBD4843F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4362-CD21-4293-B378-33ACD376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5513-D497-4B7E-B79E-1D373077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9F3-703A-405C-8BA8-8D62D650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CE6B-7F65-44CD-8D97-35FC48F2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2E0C-5E7A-464E-BC76-73359FAE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5E66-8F9A-471C-B74D-93A62332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7665-041F-4461-BD35-404C5AE2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C718-16B7-4C36-91D4-69B51060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441-90F7-4BAD-8CDC-76A3952A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CB7-E8CD-4510-8A39-6D47F83A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D1B-2F4C-441C-93E0-DDF13588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BF0-6EA6-45CD-A7DC-6015E04D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F58-C4BE-4752-B347-166E5AB6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BF3-B129-479B-B06A-5EE4E82B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C5F-E4F8-43EF-B319-AAAFDC7E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F6AB-3EFE-4B81-A297-7CDB6ABBD3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067B-3D2D-403D-92E0-208B7DC9C4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зентацию подготовил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итель истории и обществозн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рякова Елена Владимиров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77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12" descr="Изображение:Cathedral of St. Sophia, the Holy Wisdom of God in Novgorod, Russia.jpg"/>
          <p:cNvPicPr/>
          <p:nvPr/>
        </p:nvPicPr>
        <p:blipFill>
          <a:blip r:embed="rId1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7" descr="Картинка 6 из 16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5 из 160"/>
          <p:cNvPicPr/>
          <p:nvPr/>
        </p:nvPicPr>
        <p:blipFill>
          <a:blip r:embed="rId2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7" descr="Картинка 12 из 62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Колт. Серебро. Скань. XII в."/>
          <p:cNvPicPr/>
          <p:nvPr/>
        </p:nvPicPr>
        <p:blipFill>
          <a:blip r:embed="rId2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Файл:Klad desyatinnaya.jpg"/>
          <p:cNvPicPr/>
          <p:nvPr/>
        </p:nvPicPr>
        <p:blipFill>
          <a:blip r:embed="rId1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4" name="Picture 3" descr="D:\Мои документы\Коллекция картинок (Microsoft)\j0433165.jpg"/>
          <p:cNvPicPr/>
          <p:nvPr/>
        </p:nvPicPr>
        <p:blipFill>
          <a:blip r:embed="rId1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5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523880" y="4721400"/>
            <a:ext cx="6553440" cy="16606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Елена</cp:lastModifiedBy>
  <dcterms:modified xsi:type="dcterms:W3CDTF">2019-12-15T17:37:05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