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EA9C-354F-4655-AF51-CB6EAE0E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3BE-0075-4AB2-9A7D-153E55F4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66B-10EE-4E9A-B0F7-3A333761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A61-6BFE-4710-A843-7DE92E98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3F4-10F3-44B0-A7DA-2FB9B65A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E29-2154-4FD6-ABDB-159D55F8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E4A-B4D6-4E31-8306-09BC96F9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914-F139-4458-BDE2-38063BA6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DF9-7823-49EC-810F-912F8F8F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951-8075-4251-9ADF-3C5C0939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F4F-AF83-429A-A9FC-BD86C85B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668-1CAE-47F4-B2D4-B60CA8B8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2DB6-4EFB-452F-80C6-38FFEF485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1499760"/>
            <a:ext cx="3454200" cy="29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Лес – это жизнь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5013360"/>
            <a:ext cx="8569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ель: Русанова Валентина Степановна, учитель математики МКОУ – Верх – Алеусской СОШ Ордынского района Новосибирской обла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Фото 196"/>
          <p:cNvPicPr/>
          <p:nvPr/>
        </p:nvPicPr>
        <p:blipFill>
          <a:blip r:embed="rId1"/>
          <a:stretch/>
        </p:blipFill>
        <p:spPr>
          <a:xfrm>
            <a:off x="4284720" y="692280"/>
            <a:ext cx="42480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Фото 233"/>
          <p:cNvPicPr/>
          <p:nvPr/>
        </p:nvPicPr>
        <p:blipFill>
          <a:blip r:embed="rId1"/>
          <a:stretch/>
        </p:blipFill>
        <p:spPr>
          <a:xfrm>
            <a:off x="684360" y="907920"/>
            <a:ext cx="7991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Фото 080"/>
          <p:cNvPicPr/>
          <p:nvPr/>
        </p:nvPicPr>
        <p:blipFill>
          <a:blip r:embed="rId1"/>
          <a:stretch/>
        </p:blipFill>
        <p:spPr>
          <a:xfrm>
            <a:off x="468360" y="907920"/>
            <a:ext cx="8207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Лес, зелёный лес!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Изображение 1418"/>
          <p:cNvPicPr/>
          <p:nvPr/>
        </p:nvPicPr>
        <p:blipFill>
          <a:blip r:embed="rId1"/>
          <a:stretch/>
        </p:blipFill>
        <p:spPr>
          <a:xfrm>
            <a:off x="611280" y="1413000"/>
            <a:ext cx="7921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Чтобы вновь твои услышать сказ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Фото 075"/>
          <p:cNvPicPr/>
          <p:nvPr/>
        </p:nvPicPr>
        <p:blipFill>
          <a:blip r:embed="rId1"/>
          <a:stretch/>
        </p:blipFill>
        <p:spPr>
          <a:xfrm>
            <a:off x="611280" y="1700280"/>
            <a:ext cx="806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6624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Чтоб твои увидеть крас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5" descr="IMG_1079"/>
          <p:cNvPicPr/>
          <p:nvPr/>
        </p:nvPicPr>
        <p:blipFill>
          <a:blip r:embed="rId1"/>
          <a:stretch/>
        </p:blipFill>
        <p:spPr>
          <a:xfrm>
            <a:off x="1258920" y="1268280"/>
            <a:ext cx="6049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Чтобы вновь вкусить твоих чуде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Фото 042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6985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Будем мы беречь тебя, зелёный лес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7" descr="Изображение 1504"/>
          <p:cNvPicPr/>
          <p:nvPr/>
        </p:nvPicPr>
        <p:blipFill>
          <a:blip r:embed="rId1"/>
          <a:stretch/>
        </p:blipFill>
        <p:spPr>
          <a:xfrm>
            <a:off x="755640" y="1628640"/>
            <a:ext cx="756144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autoRev="1" nodeType="withEffect" fill="hold" presetClass="path" presetID="29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.00226 0.05394 C 0.0092 0.04051 0.01632 0.02593 0.02327 0.00718 C 0.04219 -0.04606 0.04722 -0.09814 0.03334 -0.10601 C 0.01927 -0.1155 -0.00781 -0.078 -0.02673 -0.02476 C -0.0368 0.00325 -0.04271 0.02987 -0.04479 0.05 C -0.04774 0.06598 -0.04878 0.08195 -0.04878 0.1007 C -0.04878 0.16065 -0.03576 0.20996 -0.02066 0.20996 C -0.00573 0.20996 0.00729 0.16065 0.00729 0.1007 C 0.00729 0.07269 0.00434 0.04584 -0.00069 0.02732 C -0.00278 0.01135 -0.00781 -0.00601 -0.01371 -0.02337 C -0.03368 -0.078 -0.06076 -0.1155 -0.07482 -0.10601 C -0.08871 -0.09675 -0.08368 -0.04606 -0.06371 0.00857 C -0.05573 0.03403 -0.04479 0.05533 -0.03368 0.06991 C -0.02569 0.08334 -0.01666 0.09538 -0.00469 0.10718 C 0.03125 0.14584 0.06719 0.1632 0.07726 0.14723 C 0.08629 0.13125 0.06632 0.08727 0.03021 0.05 C 0.01528 0.03403 -0.00069 0.022 -0.01371 0.01389 C -0.02569 0.00602 -0.0408 -0.00069 -0.05677 -0.00462 C -0.10069 -0.01805 -0.13871 -0.01412 -0.14166 0.00718 C -0.14566 0.02732 -0.11267 0.05394 -0.06875 0.06737 C -0.04878 0.07269 -0.02969 0.07524 -0.01475 0.07385 C -0.00173 0.07385 0.01233 0.0713 0.02726 0.06737 C 0.07118 0.05394 0.10434 0.02593 0.10018 0.00602 C 0.09722 -0.01412 0.0592 -0.01944 0.01528 -0.00601 C -0.00573 0.0007 -0.02482 0.00996 -0.03767 0.02061 C -0.04878 0.02871 -0.05972 0.03797 -0.0717 0.05 C -0.10677 0.08866 -0.12778 0.13125 -0.11771 0.14723 C -0.10868 0.1632 -0.0717 0.14584 -0.0368 0.10857 C -0.01979 0.09005 -0.00573 0.0713 0.00226 0.05394 Z">
                                      <p:cBhvr>
                                        <p:cTn id="8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6696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Фото 125"/>
          <p:cNvPicPr/>
          <p:nvPr/>
        </p:nvPicPr>
        <p:blipFill>
          <a:blip r:embed="rId1"/>
          <a:stretch/>
        </p:blipFill>
        <p:spPr>
          <a:xfrm>
            <a:off x="611280" y="1413000"/>
            <a:ext cx="77770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autoRev="1" nodeType="withEffect" fill="hold" presetClass="path" presetID="29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.00226 0.05394 C 0.0092 0.04051 0.01632 0.02593 0.02327 0.00718 C 0.04219 -0.04606 0.04722 -0.09814 0.03334 -0.10601 C 0.01927 -0.1155 -0.00781 -0.078 -0.02673 -0.02476 C -0.0368 0.00325 -0.04271 0.02987 -0.04479 0.05 C -0.04774 0.06598 -0.04878 0.08195 -0.04878 0.1007 C -0.04878 0.16065 -0.03576 0.20996 -0.02066 0.20996 C -0.00573 0.20996 0.00729 0.16065 0.00729 0.1007 C 0.00729 0.07269 0.00434 0.04584 -0.00069 0.02732 C -0.00278 0.01135 -0.00781 -0.00601 -0.01371 -0.02337 C -0.03368 -0.078 -0.06076 -0.1155 -0.07482 -0.10601 C -0.08871 -0.09675 -0.08368 -0.04606 -0.06371 0.00857 C -0.05573 0.03403 -0.04479 0.05533 -0.03368 0.06991 C -0.02569 0.08334 -0.01666 0.09538 -0.00469 0.10718 C 0.03125 0.14584 0.06719 0.1632 0.07726 0.14723 C 0.08629 0.13125 0.06632 0.08727 0.03021 0.05 C 0.01528 0.03403 -0.00069 0.022 -0.01371 0.01389 C -0.02569 0.00602 -0.0408 -0.00069 -0.05677 -0.00462 C -0.10069 -0.01805 -0.13871 -0.01412 -0.14166 0.00718 C -0.14566 0.02732 -0.11267 0.05394 -0.06875 0.06737 C -0.04878 0.07269 -0.02969 0.07524 -0.01475 0.07385 C -0.00173 0.07385 0.01233 0.0713 0.02726 0.06737 C 0.07118 0.05394 0.10434 0.02593 0.10018 0.00602 C 0.09722 -0.01412 0.0592 -0.01944 0.01528 -0.00601 C -0.00573 0.0007 -0.02482 0.00996 -0.03767 0.02061 C -0.04878 0.02871 -0.05972 0.03797 -0.0717 0.05 C -0.10677 0.08866 -0.12778 0.13125 -0.11771 0.14723 C -0.10868 0.1632 -0.0717 0.14584 -0.0368 0.10857 C -0.01979 0.09005 -0.00573 0.0713 0.00226 0.05394 Z">
                                      <p:cBhvr>
                                        <p:cTn id="8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075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Фотографии из личного архи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Русановой Валентины Степано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5545080" cy="11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Лес – краса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1" descr="Фото 188"/>
          <p:cNvPicPr/>
          <p:nvPr/>
        </p:nvPicPr>
        <p:blipFill>
          <a:blip r:embed="rId1"/>
          <a:stretch/>
        </p:blipFill>
        <p:spPr>
          <a:xfrm>
            <a:off x="755640" y="1700280"/>
            <a:ext cx="7704000" cy="482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ЛЮБУЮСЬ, БОР, ТВОЕЙ КРАСОЮ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СМОЛИСТЫЙ, СОЛНЕЧНЫЙ И СВЕТЛЫЙ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СТОИШЬ ВЫСОКО НАД   РЕКОЮ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РАСКИНУВ В НЕБО ЛАПЫ- ВЕТВИ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Изображение 1076"/>
          <p:cNvPicPr/>
          <p:nvPr/>
        </p:nvPicPr>
        <p:blipFill>
          <a:blip r:embed="rId1"/>
          <a:stretch/>
        </p:blipFill>
        <p:spPr>
          <a:xfrm>
            <a:off x="684360" y="1600200"/>
            <a:ext cx="7848360" cy="4924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ОНИ ГОРЯТ КОСТРОМ ЯНТАРНЫМ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СТРУИТСЯ ВОЗДУХ АРОМАТОМ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ХРАНИШЬ В МОЛВЕ ТЫ ХВОИ ТАЙНЫ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И СВЕТИШЬ  КРАСКАМИ ЗАКАТА.</a:t>
            </a:r>
            <a:br>
              <a:rPr sz="1600"/>
            </a:b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2565000"/>
            <a:ext cx="8002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Фото 031"/>
          <p:cNvPicPr/>
          <p:nvPr/>
        </p:nvPicPr>
        <p:blipFill>
          <a:blip r:embed="rId1"/>
          <a:stretch/>
        </p:blipFill>
        <p:spPr>
          <a:xfrm>
            <a:off x="611280" y="1700280"/>
            <a:ext cx="806436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ТЫ ВЕКОВОЙ КРАСОЙ МОГУЧЕЙ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ВЛЕЧЕШЬ К СЕБЕ ПРИЗЫВНО, ВЛАСТНО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КОРА БЛЕСТИТ СМОЛОЙ ПАХУЧЕЙ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СИЯЕТ СВЕТОМ ЖЕЛТО-КРАСНЫМ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5" descr="Изображение 1105"/>
          <p:cNvPicPr/>
          <p:nvPr/>
        </p:nvPicPr>
        <p:blipFill>
          <a:blip r:embed="rId1"/>
          <a:stretch/>
        </p:blipFill>
        <p:spPr>
          <a:xfrm>
            <a:off x="1332000" y="1844640"/>
            <a:ext cx="6408720" cy="446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692280"/>
            <a:ext cx="51850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ЗДЕСЬ ДЫШИТСЯ ЛЕГКО,  СВОБОДНО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ЗДЕСЬ ВЕТЕР ТЕПЛЫЙ ДУШУ ГРЕЕТ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И РАДОСТЬ ЛЬЕТСЯ В СЕРДЦЕ ЗВОНКО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ЖИЗНЬ ВОЗРОЖДАЕТСЯ, СВЕТЛЕЕТ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Изображение 1381"/>
          <p:cNvPicPr/>
          <p:nvPr/>
        </p:nvPicPr>
        <p:blipFill>
          <a:blip r:embed="rId1"/>
          <a:stretch/>
        </p:blipFill>
        <p:spPr>
          <a:xfrm>
            <a:off x="539640" y="1989000"/>
            <a:ext cx="792000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84000" y="549360"/>
            <a:ext cx="475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УХОДЯТ БЫТИЯ ВОЛНЕНЬЯ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ПРИРОДА БЛАГОДАТЬ ВЛИВАЕТ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А С НЕЙ – ВСЕГДА  ПОРА ЦВЕТЕНЬЯ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ЗДЕСЬ ЧУВСТВА СНОВА ОЖИВАЮТ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Изображение 1370"/>
          <p:cNvPicPr/>
          <p:nvPr/>
        </p:nvPicPr>
        <p:blipFill>
          <a:blip r:embed="rId1"/>
          <a:stretch/>
        </p:blipFill>
        <p:spPr>
          <a:xfrm>
            <a:off x="826920" y="1700280"/>
            <a:ext cx="756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И ЛУЧШЕ БЛАГА НАМ НЕ НАДО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ПРИРОДА — ЭТО БОЖИЙ ДАР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ОНА НАМ ЛУЧШАЯ НАГРАДА,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ДЛЯ ВСЕХ, КТО МОЛОД ИЛИ СТАР.</a:t>
            </a:r>
            <a:br>
              <a:rPr sz="1600"/>
            </a:b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Фото 073"/>
          <p:cNvPicPr/>
          <p:nvPr/>
        </p:nvPicPr>
        <p:blipFill>
          <a:blip r:embed="rId1"/>
          <a:stretch/>
        </p:blipFill>
        <p:spPr>
          <a:xfrm>
            <a:off x="611280" y="170028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Лес – место жизни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DSC01247"/>
          <p:cNvPicPr/>
          <p:nvPr/>
        </p:nvPicPr>
        <p:blipFill>
          <a:blip r:embed="rId1"/>
          <a:stretch/>
        </p:blipFill>
        <p:spPr>
          <a:xfrm>
            <a:off x="468360" y="1413000"/>
            <a:ext cx="8136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09:45:12Z</dcterms:created>
  <dc:creator>User</dc:creator>
  <dc:description/>
  <dc:language>en-US</dc:language>
  <cp:lastModifiedBy>231019</cp:lastModifiedBy>
  <dcterms:modified xsi:type="dcterms:W3CDTF">2019-12-20T22:56:13Z</dcterms:modified>
  <cp:revision>23</cp:revision>
  <dc:subject/>
  <dc:title>Слайд 1</dc:title>
</cp:coreProperties>
</file>