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3713-66DF-4BEB-A3D4-C7A687FD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DDF9-01D8-4007-8065-685F4ECD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A722-712C-47B4-A827-526F3A02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B78-8334-4DEA-BDF6-99432DE9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2365-5141-4D7B-8C8D-1A770B94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CF68-98CE-42B5-BCE2-EC79538E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A351-C4DE-4188-80B0-4160303F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0FF2-486C-470C-9BE9-631F9479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8661-4E84-4088-AAB1-678F1218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60BD-F0BE-4551-A63C-E335986B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D547-3DC1-49B9-A210-8BF748AE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7B6C-76B1-4272-93CD-9E19021B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4B73-8633-429B-8117-AC77C609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1D2B-0F21-4970-AD41-E6BF3739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A01C-150D-4640-9CBE-5DC2AE9A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22FE-FE98-4205-B0E8-A87F3B2D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B3C5-8FB2-43B0-9222-0CB4A748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C8D5-29EE-49D0-92D7-8AC789AE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DC3F-8FD0-4759-97E2-1BA45DD2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D8F7-7F8C-4B8F-8181-6808E206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DA49-AF77-4DEF-9B1E-881FD453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7883-133B-4908-90B3-25C8556A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95EF-9799-4F56-9C5E-3D79274D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E05-E6B7-4D05-B136-3A79B9FA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E90F-15C3-4138-AA5F-DCC6283385C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E2A8-517C-4B69-9F58-0E53AE61A39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kiv.instrao.ru/" TargetMode="External"/><Relationship Id="rId2" Type="http://schemas.openxmlformats.org/officeDocument/2006/relationships/hyperlink" Target="http://skiv.instrao.ru/" TargetMode="External"/><Relationship Id="rId3" Type="http://schemas.openxmlformats.org/officeDocument/2006/relationships/hyperlink" Target="http://skiv.instrao.ru/" TargetMode="External"/><Relationship Id="rId4" Type="http://schemas.openxmlformats.org/officeDocument/2006/relationships/hyperlink" Target="http://skiv.instrao.ru/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kiv.instrao.ru/support/demonstratsionnye-materialya/matematicheskaya-gramotnost.php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981080" y="2438280"/>
            <a:ext cx="5639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ематическая грамотность — способность определять и понимать роль математики, высказывать хорошо обоснованные математические суждения и находить необходимые математические инструменты для решения современных повседневных задач и научных проб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SA. Система оц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37160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ниматься математикой в реальной жизни — это в том числе принимать правильные решения при большом числе возможных вариантов, избегать финансовых пирамид, использовать формальную логику при оценке событий и помнить, что чудо — это вероятность, подкрепленная большим количеством шан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27672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другой стороны, математика — это универсальный способ описания физического мира, в котором мы живем, его закономерностей. Пусть с ее помощью нельзя описать чувства, зато их можно выразить с помощью идеального строя музыкального ряда или фотографии, композиция которой построена по правилу золотого с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90720" y="1752480"/>
            <a:ext cx="746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айте «Учи.ру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потренироваться решать задачи и даже олимпиадные задания. Занимаясь на сайте, вы вместе с ребенком сможете убедиться, что математика — это и шифровки, и построение фигур по теням, и числовые пирамиды, и задачи про раздел шоколадок, и развертки, и многое друг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9480" y="129528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сожалению, онлайн-ресурсов по увлекательной математике на русском языке не так много, зато среди сайтов на английском есть по-настоящему гениальные! Познакомиться с ними — это неплохой повод не только улучшить математическую грамотность, но и потренировать английский язык. Кроме того, большинство видеороликов настолько наглядны, что все понятно и без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45720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кс Беллос в книге «Красота в квадрате» рассказывает про цифры, которые нас окружают в жизни — и рассказывает вс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5053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 том, как математика учит критическому мышлению в повседневной жизни, рассказывает профессор математики Джордан Элленберг в книге «Как не ошибаться. Сила математического мышле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атериалы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НСТИТУТА РАЗВИТИЯ СТРАТЕГИИ ОБРАЗОВА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</a:t>
            </a: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://</a:t>
            </a: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skiv.instrao.ru</a:t>
            </a: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68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skiv.instrao.ru/support/demonstratsionnye-materialya/matematicheskaya-gramotnost.php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62120" y="1295280"/>
            <a:ext cx="792468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90720" y="774720"/>
            <a:ext cx="708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Математическая грамотность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это способность индивидуума проводить математические рассуждения и формулировать, применять, интерпретировать математику для решения проблем в разнообразных контекстах реального ми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на включает использование математических понятий, процедур, фактов и инструментов, чтобы описать, объяснить и предсказать яв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на помогает людям понять роль математики в мире, высказывать хорошо обоснованные суждения и принимать решения, которые необходимы конструктивному, активному и размышляющему гражданину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685800"/>
            <a:ext cx="670536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собое внимание к оценке математических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рассуж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овая точка зрения на связь между математическими рассуждениями и решением поставленной проблем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ля решения проблемы математически грамотный учащийся сначала должен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увидеть математическую природу проблемы, представленной в контексте реального мира, и сформулировать ее на языке математики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Это преобразование требует математических рассуждений и, возможно, является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центральным компонентом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ого, что значит быть математически грамо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омпьютерное модел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228600"/>
            <a:ext cx="762012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труктура оценки математической грамот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Математическое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которое используется в тестовых заданиях (предметное ядро функциональной грамотности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зменения и зависимости (алгебр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остранство и форма (геометри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еопределенность и данные (ТВ и статист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оличество (арифмет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Когнитивные процессы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(составляющие интеллектуальной деятельности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которые описывают, что делает ученик, чтобы связать контекст, в котором представлена проблема, с математикой, необходимой для её ре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Формулировать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итуацию математ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Применять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атематические понятия, факты, процед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Интерпретировать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использовать и оценивать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Рассужд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Контекст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 котором представлена пробл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Личная жизнь –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ир челов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Общественная жизнь –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ир социу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Образование/профессиональная деятельно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ир професс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Научная деятельность –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ир нау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2057400"/>
            <a:ext cx="7925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сты PISA, проверяющие математическую грамотность школьников, содержат задания прикладного характера: например, рассчитать процент по кредиту или сделать прогноз роста уровня продаж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последним результатам, 15-летние школьники из России заним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ста чуть выше среднего среди 65 стран. Это фактически означает, что применение академических знаний в области математики для решения конкретных задач дается ребятам с большим тру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зультаты апроба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200"/>
                </a:solidFill>
                <a:latin typeface="Comic Sans MS"/>
              </a:rPr>
              <a:t>Положительное: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учащиеся практически не пропускают задания, очень мало ответов «не знаю», «не могу решить», есть положительные отзывы о задачах («интересное задание»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Отрицательное: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значительная часть демонстрирует </a:t>
            </a:r>
            <a:r>
              <a:rPr b="0" i="1" lang="ru-RU" sz="1600" spc="-1" strike="noStrike">
                <a:solidFill>
                  <a:srgbClr val="ff0000"/>
                </a:solidFill>
                <a:latin typeface="Comic Sans MS"/>
              </a:rPr>
              <a:t>неготовность вычленять математические аспекты из реальной ситуации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ыбирать существенную информацию, обрабатывать, используя математический аппарат. Не понимают, когда надо привлекать жизненный опыт, а когда математические зна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 понимают, что означает «доказать», «обосновать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т развития навыков смыслового чтения. Плохо читают условие, не сопоставляют текстовую и табличную, графическую информацию, не используют справочную информацию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являют известные недостатки: несформированность чувства числа, недостаточность вычислительной подготовки, развития геометрических представлений, воображения, навыков измерения геометрических величин, неумение решать даже учебные задач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870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Что делать для формирования математической грамотност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мнить о системности формируемых математических знаний, о необходимости теоретической и практической предметной баз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рмировать готовность к взаимодействию с математической стороной окружающего мира -погружать в реальные ситуации (отдельные задания; цепочки заданий, объединенных ситуацией, проектные работы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рмировать опытпоиска путей решения жизненных задач, учить математическому моделированиюреальных ситуаций и переносить способы решения учебных задач на реальны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вивать когнитивную сферу, учить познавать мир, решать задачи разными способа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рмировать коммуникативную, читательскую, информационную, социальную компетенц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вивать регулятивную сферу и рефлексию: учить планировать деятельность, конструировать алгоритмы (вычисления, построения и пр.), контролировать процесс и результат, выполнять проверку на соответствие исходным данным и правдоподобие, коррекцию и оценку результата 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1430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обнее о том, почему так важно быть математически грамотным в XXI веке, рассказывает советский и американский математик, профессор Калифорнийско-го университета в Беркли Эдуард Френкель, автор книги «Любовь и математ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312408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ематика лежит в основе критического мышления, а критическое мышление — один из важнейших навыков XXI века, который необходим, чтобы не утонуть в море ненужной информации, объективно ее анализировать и обобщать, эффективно решать зада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позволять манипулировать своим мнением и решениями, не стать жертвой непроверенных фактов и сомнительной статис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66680" y="457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омощью математики мы отвечаем на простые бытовые вопросы и сложные вопросы социальной и политической жизн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1295280"/>
            <a:ext cx="7391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сколько нужно выйти из дома, чтобы успеть до окончания регистрации рейса,с учетом дня недели, времени суток и вида транспорта, на котором мы будем добира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оздать безопасный пароль, не используя даты рождения близких (в любых ком-бинациях) и при этом легко его запомин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ли доверять результатам социологических опросов? А результатам тестиро-вания лекарст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оздаются статистические исследования и насколько они отражают реальную карт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ли выиграть в лотерею и ка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покупать через Интернет и на что обращать внимание при распродаж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15T13:09:26Z</dcterms:created>
  <dc:creator>Константин</dc:creator>
  <dc:description/>
  <dc:language>en-US</dc:language>
  <cp:lastModifiedBy>Пользователь Windows</cp:lastModifiedBy>
  <dcterms:modified xsi:type="dcterms:W3CDTF">2019-12-22T15:52:2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