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8.gif" ContentType="image/gif"/>
  <Override PartName="/ppt/media/image24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7DED-3484-4916-A770-1E4EA340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4BFE-118B-441C-BD33-20865630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278-8952-4A36-AB89-9114A4AF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0CD0-1BE4-4ECA-8093-679726A4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0F8-D275-4308-A772-4E304C21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6D2D-74A8-4924-926D-F39A2C15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6AA-739E-47AF-BEDA-5E20225E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A06-345F-4CA6-ADD9-6BC263E2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4A9-6A2C-42A7-95EB-743C2C56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DDB-F070-4BEA-9FB1-0216C798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5837-9BFB-43F7-86AD-2B4BFE31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4EA-83F0-4F46-88FD-69167F37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E1EA-E1C4-4C9F-9970-497F859511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04920" y="47242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114800" y="1905120"/>
            <a:ext cx="472428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НАША РОДИНА - РОС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3434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63360">
            <a:solidFill>
              <a:srgbClr val="ccff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юбовь к Родине. Что значит быть патри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63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-main-pic" descr="Картинка 21 из 160"/>
          <p:cNvPicPr/>
          <p:nvPr/>
        </p:nvPicPr>
        <p:blipFill>
          <a:blip r:embed="rId1"/>
          <a:srcRect l="11393" t="13792" r="3078" b="0"/>
          <a:stretch/>
        </p:blipFill>
        <p:spPr>
          <a:xfrm>
            <a:off x="228600" y="91440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rcRect l="5496" t="5892" r="6512" b="5892"/>
          <a:stretch/>
        </p:blipFill>
        <p:spPr>
          <a:xfrm>
            <a:off x="7416720" y="91440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2590920" cy="2019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4"/>
          <a:stretch/>
        </p:blipFill>
        <p:spPr>
          <a:xfrm>
            <a:off x="6400800" y="3200400"/>
            <a:ext cx="25542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5"/>
          <a:stretch/>
        </p:blipFill>
        <p:spPr>
          <a:xfrm>
            <a:off x="4724280" y="3200400"/>
            <a:ext cx="1305000" cy="1917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6"/>
          <a:stretch/>
        </p:blipFill>
        <p:spPr>
          <a:xfrm>
            <a:off x="3352680" y="5126040"/>
            <a:ext cx="2548080" cy="1731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7"/>
          <a:stretch/>
        </p:blipFill>
        <p:spPr>
          <a:xfrm>
            <a:off x="6400800" y="5181480"/>
            <a:ext cx="2362320" cy="1576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"/>
          <p:cNvPicPr/>
          <p:nvPr/>
        </p:nvPicPr>
        <p:blipFill>
          <a:blip r:embed="rId8"/>
          <a:stretch/>
        </p:blipFill>
        <p:spPr>
          <a:xfrm>
            <a:off x="3048120" y="3200400"/>
            <a:ext cx="1430280" cy="1905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9"/>
          <a:stretch/>
        </p:blipFill>
        <p:spPr>
          <a:xfrm>
            <a:off x="533520" y="5257800"/>
            <a:ext cx="1873080" cy="1422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3"/>
          <p:cNvSpPr/>
          <p:nvPr/>
        </p:nvSpPr>
        <p:spPr>
          <a:xfrm>
            <a:off x="2057400" y="914400"/>
            <a:ext cx="53341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атриот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— тот, кто любит свое отечество, предан своему народу, готов на жертвы и подвиги во имя интересов своей Родины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Словарь В. И.Да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атриот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человек, одушевлённый патриотизмом, или человек, преданный интересам какого-нибудь дела, горячо любящий что-нибудь”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Словарь С.И.Ожег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63360">
            <a:solidFill>
              <a:srgbClr val="ccff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юбовь к Родине. Что значит быть патри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63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2895480" y="1981080"/>
            <a:ext cx="2667240" cy="2743200"/>
          </a:xfrm>
          <a:prstGeom prst="pi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атрио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4419720" y="1295280"/>
            <a:ext cx="4038480" cy="609840"/>
          </a:xfrm>
          <a:prstGeom prst="wedgeRectCallout">
            <a:avLst>
              <a:gd name="adj1" fmla="val -50194"/>
              <a:gd name="adj2" fmla="val 1054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готовность трудиться и служить на благо Род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 flipH="1">
            <a:off x="228600" y="1295280"/>
            <a:ext cx="3733920" cy="1371600"/>
          </a:xfrm>
          <a:prstGeom prst="wedgeRectCallout">
            <a:avLst>
              <a:gd name="adj1" fmla="val -46814"/>
              <a:gd name="adj2" fmla="val 697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любовь и уважение к Родине, гордость за нее, чувство преданности, долга и ответственности перед стра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5257800" y="2133720"/>
            <a:ext cx="3657600" cy="761760"/>
          </a:xfrm>
          <a:prstGeom prst="wedgeRectCallout">
            <a:avLst>
              <a:gd name="adj1" fmla="val -52560"/>
              <a:gd name="adj2" fmla="val 121875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отовность защищать отечество и служить в ар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 flipH="1">
            <a:off x="227880" y="2819520"/>
            <a:ext cx="2590920" cy="1066680"/>
          </a:xfrm>
          <a:prstGeom prst="wedgeRectCallout">
            <a:avLst>
              <a:gd name="adj1" fmla="val -72856"/>
              <a:gd name="adj2" fmla="val 87495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важение к историческому прошлому От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228600" y="4724280"/>
            <a:ext cx="3048120" cy="1143000"/>
          </a:xfrm>
          <a:prstGeom prst="wedgeRectCallout">
            <a:avLst>
              <a:gd name="adj1" fmla="val 55574"/>
              <a:gd name="adj2" fmla="val -8361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нтернационализм, толерантность в национальном вопро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5715000" y="3352680"/>
            <a:ext cx="3124080" cy="1143000"/>
          </a:xfrm>
          <a:prstGeom prst="wedgeRectCallout">
            <a:avLst>
              <a:gd name="adj1" fmla="val -77847"/>
              <a:gd name="adj2" fmla="val -177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Вера в возрождение России, активное участие в этом проце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5105520" y="4724280"/>
            <a:ext cx="3733560" cy="609840"/>
          </a:xfrm>
          <a:prstGeom prst="wedgeRectCallout">
            <a:avLst>
              <a:gd name="adj1" fmla="val -54550"/>
              <a:gd name="adj2" fmla="val -1255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оддержка отечественного производ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 flipV="1">
            <a:off x="3352680" y="5409360"/>
            <a:ext cx="4191120" cy="685800"/>
          </a:xfrm>
          <a:prstGeom prst="wedgeRectCallout">
            <a:avLst>
              <a:gd name="adj1" fmla="val -29435"/>
              <a:gd name="adj2" fmla="val 228472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граждан в выборах (избирать и быть избранны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66120" y="6172200"/>
            <a:ext cx="7727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patria» 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с греч.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атриот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dr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с лат.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ец - Оте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59694_thumb"/>
          <p:cNvPicPr/>
          <p:nvPr/>
        </p:nvPicPr>
        <p:blipFill>
          <a:blip r:embed="rId1"/>
          <a:stretch/>
        </p:blipFill>
        <p:spPr>
          <a:xfrm>
            <a:off x="3505320" y="3429000"/>
            <a:ext cx="13716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63360">
            <a:solidFill>
              <a:srgbClr val="ccff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юбовь к Родине. Что значит быть патри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63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228600" y="914400"/>
            <a:ext cx="3276720" cy="6094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Жил на свете человек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rcRect l="8750" t="0" r="9033" b="8834"/>
          <a:stretch/>
        </p:blipFill>
        <p:spPr>
          <a:xfrm>
            <a:off x="380880" y="1523880"/>
            <a:ext cx="1357560" cy="1905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1676520" y="1523880"/>
            <a:ext cx="21333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ладимир Иван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аль, энциклопедист, филолог, знаток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676520" y="3048120"/>
            <a:ext cx="1752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. 162 учебн.: би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733920" y="990720"/>
            <a:ext cx="5181480" cy="564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Даль В. И. Пословицы русского нар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Где жить, тем и слы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В каком народе живешь, того и обычья держи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Хвали заморье (чужую сторону), а сиди дом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За морем веселье, да чужое, а у нас и горе, да св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воя печаль чужой радости дорож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Глупа та птица, которой гнездо свое немил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 родной сторонки и ворона (и собачка) ми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воя земля и в горсти ми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Без корня и полынь не раст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Всяк кулик свое болото хвал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На чужой стороне и весна не красна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воя ноша не тянет, свой дым глаз не ес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Родимая сторона — мать, чужая — маче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Где сосна взросла, там она и крас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Где кто родится, там и пригодит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 родной (родительской) земли — умри, не сход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Ищи добра на стороне, а дом люби по старин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04920" y="3962520"/>
            <a:ext cx="3352680" cy="260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аточно ли родиться в том или ином месте, чтобы считаться патриот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 вы думаете, можно ли назвать В. И. Даля патриот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ведите примеры таких людей, которые были истинными сынами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означает слово «федерация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субъект Федер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ясни, что значит быть патрио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русский язык является государственным в Российской Федера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1047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Comic Sans MS"/>
              </a:rPr>
              <a:t>ПОСПО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ворят, что никакой любви к Родине не существует: человек просто привыкает к тому месту, где родился и вы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ужно принять закон, по которому людям будет запрещено покидать свою Родину, чтобы они потом не испытывали ностальгию и не страдали от тоски по Род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ворят, что если бы на месте России образовалось несколько небольших государств, то их граждане жили бы значительно луч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рильские острова, которые отошли к нам после разгрома Японии во Второй мировой войне нужно отдать Японии за очень большие деньги. Ведь на этих островах живёт очень мало россиян и там ничего не раст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устров Крым – жемчужина Причерноморья – в советское время был ошибочно передан Укра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1047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Comic Sans MS"/>
              </a:rPr>
              <a:t>ПОСПО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страна находится в трудном положении, то лучше всего подождать ее выхода из этого положения, а уж потом заявлять о своем патриоти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повышения авторитета страны не очень важно, что человек делает. Ведь никто не будет уважать стану, если ее граждане молчат о своей любви к Роди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тоящий патриот не позволит другим гражданам пользоваться богатствами России, даже если они работают, обучаются в университетах, отдыхают на курортах. Пусть они это делают у себя д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ужно сделать так, чтобы все люди одной национальности поживали только в своем субъек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сийская Федерация должна помогать своим субъектам, а они ей ничего не должны – она и так силь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1047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68160" y="333360"/>
            <a:ext cx="6692760" cy="650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68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99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узн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им способ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му научили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ие испытывали трудно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о ли было на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2h3[1]"/>
          <p:cNvPicPr/>
          <p:nvPr/>
        </p:nvPicPr>
        <p:blipFill>
          <a:blip r:embed="rId3"/>
          <a:stretch/>
        </p:blipFill>
        <p:spPr>
          <a:xfrm rot="16200000">
            <a:off x="7733160" y="51120"/>
            <a:ext cx="70668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63360">
            <a:solidFill>
              <a:srgbClr val="ccffcc"/>
            </a:solidFill>
            <a:miter/>
          </a:ln>
          <a:effectLst>
            <a:outerShdw dist="36147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Понятия, терм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00999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оссия, Российская Федера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убъекты Федер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ногонациональный народ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единый народ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циональность, нац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олерант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ногонациональная куль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914040"/>
          </a:xfrm>
          <a:prstGeom prst="rect">
            <a:avLst/>
          </a:prstGeom>
          <a:noFill/>
          <a:ln w="63360">
            <a:solidFill>
              <a:srgbClr val="ccffcc"/>
            </a:solidFill>
            <a:miter/>
          </a:ln>
          <a:effectLst>
            <a:outerShdw dist="36147" dir="2700000" blurRad="0" rotWithShape="0">
              <a:srgbClr val="ffff00"/>
            </a:outerShdw>
          </a:effectLst>
        </p:spPr>
        <p:txBody>
          <a:bodyPr lIns="121680" rIns="121680" tIns="78480" bIns="78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7619760" cy="5467320"/>
          </a:xfrm>
          <a:prstGeom prst="rect">
            <a:avLst/>
          </a:prstGeom>
          <a:solidFill>
            <a:srgbClr val="ffffff"/>
          </a:solidFill>
          <a:ln w="63360">
            <a:solidFill>
              <a:srgbClr val="ccffcc"/>
            </a:solidFill>
            <a:miter/>
          </a:ln>
          <a:effectLst>
            <a:outerShdw dist="36147" dir="2700000" blurRad="0" rotWithShape="0">
              <a:srgbClr val="009999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каком народе живёшь, того и обычая держ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 родной стороне и камешек зна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сяк кулик своё болото хва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 чужой стороне и весна не 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ужая сторона – мач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63360">
            <a:solidFill>
              <a:srgbClr val="ccffcc"/>
            </a:solidFill>
            <a:miter/>
          </a:ln>
          <a:effectLst>
            <a:outerShdw dist="36147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Актуализация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zvonok"/>
          <p:cNvPicPr/>
          <p:nvPr/>
        </p:nvPicPr>
        <p:blipFill>
          <a:blip r:embed="rId1"/>
          <a:stretch/>
        </p:blipFill>
        <p:spPr>
          <a:xfrm>
            <a:off x="0" y="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781520"/>
          </a:xfrm>
          <a:prstGeom prst="rect">
            <a:avLst/>
          </a:prstGeom>
          <a:noFill/>
          <a:ln w="63360">
            <a:solidFill>
              <a:srgbClr val="ccffcc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Вспомни!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Как называлась наша страна в прошлом? Как называется сейчас? Какие войны нашей страны назывались Отечественными? Какие стихи о Родине ты помнишь наизусть? Какие пословицы о Родине знае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одумай!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Comic Sans MS"/>
              </a:rPr>
              <a:t>Что такое Родина? Что значит любить Родину? За что её нужно любить? Как понимаешь пословицу: «Плоха птица, которой родное гнездо не мило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Федеральные округа.jpg"/>
          <p:cNvPicPr/>
          <p:nvPr/>
        </p:nvPicPr>
        <p:blipFill>
          <a:blip r:embed="rId1"/>
          <a:stretch/>
        </p:blipFill>
        <p:spPr>
          <a:xfrm>
            <a:off x="285840" y="1000080"/>
            <a:ext cx="8572320" cy="55008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2" name="Прямоугольник 4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497800" cy="735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539640" y="1125360"/>
            <a:ext cx="80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)Какие выводы вы можете сделать, изучив карт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)Какой народ был основателем нашего огромного государ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719880" y="5468760"/>
            <a:ext cx="71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арнау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80880" y="3809880"/>
            <a:ext cx="22860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63360">
            <a:solidFill>
              <a:srgbClr val="ccff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8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оссийская Фед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63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russia-4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0" y="1295280"/>
            <a:ext cx="4876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юз равноправных членов единого цел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5451480"/>
            <a:ext cx="36576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5 равноправных субъек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1 республика, 9 краёв, 46 областей, 1 автономная область, 4 автономных округа, 3 города федерального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4267080" y="990720"/>
            <a:ext cx="487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из участников такого объединения - субъект Федерации - имеет необходимые признаки полноценного государственного образ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вою территор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вои органы в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вой основной закон - конституцию или уста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вой герб, фла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2160" y="1777680"/>
            <a:ext cx="35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толица Россий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едераци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город-герой Моск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63360">
            <a:solidFill>
              <a:srgbClr val="ccff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8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оссийская Фед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63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532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380880" y="1143000"/>
            <a:ext cx="83822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ссия- многонациональное государство, также подразделяется на 7 федеральных округов, в каждом из них работает полномочный представитель презид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457200" y="304920"/>
            <a:ext cx="8229600" cy="698400"/>
          </a:xfrm>
          <a:prstGeom prst="rect">
            <a:avLst/>
          </a:prstGeom>
          <a:solidFill>
            <a:srgbClr val="ffff00"/>
          </a:solidFill>
          <a:ln w="63360">
            <a:solidFill>
              <a:srgbClr val="ccff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 Многонациональное государство.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усский язык – государ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1275718840_1ya-russkij-"/>
          <p:cNvPicPr/>
          <p:nvPr/>
        </p:nvPicPr>
        <p:blipFill>
          <a:blip r:embed="rId1"/>
          <a:srcRect l="7716" t="7769" r="7716" b="23020"/>
          <a:stretch/>
        </p:blipFill>
        <p:spPr>
          <a:xfrm>
            <a:off x="228600" y="1066680"/>
            <a:ext cx="8763120" cy="56502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228600" y="1066680"/>
            <a:ext cx="70102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знаки государственного язы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фициальное использование его в государственном делопроизводстве (на русском языке пишутся официальные государственные документы, ведутся переговоры с другими государствам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бязательное изучение его в школах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28600" y="5410080"/>
            <a:ext cx="3962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народ относится к своему языку и какие пословицы о русском языке говорят о его значении в жизни нар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28600" y="3276720"/>
            <a:ext cx="2209680" cy="338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егите наш язык, наш прекрасный русский язык, — это клад, это достояние, переданное нам нашими предшественниками! Обращайтесь почтительно с этим могущественным орудием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. С. Турген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90920" y="3886200"/>
            <a:ext cx="2057400" cy="2724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вишься драгоценности нашего языка: что ни звук, то и подарок: все зернисто, крупно, как сам жемчуг, и, право, иное названье еще драгоценней самой вещ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 В. Гого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800600" y="4267080"/>
            <a:ext cx="1981080" cy="2286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ие русские слова сами по себе излучают поэзию, подобно тому, как драгоценные камни излучают таинственный блеск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Г. Паустов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858000" y="3962520"/>
            <a:ext cx="2133720" cy="256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ий язык в умелых руках и в опытных устах— красив, певуч, выразителен, гибок, послушен, ловок и вместителен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И. Купр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gogol1"/>
          <p:cNvPicPr/>
          <p:nvPr/>
        </p:nvPicPr>
        <p:blipFill>
          <a:blip r:embed="rId1"/>
          <a:srcRect l="6004" t="5558" r="6004" b="7090"/>
          <a:stretch/>
        </p:blipFill>
        <p:spPr>
          <a:xfrm>
            <a:off x="2590920" y="1066680"/>
            <a:ext cx="2000160" cy="2590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106_3"/>
          <p:cNvPicPr/>
          <p:nvPr/>
        </p:nvPicPr>
        <p:blipFill>
          <a:blip r:embed="rId2"/>
          <a:stretch/>
        </p:blipFill>
        <p:spPr>
          <a:xfrm>
            <a:off x="304920" y="1066680"/>
            <a:ext cx="1877760" cy="2210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200x320"/>
          <p:cNvPicPr/>
          <p:nvPr/>
        </p:nvPicPr>
        <p:blipFill>
          <a:blip r:embed="rId3"/>
          <a:stretch/>
        </p:blipFill>
        <p:spPr>
          <a:xfrm>
            <a:off x="4800600" y="1066680"/>
            <a:ext cx="1905120" cy="3048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1349705924_ukraina-v-tvorchestve-kuprina"/>
          <p:cNvPicPr/>
          <p:nvPr/>
        </p:nvPicPr>
        <p:blipFill>
          <a:blip r:embed="rId4"/>
          <a:stretch/>
        </p:blipFill>
        <p:spPr>
          <a:xfrm>
            <a:off x="6858000" y="1295280"/>
            <a:ext cx="2101680" cy="25671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/>
          <p:cNvSpPr/>
          <p:nvPr/>
        </p:nvSpPr>
        <p:spPr>
          <a:xfrm>
            <a:off x="457200" y="304920"/>
            <a:ext cx="8229600" cy="698400"/>
          </a:xfrm>
          <a:prstGeom prst="rect">
            <a:avLst/>
          </a:prstGeom>
          <a:solidFill>
            <a:srgbClr val="ffff00"/>
          </a:solidFill>
          <a:ln w="63360">
            <a:solidFill>
              <a:srgbClr val="ccff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 Многонациональное государство.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усский язык – государ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6-03-11T05:44:1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