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446A-F6DF-4BAB-912C-F03A1366AB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BF0B-5DF7-4F32-A1CC-B230523850B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ADB4-5041-45AB-8C90-E00E6070C8D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AA1D-2BE7-424F-B342-DAA2DA564DD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36D0-F8DA-4F53-9D9D-6DC96FF4813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5B21-EAB2-40F1-BA1F-50705D320C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CCB2-8159-4746-ABC0-2A650C0232D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5327-6649-40BE-B3E7-9A68F6786C3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86E1-E773-4849-969D-88F94BBC59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0455-CF50-4754-BD62-CD14557E901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2FC6-5AA8-4874-A595-BCD948C8FFA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275E-8E7A-46B5-BC97-B5014020767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FDCF-0046-42EE-9607-707A0CD4B67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D4F9-C575-45A8-8F26-325ABF24F51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FBB-E8A0-4CC3-8EB0-98FB3A61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5EB-6628-4384-8B84-F8B4E9D2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53D-B958-4D0E-8123-324AB2F1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982-CED8-44AE-A2F6-EBF61A85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1E5C-A058-4AB3-BEE0-7DB9929D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CC61-2943-461B-9FC3-2D3DD3D1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0C23-860C-4996-A1CF-D5F68AF6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1028-70D1-47B0-BE8C-6736CF6E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6600-65C5-4F79-84F9-C00B8941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58AF-82EF-4EEE-AC8C-3A072B97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3808-3AC7-4509-A9C5-954C9FE9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5BC-B1A6-4081-A3F6-847EE1FC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7FAE-2B08-4A5F-AB74-D90AC862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276F-561C-4921-8F43-2BEC900E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412C-4460-4E67-A8DA-37783EC3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F79D-91FF-48B9-B1F9-29A2D78E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7813-FABD-4687-A801-D880ADA6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D5AC1-078F-499B-9C34-4A479C7B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81C4-D4C4-4BCE-99EF-CA90F83A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B47C4-1607-4332-A182-A9C7A5C4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CC930-5170-49FC-A7BC-464A206D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2309-3761-4BD1-A574-D3CB4152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D9A-E0FD-48F8-8D84-761174A8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AB01E-910B-42E3-AAB9-55E90E53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BB99C-BF04-4274-AC22-CB8CE2ED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B691A-5AEE-4F17-99AC-EE4E7286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44BC3-E65A-4B22-B529-7AC85F3A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0422-82FB-4DFB-A416-D957F30B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361B4-4021-4D1A-B7ED-7C82C8DD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1CC97-C2A2-4099-94B5-F9DEB241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9EB01-3DEC-4402-A025-9B0B18EE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B79ED-C10B-4B2D-87FF-6BA44986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42103-E05E-44FC-8717-26873783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C70-4BF9-4673-A296-5D2E1745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C1F50-7DE1-49BB-A558-05C7CFD5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2F46E-D1BD-4999-A44E-CDE4EC72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7EC25-4BA8-4265-8923-AEE104CB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81704-BE6B-4D00-A033-EBA060FA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5CFEF-BB39-470F-BABC-663AC247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E6F56-6E42-4786-A60A-55294782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B0375-53BE-48A9-AA40-37BD51CC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57435-2512-46A9-B609-99A90785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1324B-C358-4455-831C-EDD5D021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0F063-1C15-475B-B7B7-66E2A7F5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586-C21E-4C63-BDAD-807A0346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5E073-FBA2-4FAA-9DED-7CAAD44D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60FAA-082E-4E62-B8DC-F322BC3E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7D0CC-75A8-421A-B60D-EDB9E1CC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B4025-CB74-4B45-9D20-A440AA80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FFDD1-FB72-4FE4-89BD-8BEEE4A4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208D4-C03B-4AF0-AC69-765C597A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A6B4B-2234-4A24-914D-55292E09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E67ED-CA27-40B0-B29F-D203CFA5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53AF9-2517-4329-A939-C510CB02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62C83-B19E-4100-882E-BDCD70F8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8AE-1B71-4C25-83C9-5CC26296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87123-100A-4EEB-AD93-080D0E3D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AE0D7-17D6-4A0D-B008-CFFA9EE1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6C136-DF82-480E-9BCA-C619B308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7119D-08E5-4F02-83EE-D4655896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FB734-C527-41C5-997C-0EF34BC5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0A8A9-F73D-4156-9120-DFDD14DC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F7524-40AD-4B94-BB2F-6B67F92D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98C8C-5B7C-45A2-8C91-BAAFBDCE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BE1A9-365D-4D2C-BB31-C5F6C511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6F76A-55D5-4D1E-AD40-405303DA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E24-6A87-49C2-8A01-82407974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76411-21AE-44D9-A22E-8466F6CC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689A1-0750-41F0-A229-AB2B62EC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1FD85-C260-4E8E-B080-E8F3B0F2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DD292-CA24-4653-B8AD-76083CBF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5FBBB-0EB6-4C43-A154-43034DFC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315C1-2E1E-4BE7-868A-61B3DCFE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C4C8F-D0E3-4F22-80DE-91582821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B76A3-01E4-4BC4-BB5D-E5D9BCAE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BD966-3581-4018-8515-214981E3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BE93E-7691-4516-A999-4E3EFA39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A79-4FA0-4097-AEEE-63F4ADF1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F4B52-A87B-44B1-91FB-3057664A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C7163-E8FE-4A0B-B576-C921BE24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61F93-B481-4817-9B84-9F7BF0A1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EF9D4-531E-48DA-BEC5-F1CEBD64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D2CD2-A155-48B1-85BC-5246341D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F8D1C-DD27-47FA-B190-383A6173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D023B-8190-4A25-824F-3E99CC73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0DEC8-9293-4F20-80EB-1155EB40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2CA76-3A5B-44D9-9939-44E72017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1A23B-532E-43C6-B435-2A9495B2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89A-CA59-4635-AE75-0C5F05E0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AA28D-D166-471A-B7EF-70D968C1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06D13-B9D5-46EA-A891-8429D8AD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F0946-900F-4D28-95D0-10CDDE6D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52FF1-724E-429D-A6D8-926347E4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53F9B-5B75-46CC-A2C7-86A2DA79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28C39-8B93-4647-A7CB-23B0A5F3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EE9A8-58AC-4DB1-BEB3-4EE3BF41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C16F-F10A-4AD9-AB76-3785FA8E72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1A94-C113-48F0-8110-511B6F770CC7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8B94-AEA8-42FD-BDA3-2718A4C7C0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5BA3-0E4A-4473-A740-BF02B12339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4C6B-96C2-4A14-B177-C6A4F066B9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C31C-E040-430E-8C64-60723966D2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6889-4702-47B7-B497-7CCB368231FD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79DA-44B9-4B4A-9BFA-101762E427E5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Горизонтальный свиток 3"/>
          <p:cNvSpPr/>
          <p:nvPr/>
        </p:nvSpPr>
        <p:spPr>
          <a:xfrm>
            <a:off x="642960" y="1071720"/>
            <a:ext cx="8286840" cy="457200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564760" cy="43833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42920" y="214200"/>
          <a:ext cx="8858160" cy="6348600"/>
        </p:xfrm>
        <a:graphic>
          <a:graphicData uri="http://schemas.openxmlformats.org/drawingml/2006/table">
            <a:tbl>
              <a:tblPr/>
              <a:tblGrid>
                <a:gridCol w="2000160"/>
                <a:gridCol w="2428920"/>
                <a:gridCol w="2214720"/>
                <a:gridCol w="2214360"/>
              </a:tblGrid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радиционные инструмен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инструменты, предложенные ИКТ средствам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методические компетенции педагог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словия реализаци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0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99" name="Прямоугольник 2"/>
          <p:cNvSpPr/>
          <p:nvPr/>
        </p:nvSpPr>
        <p:spPr>
          <a:xfrm>
            <a:off x="142920" y="157176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нструменты подготовки методической папки, статистики, отчётов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0" name="Прямоугольник 3"/>
          <p:cNvSpPr/>
          <p:nvPr/>
        </p:nvSpPr>
        <p:spPr>
          <a:xfrm>
            <a:off x="2214720" y="16430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Электронные табличные системы и базы данны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Прямоугольник 5"/>
          <p:cNvSpPr/>
          <p:nvPr/>
        </p:nvSpPr>
        <p:spPr>
          <a:xfrm>
            <a:off x="4572000" y="157176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мение готовить тексты, публикации, размещать материалы на сайте школы, формировать отчёты, используя деловую графику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Прямоугольник 6"/>
          <p:cNvSpPr/>
          <p:nvPr/>
        </p:nvSpPr>
        <p:spPr>
          <a:xfrm>
            <a:off x="4572000" y="1571760"/>
            <a:ext cx="228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частвовать в выступлениях на методических семинарах, грамотно подготовиться к аттестационным процедурам, к профессиональным конкурсам, используя все средства ИКТ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Прямоугольник 7"/>
          <p:cNvSpPr/>
          <p:nvPr/>
        </p:nvSpPr>
        <p:spPr>
          <a:xfrm>
            <a:off x="6858000" y="1571760"/>
            <a:ext cx="228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личие в доступе для учителя средств для формирования отчётов, брошюр, записи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, работы на сайте школы, подготовки фото экспозиций, учебных мультимедиа объектов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142920" y="214200"/>
          <a:ext cx="8858160" cy="6348600"/>
        </p:xfrm>
        <a:graphic>
          <a:graphicData uri="http://schemas.openxmlformats.org/drawingml/2006/table">
            <a:tbl>
              <a:tblPr/>
              <a:tblGrid>
                <a:gridCol w="2000160"/>
                <a:gridCol w="2428920"/>
                <a:gridCol w="2214720"/>
                <a:gridCol w="2214360"/>
              </a:tblGrid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радиционные инструмен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инструменты, предложенные ИКТ средствам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методические компетенции педагог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словия реализаци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0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05" name="Прямоугольник 2"/>
          <p:cNvSpPr/>
          <p:nvPr/>
        </p:nvSpPr>
        <p:spPr>
          <a:xfrm>
            <a:off x="142920" y="1571760"/>
            <a:ext cx="200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нструменты сопровождения информационных массивов о детя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2214720" y="16430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азделы АСУ школ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Прямоугольник 5"/>
          <p:cNvSpPr/>
          <p:nvPr/>
        </p:nvSpPr>
        <p:spPr>
          <a:xfrm>
            <a:off x="4572000" y="157176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мение обрабатывать и представлять статистические данные средствами деловой график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142920" y="214200"/>
          <a:ext cx="8858160" cy="6348600"/>
        </p:xfrm>
        <a:graphic>
          <a:graphicData uri="http://schemas.openxmlformats.org/drawingml/2006/table">
            <a:tbl>
              <a:tblPr/>
              <a:tblGrid>
                <a:gridCol w="2000160"/>
                <a:gridCol w="2428920"/>
                <a:gridCol w="2214720"/>
                <a:gridCol w="2214360"/>
              </a:tblGrid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радиционные инструмен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инструменты, предложенные ИКТ средствам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методические компетенции педагог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словия реализаци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0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09" name="Прямоугольник 2"/>
          <p:cNvSpPr/>
          <p:nvPr/>
        </p:nvSpPr>
        <p:spPr>
          <a:xfrm>
            <a:off x="142920" y="1500120"/>
            <a:ext cx="200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нструменты самообразования и подготовки к урока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2214720" y="1571760"/>
            <a:ext cx="228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етевые методические консультативные системы, системы ДО для учителей, сетевые сообщества и конкурсы для педагогов, образовательные порталы, Интернет библиотеки и каталоги ведущих педагогических библиотек стран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Прямоугольник 5"/>
          <p:cNvSpPr/>
          <p:nvPr/>
        </p:nvSpPr>
        <p:spPr>
          <a:xfrm>
            <a:off x="4572000" y="1503360"/>
            <a:ext cx="228600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Умение регистрироваться и участвовать в ДО, форумах, чатах, Веб-сессиях, он-лайн опросах, тестах, анкетированиях, представлять и размещать свой опыт в форме электронного портфолио, пользоваться поисковыми системами, работать с электронными каталогами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Прямоугольник 6"/>
          <p:cNvSpPr/>
          <p:nvPr/>
        </p:nvSpPr>
        <p:spPr>
          <a:xfrm>
            <a:off x="6715080" y="1500120"/>
            <a:ext cx="228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личие подключения  к горячей сети методической службы района, подписка на электронные каталоги и экспозиции библиотек, музеев, подписка на дистанционные курсы, конкурсы, наличие у учителя адреса электронной почт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3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344988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9" descr="people16.gif"/>
          <p:cNvPicPr/>
          <p:nvPr/>
        </p:nvPicPr>
        <p:blipFill>
          <a:blip r:embed="rId2"/>
          <a:stretch/>
        </p:blipFill>
        <p:spPr>
          <a:xfrm>
            <a:off x="414360" y="4435560"/>
            <a:ext cx="1942920" cy="177948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10" descr="people11.gif"/>
          <p:cNvPicPr/>
          <p:nvPr/>
        </p:nvPicPr>
        <p:blipFill>
          <a:blip r:embed="rId3"/>
          <a:stretch/>
        </p:blipFill>
        <p:spPr>
          <a:xfrm>
            <a:off x="6715080" y="285840"/>
            <a:ext cx="186696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142920" y="214200"/>
          <a:ext cx="8858160" cy="6348600"/>
        </p:xfrm>
        <a:graphic>
          <a:graphicData uri="http://schemas.openxmlformats.org/drawingml/2006/table">
            <a:tbl>
              <a:tblPr/>
              <a:tblGrid>
                <a:gridCol w="2000160"/>
                <a:gridCol w="2428920"/>
                <a:gridCol w="2214720"/>
                <a:gridCol w="2214360"/>
              </a:tblGrid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радиционные инструмен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инструменты, предложенные ИКТ средствам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методические компетенции педагог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словия реализаци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0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56" name="Прямоугольник 5"/>
          <p:cNvSpPr/>
          <p:nvPr/>
        </p:nvSpPr>
        <p:spPr>
          <a:xfrm>
            <a:off x="142920" y="15001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чебно-методическая литератур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2214720" y="150012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ЭОР на компакт-дисках, образовательные порталы, национальная коллекция образовательных ресурсов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4643280" y="157176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азличные модели организации урока с использованием ИКТ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Прямоугольник 9"/>
          <p:cNvSpPr/>
          <p:nvPr/>
        </p:nvSpPr>
        <p:spPr>
          <a:xfrm>
            <a:off x="6858000" y="1500120"/>
            <a:ext cx="228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Школьный сервер,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ЛВС школы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ыход в интернет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борудованный медиалекторий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мпьютерный читальный зал библиотеки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едиацентр школ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142920" y="214200"/>
          <a:ext cx="8858160" cy="6348600"/>
        </p:xfrm>
        <a:graphic>
          <a:graphicData uri="http://schemas.openxmlformats.org/drawingml/2006/table">
            <a:tbl>
              <a:tblPr/>
              <a:tblGrid>
                <a:gridCol w="2000160"/>
                <a:gridCol w="2428920"/>
                <a:gridCol w="2214720"/>
                <a:gridCol w="2214360"/>
              </a:tblGrid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радиционные инструмен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инструменты, предложенные ИКТ средствам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методические компетенции педагог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словия реализаци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0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61" name="Прямоугольник 2"/>
          <p:cNvSpPr/>
          <p:nvPr/>
        </p:nvSpPr>
        <p:spPr>
          <a:xfrm>
            <a:off x="433080" y="157176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Доска, мел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2214720" y="150012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нтерактивная доска, медиапроектор, телевизор, магнитофон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Прямоугольник 5"/>
          <p:cNvSpPr/>
          <p:nvPr/>
        </p:nvSpPr>
        <p:spPr>
          <a:xfrm>
            <a:off x="4572000" y="1500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ыступление с презентацией, ведение урока с фрагментами демонстраций на основе ЭОР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Прямоугольник 6"/>
          <p:cNvSpPr/>
          <p:nvPr/>
        </p:nvSpPr>
        <p:spPr>
          <a:xfrm>
            <a:off x="6858000" y="150012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нтерактивная дос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роектор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Телевизор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АРМ учител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142920" y="214200"/>
          <a:ext cx="8858160" cy="6348600"/>
        </p:xfrm>
        <a:graphic>
          <a:graphicData uri="http://schemas.openxmlformats.org/drawingml/2006/table">
            <a:tbl>
              <a:tblPr/>
              <a:tblGrid>
                <a:gridCol w="2000160"/>
                <a:gridCol w="2428920"/>
                <a:gridCol w="2214720"/>
                <a:gridCol w="2214360"/>
              </a:tblGrid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радиционные инструмен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инструменты, предложенные ИКТ средствам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методические компетенции педагог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словия реализаци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0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66" name="Прямоугольник 2"/>
          <p:cNvSpPr/>
          <p:nvPr/>
        </p:nvSpPr>
        <p:spPr>
          <a:xfrm>
            <a:off x="142920" y="15001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глядные материальные пособи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Прямоугольник 3"/>
          <p:cNvSpPr/>
          <p:nvPr/>
        </p:nvSpPr>
        <p:spPr>
          <a:xfrm>
            <a:off x="2214720" y="1571760"/>
            <a:ext cx="228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Электронная библиотека наглядных пособий, электронные плакаты, настольная видеокамера, цифровой микроскоп, граф планшет, компьютерные дополнительные устройств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4572000" y="1500120"/>
            <a:ext cx="228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страивание демо- материалов в урок, подготовка собственных наглядных материалов, формирование видеоурока с трансляцией, проведение дистанционных веб-сессий. Владение навыками работы с дополнительным оборудование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Прямоугольник 6"/>
          <p:cNvSpPr/>
          <p:nvPr/>
        </p:nvSpPr>
        <p:spPr>
          <a:xfrm>
            <a:off x="6858000" y="157176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ллекция ЭОР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еб-камера на АРМ учител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ключение его в ЛВС школы, выход в Интернет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Доступ к сетевому оборудованию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42920" y="214200"/>
          <a:ext cx="8858160" cy="6348600"/>
        </p:xfrm>
        <a:graphic>
          <a:graphicData uri="http://schemas.openxmlformats.org/drawingml/2006/table">
            <a:tbl>
              <a:tblPr/>
              <a:tblGrid>
                <a:gridCol w="2000160"/>
                <a:gridCol w="2428920"/>
                <a:gridCol w="2214720"/>
                <a:gridCol w="2214360"/>
              </a:tblGrid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радиционные инструмен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инструменты, предложенные ИКТ средствам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методические компетенции педагог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словия реализаци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0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71" name="Прямоугольник 2"/>
          <p:cNvSpPr/>
          <p:nvPr/>
        </p:nvSpPr>
        <p:spPr>
          <a:xfrm>
            <a:off x="214200" y="15717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Дидактические материалы для учащихс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2214720" y="157176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Электронные тренажеры, тестовые системы, дистанционные среды обучени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4572000" y="150012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ладение инструментами организации тренингов на компьютере, организация и проведение компьютерного тестирования, владение общими инструментами работы в системе ДО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6858000" y="157176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дключение к системе ДО школы и базам других учебных заведени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42920" y="214200"/>
          <a:ext cx="8858160" cy="6348600"/>
        </p:xfrm>
        <a:graphic>
          <a:graphicData uri="http://schemas.openxmlformats.org/drawingml/2006/table">
            <a:tbl>
              <a:tblPr/>
              <a:tblGrid>
                <a:gridCol w="2000160"/>
                <a:gridCol w="2428920"/>
                <a:gridCol w="2214720"/>
                <a:gridCol w="2214360"/>
              </a:tblGrid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радиционные инструмен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инструменты, предложенные ИКТ средствам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методические компетенции педагог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словия реализаци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0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76" name="Прямоугольник 2"/>
          <p:cNvSpPr/>
          <p:nvPr/>
        </p:nvSpPr>
        <p:spPr>
          <a:xfrm>
            <a:off x="214200" y="1500120"/>
            <a:ext cx="200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Домашние задания и их проверк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нструменты развития творческой активности детей – проектные и исследовательские задания, творческие работ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Прямоугольник 3"/>
          <p:cNvSpPr/>
          <p:nvPr/>
        </p:nvSpPr>
        <p:spPr>
          <a:xfrm>
            <a:off x="2214720" y="1500120"/>
            <a:ext cx="228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нструментальные компьютерные среды со встроенными шаблонами карт, упражнений, поисковые системы, средства для подготовки докладов, презентаций и т.д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4572000" y="1500120"/>
            <a:ext cx="228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мение оценивать задания детей, подготовленных с помощью ИКТ, обучение детей умению выступлений со средствами ИКТ. Владение цифровым оборудованием и инструментами их компьютерного представления и редактировани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6858000" y="1500120"/>
            <a:ext cx="228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редоставление в рамках расписания и внеурочной работы детям и педагогам доступа к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мпьютерным лабораториям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цифровому дополнительному оборудованию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мпьютерам школьной библиотек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142920" y="214200"/>
          <a:ext cx="8858160" cy="6348600"/>
        </p:xfrm>
        <a:graphic>
          <a:graphicData uri="http://schemas.openxmlformats.org/drawingml/2006/table">
            <a:tbl>
              <a:tblPr/>
              <a:tblGrid>
                <a:gridCol w="2000160"/>
                <a:gridCol w="2428920"/>
                <a:gridCol w="2214720"/>
                <a:gridCol w="2214360"/>
              </a:tblGrid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радиционные инструмен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инструменты, предложенные ИКТ средствам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методические компетенции педагог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словия реализаци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0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1" name="Прямоугольник 2"/>
          <p:cNvSpPr/>
          <p:nvPr/>
        </p:nvSpPr>
        <p:spPr>
          <a:xfrm>
            <a:off x="214200" y="1571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Лабораторные практикум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Прямоугольник 3"/>
          <p:cNvSpPr/>
          <p:nvPr/>
        </p:nvSpPr>
        <p:spPr>
          <a:xfrm>
            <a:off x="2214720" y="1571760"/>
            <a:ext cx="228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мпьютерные среды – лаборатории, специализированные цифровые датчики, измерительные приборы и оборудование для исследований, подключаемое к компьютеру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Прямоугольник 5"/>
          <p:cNvSpPr/>
          <p:nvPr/>
        </p:nvSpPr>
        <p:spPr>
          <a:xfrm>
            <a:off x="4572000" y="1500120"/>
            <a:ext cx="228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ладение инструментальными средствами компьютерных лабораторий, демонстрации в интерактивном режиме, конструирование собственных демонстраций и опытов средствами компьютерных лаборатори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Прямоугольник 6"/>
          <p:cNvSpPr/>
          <p:nvPr/>
        </p:nvSpPr>
        <p:spPr>
          <a:xfrm>
            <a:off x="6858000" y="157176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борудование лабораторий школы компьютерным оборудованием и цифровыми проборами и датчикам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42920" y="214200"/>
          <a:ext cx="8858160" cy="6348600"/>
        </p:xfrm>
        <a:graphic>
          <a:graphicData uri="http://schemas.openxmlformats.org/drawingml/2006/table">
            <a:tbl>
              <a:tblPr/>
              <a:tblGrid>
                <a:gridCol w="2000160"/>
                <a:gridCol w="2428920"/>
                <a:gridCol w="2214720"/>
                <a:gridCol w="2214360"/>
              </a:tblGrid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радиционные инструмен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инструменты, предложенные ИКТ средствам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методические компетенции педагог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словия реализаци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0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6" name="Прямоугольник 2"/>
          <p:cNvSpPr/>
          <p:nvPr/>
        </p:nvSpPr>
        <p:spPr>
          <a:xfrm>
            <a:off x="142920" y="1571760"/>
            <a:ext cx="200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Школьные и внеклассные формы воспитания детей (музеи, кружки, экспозиции творческих работ, экскурсии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Прямоугольник 3"/>
          <p:cNvSpPr/>
          <p:nvPr/>
        </p:nvSpPr>
        <p:spPr>
          <a:xfrm>
            <a:off x="2214720" y="1571760"/>
            <a:ext cx="228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Электронные экспозиции музеев, школьные архивы по различным тематическим рубрикам, сетевые среды межшкольных клубов, виртуальные экскурсии в различные уголки мир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4572000" y="1571760"/>
            <a:ext cx="228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нание сетевых интернет-ресурсов музеев, библиотек, путешествий, музыкальных и видео коллекций учебно- воспитательного назначения, умение использовать их в школьных мероприятиях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Прямоугольник 6"/>
          <p:cNvSpPr/>
          <p:nvPr/>
        </p:nvSpPr>
        <p:spPr>
          <a:xfrm>
            <a:off x="4572000" y="1571760"/>
            <a:ext cx="228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мение встраивать в электронные массивы информации собственные материалы, умение оцифровывать текстовый материал, пользоваться копировальным оборудование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Прямоугольник 7"/>
          <p:cNvSpPr/>
          <p:nvPr/>
        </p:nvSpPr>
        <p:spPr>
          <a:xfrm>
            <a:off x="6858000" y="1571760"/>
            <a:ext cx="21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рганизация доступа учителей совместно с детьми к сетевым ресурсам различных территорий, к Интернет-конкурсам и олимпиадам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Прямоугольник 8"/>
          <p:cNvSpPr/>
          <p:nvPr/>
        </p:nvSpPr>
        <p:spPr>
          <a:xfrm>
            <a:off x="6858000" y="1571760"/>
            <a:ext cx="20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редоставление КРМ школы детям для ДО и сетевых образовательных мероприятий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Прямоугольник 9"/>
          <p:cNvSpPr/>
          <p:nvPr/>
        </p:nvSpPr>
        <p:spPr>
          <a:xfrm>
            <a:off x="6858000" y="1571760"/>
            <a:ext cx="214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ыделение компьютеров для школьной организации, создание своего парка цифрового фото и видео оборудования и специальных монтажных мастерских, теле и радиостуди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142920" y="214200"/>
          <a:ext cx="8858160" cy="6348600"/>
        </p:xfrm>
        <a:graphic>
          <a:graphicData uri="http://schemas.openxmlformats.org/drawingml/2006/table">
            <a:tbl>
              <a:tblPr/>
              <a:tblGrid>
                <a:gridCol w="2000160"/>
                <a:gridCol w="2428920"/>
                <a:gridCol w="2214720"/>
                <a:gridCol w="2214360"/>
              </a:tblGrid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радиционные инструмен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инструменты, предложенные ИКТ средствам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вые методические компетенции педагог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словия реализаци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0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94" name="Прямоугольник 2"/>
          <p:cNvSpPr/>
          <p:nvPr/>
        </p:nvSpPr>
        <p:spPr>
          <a:xfrm>
            <a:off x="142920" y="150012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нструменты оценивания и учета учащихся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Прямоугольник 3"/>
          <p:cNvSpPr/>
          <p:nvPr/>
        </p:nvSpPr>
        <p:spPr>
          <a:xfrm>
            <a:off x="2214720" y="157176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Электронные инструментальные средства АСУ школы, электронный журнал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Прямоугольник 5"/>
          <p:cNvSpPr/>
          <p:nvPr/>
        </p:nvSpPr>
        <p:spPr>
          <a:xfrm>
            <a:off x="4572000" y="157176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ладение инструментами АСУ школы, элементами СУБД школьных баз данных, их регулярное заполнение и обновлени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Прямоугольник 6"/>
          <p:cNvSpPr/>
          <p:nvPr/>
        </p:nvSpPr>
        <p:spPr>
          <a:xfrm>
            <a:off x="6858000" y="1571760"/>
            <a:ext cx="214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пециализированные рабочие места для АСУ школой, обучение педагогов использованию АСУ школы в своей работ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8:30:50Z</dcterms:created>
  <dc:creator>сандова</dc:creator>
  <dc:description/>
  <dc:language>en-US</dc:language>
  <cp:lastModifiedBy>сандова</cp:lastModifiedBy>
  <dcterms:modified xsi:type="dcterms:W3CDTF">2009-11-11T22:29:45Z</dcterms:modified>
  <cp:revision>24</cp:revision>
  <dc:subject/>
  <dc:title>Новые профессиональные компетенции педагога в условиях информатизации образования</dc:title>
</cp:coreProperties>
</file>