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35D-60EB-4251-AE6E-FA6ED307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662-2523-4E20-826B-766FBEA2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135-E34F-4B51-B189-7DB77431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186-AE2F-440F-A1D9-B90DDCDC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E5ED-4BFB-4248-8333-176BE4FC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4305-070A-480F-AF7E-AD0D93E8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310C-233D-4D8A-AF67-F17A057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0C57-F376-4F63-BE8F-AA94F0D7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E685-DEE8-4DA4-A01D-FDB8081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A9ED-1138-4F1E-A202-449156B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B5E2-98A7-49B5-ACA8-04AC3E7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EE3-7624-4EFD-A361-760A2038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5A8D-D7B0-4789-87F8-12323CB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EB8-7DB8-49DC-A807-BB037263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457-A9ED-4F22-B119-B12B524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A627-D2CB-4331-A99D-5E0C3808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E4DF-17E8-4370-827D-6169597A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7FC86-3056-4040-BCAF-321128C6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305C3-664E-47F3-85FB-7D7890FA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2662D-B5CD-4F01-A2E3-3BE0319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C4106-7051-44F0-BBAE-44F45DB0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F451D-2B49-42FE-94C1-6B212643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239-6CA1-4478-8C53-1FFA3CFB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BA503-213C-4D9B-B543-453EB6BC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DF4D5-8684-4BCD-B13C-E72F27B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74F84-AB7F-415C-B32D-23C3081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8B86E-EB2C-481B-BD4F-DFDFFA9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FCF5D-3CB2-4219-90F0-1BDDBEB7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C29FA-DBCB-41EB-B2EC-E50B86C6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243D2-183E-4449-A167-93D47142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F30B-F7C1-4852-96C6-3BBA223E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6769C-F261-44E8-858F-F287C45E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449F-5F8D-4658-A36F-F5CB365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78F-F034-487D-87B5-22A34EFE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1814-F179-4FCA-AAFF-4BA9320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0EA8-4542-422B-BB2E-B41428BF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1580-08D7-452B-8B14-C563E64E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483A-D717-4462-BD08-70916E8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1C233-1481-4149-83E8-C7135A3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82BA-E4CD-49DD-AAC2-60A5B320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9182-0874-4D45-AA4C-FD2AD09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A80B-621D-42DD-A69C-744E4CC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BA91-8C64-4FA4-9C1C-7B6D1EDC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59594-8AB7-476F-BB03-82965E19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B4C-51E5-43E8-B05C-D7063E19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0CE1C-AB7F-43A0-803E-4EAC14FB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8A5C6-2551-49A7-8413-C0B26892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7747F-A1CD-4E50-8322-D4F39240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5AF74-892C-448F-A363-D254025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9DEEA-31CF-4E14-A6DB-AEADB870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44094-D841-499B-A16B-E5807C3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DBF39-AC43-48F2-91A0-43DE9F0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375A9-B11E-4B1D-ACBE-CE613647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49B96-A76E-4F35-815B-4447734F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9E988-F20C-496F-B24B-CD9E4502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9FA-C446-4BDF-9998-97C59979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193CF-D518-46E2-A18A-6F558F5E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08B55-3A00-4F59-A0FE-46F4A68E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3910B-C365-43B0-9CE8-FC87B1BB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5366A-E560-4BA0-BE73-62764231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CF351-7525-423D-9A2F-09B9250C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08063-4C19-4B0F-9B25-933DB1A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5B860-8A2A-4248-AAF2-FB74944C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30643-FF42-4A57-9E24-4DEB5153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9CC38-42E8-41CA-B3DD-A428DA6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FA7E3-8600-4037-A60D-024951B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81A-F321-479E-87D6-E2F9EF9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AAE93-6043-4E5E-AFD6-F9C52FFF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E4695-49ED-4775-AD42-E8A9335E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CAC7F-830F-478F-A4BA-C6D3EC41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872E7-9B21-48D5-86FB-06991D68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03A0D-DC1F-4E9B-A886-E2C72F45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A27CD-2374-4FF9-810D-B84DBC8B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2F9EA-9562-43BB-8724-369F2E63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55FED-2E51-47BB-9B91-DB5DCE3B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E0090-B829-4AB3-9669-149244E7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42FED-F023-4F92-88DC-B605EE4D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33B-6C3C-4592-8743-199BB59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09D47-F3FF-4E9D-B899-426BA75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F30C0-83D9-45F5-B1C6-2A6F8D6F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219843-022C-4289-94E3-5859CE42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B914F-3624-4A75-9886-7BE09BC2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98A0B-AE97-43A8-A054-0F1A4250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76D-CD02-4A23-BB27-5B00D97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3F64-C7E2-4A1B-A63C-C32C72B486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3E30-F2A7-4DB7-99C4-54631A95B1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B29-C5BB-48F7-9ACA-4FCBFC679D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B8D5-74CC-48CF-9D1D-84D28626FA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96D1-CA90-4556-9D28-083497CFA1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BC1-1C3A-476B-BD87-2A0C497C37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AC5-7712-40D5-9588-7854819296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branstvo.ru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>
                <a:solidFill>
                  <a:srgbClr val="575f6d"/>
                </a:solidFill>
                <a:latin typeface="Century Schoolbook"/>
              </a:rPr>
              <a:t>«ОТ ПЕЧАТНОЙ КНИГИ ДО ИНТЕРНЕТ – КНИГИ».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C:\Users\Света\Desktop\i (4).jpg"/>
          <p:cNvPicPr/>
          <p:nvPr/>
        </p:nvPicPr>
        <p:blipFill>
          <a:blip r:embed="rId1"/>
          <a:stretch/>
        </p:blipFill>
        <p:spPr>
          <a:xfrm>
            <a:off x="6858000" y="68580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C:\Users\Света\Desktop\i (7).jpg"/>
          <p:cNvPicPr/>
          <p:nvPr/>
        </p:nvPicPr>
        <p:blipFill>
          <a:blip r:embed="rId2"/>
          <a:stretch/>
        </p:blipFill>
        <p:spPr>
          <a:xfrm rot="20463600">
            <a:off x="6324480" y="4571640"/>
            <a:ext cx="1086120" cy="1428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C:\Users\Света\Desktop\i (22).jpg"/>
          <p:cNvPicPr/>
          <p:nvPr/>
        </p:nvPicPr>
        <p:blipFill>
          <a:blip r:embed="rId3"/>
          <a:stretch/>
        </p:blipFill>
        <p:spPr>
          <a:xfrm>
            <a:off x="2286000" y="3049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«ПЕРВАЯ КНИГА НА РУСИ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432080" y="2779560"/>
            <a:ext cx="603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048120" y="24382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432080" y="2322360"/>
            <a:ext cx="474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736640" y="2703600"/>
            <a:ext cx="474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38080" y="106884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омирово Евангелие — древнейшая русская книга. Более того, вообще славянских книг древнее этой рукописи наука не знает. Для истории нашей культуры первая книга — очень важный факт. Нам сегодня трудно осознать ценность отдельно взятой книги — ведь в наши дни книги могут печататься милионными тираж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 вплоть до шестнадцатого века, т.е. до появления книгопечатания на Руси, каждая книга была произведением искусства, каждая — была драгоценностью. Драгоценным был не только материал — пергамент, драгоценным был и труд писцов и художников, вручную создававших книги. И первая книга для нации — это огромная культурная ценность, это, по существу, отправная точка национальной письменн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к Федор Иванович Буслаев (1818—1897) ввел Остромирово Евангелие в курс преподавания истории русского языка. Его диссертация «О влиянии христианства на славянский язык» (1848) имела подзаголовок: «Опыт истории языка по Остромирову Евангелию». В XX веке Остромирово Евангелие изучали историки, слависты, языковеды, литературоведы, искусствоведы, и даже музыков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1_4_6"/>
          <p:cNvPicPr/>
          <p:nvPr/>
        </p:nvPicPr>
        <p:blipFill>
          <a:blip r:embed="rId1"/>
          <a:stretch/>
        </p:blipFill>
        <p:spPr>
          <a:xfrm>
            <a:off x="380880" y="228600"/>
            <a:ext cx="2922840" cy="4505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i (37)"/>
          <p:cNvPicPr/>
          <p:nvPr/>
        </p:nvPicPr>
        <p:blipFill>
          <a:blip r:embed="rId2"/>
          <a:stretch/>
        </p:blipFill>
        <p:spPr>
          <a:xfrm rot="21064800">
            <a:off x="4041720" y="3540240"/>
            <a:ext cx="3581280" cy="2290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i (38)"/>
          <p:cNvPicPr/>
          <p:nvPr/>
        </p:nvPicPr>
        <p:blipFill>
          <a:blip r:embed="rId3"/>
          <a:stretch/>
        </p:blipFill>
        <p:spPr>
          <a:xfrm rot="945000">
            <a:off x="6418080" y="655560"/>
            <a:ext cx="1741320" cy="2057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C:\Users\Света\Desktop\08_1h.jpg"/>
          <p:cNvPicPr/>
          <p:nvPr/>
        </p:nvPicPr>
        <p:blipFill>
          <a:blip r:embed="rId4"/>
          <a:stretch/>
        </p:blipFill>
        <p:spPr>
          <a:xfrm>
            <a:off x="3809880" y="457200"/>
            <a:ext cx="1573200" cy="2514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C:\Users\Света\Desktop\i (6).jpg"/>
          <p:cNvPicPr/>
          <p:nvPr/>
        </p:nvPicPr>
        <p:blipFill>
          <a:blip r:embed="rId5"/>
          <a:stretch/>
        </p:blipFill>
        <p:spPr>
          <a:xfrm>
            <a:off x="914400" y="4876920"/>
            <a:ext cx="1190520" cy="142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«РУССКОЕ КНИГОПЕЧАТАНИЕ В 17 ВЕКЕ»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ВЛИЯНИЕ ВНЕШНИХ ФАКТОРОВ НЕ МОГЛО НЕ СКАЗАТЬСЯ НА РАЗВИТИИ ОБРАЗОВАНИЯ, НАУКИ И КУЛЬТУРЫ. БОЛЬШИНСТВО НАСЕЛЕНИЯ СТРАНЫ БЫЛО БЕЗГРАМОТНЫМ, ОТСУТСТВОВАЛО ЖЕНСКОЕ ОБРАЗОВАНИЕ, В ШКОЛЕ ОБУЧАЛИ ЛИШЬ АЗАМ ГРАМОТЫ И ОСНОВАМ ПРАВОСЛАВИЯ. НО, НЕСМОТРЯ НА ВСЕ ЭТО, В 17 ВЕКЕ НЕ УМИРАЕТ КНИЖНОЕ ДЕЛО – ПРОДОЛЖАЕТСЯ СОЗДАНИЕ РУКОПИСЕЙ И ВЫПУСК ПЕЧАТНЫХ КНИГ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СЛЕДУЕТ ОТМЕТИТЬ, ЧТО В ЦЕЛОМ ТЕНДЕНЦИЯ РАЗВИТИЯ ПЕЧАТНОГО ДЕЛА В РОССИИ НОСИЛА ПРОТИВОПОЛОЖНЫЙ ХАРАКТЕР ОТ ТЕНДЕНЦИИ ЕВРОПЕЙСКОЙ. ЕСЛИ В ЕВРОПЕ ПРЕВАЛИРОВАЛА ДЕЯТЕЛЬНОСТЬ ЧАСТНЫХ ТИПОГРАФИЙ, ТО В РОССИИ МОНОПОЛИСТАМИ КНИЖНОГО ИЗДАТЕЛЬСТВА БЫЛИ ГОСУДАРСТВО И ЦЕРКОВЬ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ЕЩЕ ОДНОЙ ОСОБЕННОСТЬЮ РАЗВИТИЯ КНИЖНОГО ДЕЛА СТАЛО ТО, ЧТО ЗАМЕТНУЮ РОЛЬ В НАЧАЛЕ 17 ВЕКА ИГРАЛА РУКОПИСНАЯ КНИГА. ПЕЧАТНЫЕ И 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РУКОПИСНЫЕ КНИГ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  СУЩЕСТВОВАЛИ ВМЕСТЕ, ЗАЧАСТУЮ ОКАЗЫВАЛИ ВЛИЯНИЕ ДРУГ НА ДРУГА. ОДНИМ ИЗ СПОСОБОВ ЭТОГО ВЛИЯНИЯ ЯВЛЯЛАСЬ ПЕРЕПИСКА ПЕЧАТНЫХ ИЗДАНИЙ, КОГДА ПИСЦЫ ПОДРАЖАЛИ ОБРАЗЦАМ ПЕЧАТНЫХ ИЗДАНИЙ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knigi"/>
          <p:cNvPicPr/>
          <p:nvPr/>
        </p:nvPicPr>
        <p:blipFill>
          <a:blip r:embed="rId1"/>
          <a:stretch/>
        </p:blipFill>
        <p:spPr>
          <a:xfrm>
            <a:off x="838080" y="304920"/>
            <a:ext cx="3538800" cy="3581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C:\Users\Света\Desktop\i (23).jpg"/>
          <p:cNvPicPr/>
          <p:nvPr/>
        </p:nvPicPr>
        <p:blipFill>
          <a:blip r:embed="rId2"/>
          <a:stretch/>
        </p:blipFill>
        <p:spPr>
          <a:xfrm>
            <a:off x="2743200" y="4648320"/>
            <a:ext cx="2203560" cy="1857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C:\Users\Света\Desktop\pervope4atnik.jpg"/>
          <p:cNvPicPr/>
          <p:nvPr/>
        </p:nvPicPr>
        <p:blipFill>
          <a:blip r:embed="rId3"/>
          <a:stretch/>
        </p:blipFill>
        <p:spPr>
          <a:xfrm>
            <a:off x="5334120" y="457200"/>
            <a:ext cx="2546280" cy="349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C:\Users\Света\Desktop\i (3).jpg"/>
          <p:cNvPicPr/>
          <p:nvPr/>
        </p:nvPicPr>
        <p:blipFill>
          <a:blip r:embed="rId4"/>
          <a:stretch/>
        </p:blipFill>
        <p:spPr>
          <a:xfrm>
            <a:off x="6629400" y="4876920"/>
            <a:ext cx="961920" cy="1428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C:\Users\Света\Desktop\i.jpg"/>
          <p:cNvPicPr/>
          <p:nvPr/>
        </p:nvPicPr>
        <p:blipFill>
          <a:blip r:embed="rId5"/>
          <a:stretch/>
        </p:blipFill>
        <p:spPr>
          <a:xfrm>
            <a:off x="457200" y="5029200"/>
            <a:ext cx="140652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Schoolbook"/>
              </a:rPr>
              <a:t>ЗНАЕШЬ,- ОБРАТИЛАСЬ Я К СВОЕЙ ПОДРУГЕ АННЕ.- ТАКОЕ ОЩУЩЕНИЕ, ЧТО АНЕКДОТ ПРО ПИСАТЕЛЕЙ ПРАВДА</a:t>
            </a:r>
            <a:r>
              <a:rPr b="0" lang="en-US" sz="1600" spc="-1" strike="noStrike">
                <a:solidFill>
                  <a:srgbClr val="a6a6a6"/>
                </a:solidFill>
                <a:latin typeface="Century Schoolbook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e75c01"/>
                </a:solidFill>
                <a:latin typeface="Century Schoolbook"/>
              </a:rPr>
              <a:t>КАКОЙ ИМЕННО?- ОЖИВИЛАСЬ ОНА.</a:t>
            </a:r>
            <a:br>
              <a:rPr sz="1600"/>
            </a:br>
            <a:r>
              <a:rPr b="0" lang="en-US" sz="1600" spc="-1" strike="noStrike">
                <a:solidFill>
                  <a:srgbClr val="575f6d"/>
                </a:solidFill>
                <a:latin typeface="Century Schoolbook"/>
              </a:rPr>
              <a:t>НУ ЧТО СЕЙЧАС ПИШУТ ВСЕ КОМУ НЕ ЛЕНЬ, НО К СЧАСТЬЮ МНОГИМ ЛЕНЬ. ТОЧНЕЕ ЭТО НЕ ПРО ПИСАТЕЛЕЙ. Я ЗАШЛА НА НЕСКОЛЬКО ФОРУМОВ ДЛЯ НАЧИНАЮЩИХ ПИСАТЕЛЕЙ И ОБНАРУЖИЛА, ЧТО БОЛЬШИНСТВО ПИШЕТ КАК- ТО ПО-ДЕТСКИ, КРАСИВЫЕ ОБОРОТЫ, СРАВНЕНИЯ ПОЧТИ ИСЧЕЗЛИ. Я БЫ ОЧЕНЬ ХОТЕЛА ПИСАТЬ!</a:t>
            </a:r>
            <a:br>
              <a:rPr sz="1600"/>
            </a:br>
            <a:r>
              <a:rPr b="0" lang="en-US" sz="1600" spc="-1" strike="noStrike">
                <a:solidFill>
                  <a:srgbClr val="d2611c"/>
                </a:solidFill>
                <a:latin typeface="Century Schoolbook"/>
              </a:rPr>
              <a:t>В ЧЁМ ЖЕ ДЕЛО?</a:t>
            </a:r>
            <a:br>
              <a:rPr sz="1600"/>
            </a:br>
            <a:r>
              <a:rPr b="0" lang="en-US" sz="1600" spc="-1" strike="noStrike">
                <a:solidFill>
                  <a:srgbClr val="575f6d"/>
                </a:solidFill>
                <a:latin typeface="Century Schoolbook"/>
              </a:rPr>
              <a:t>УЖЕ НАЧАЛА. ТОЛЬКО…ТЫ ЧИТАЛА СОВРЕМЕННИКОВ? ПО-МОЕМУ, КНИГ СКОРО НЕ БУДЕТ ВОВСЕ. ВОТ УЖЕ ПОЯВИЛИСЬ ЭЛЕКТРОННЫЕ КНИГИ. УЖАС! НЕ ПОНИМАЮ ЭТОГО! ВО-ПЕРВЫХ, ПОРТИТЬ ЗРЕНИЕ, А ВО-ВТОРЫХ, ТЕРЯЕТСЯ РОМАНТИКА, СУТЬ, ИНТЕРЕС! ВЕДЬ ТАК ЗДОРОВО КУПИТЬ НОВУЮ КНИГУ, ПОЛИСТАТЬ СТРАНИЦЫ, ДЕРЖАТЬ ЕЁ В РУКАХ, ЧУВСТВОВАТЬ ЗАПАХ БУМАГИ. ЭТО ОСОБЫЙ ЗАПАХ. ЗДОРОВО СОБИРАТЬ СВОЮ БИБЛИОТЕКУ. А ЧТО БУДЕТ ПОТОМ? МЫ БУДЕМ СОБИРАТЬ БИБЛИОТЕКИ В КОМПЬЮТЕРАХ?! НЕ ХОЧУ!</a:t>
            </a:r>
            <a:br>
              <a:rPr sz="1600"/>
            </a:br>
            <a:r>
              <a:rPr b="0" lang="en-US" sz="1600" spc="-1" strike="noStrike">
                <a:solidFill>
                  <a:srgbClr val="d2611c"/>
                </a:solidFill>
                <a:latin typeface="Century Schoolbook"/>
              </a:rPr>
              <a:t>ДА УЖ, « ПРОГРЕСС».- МАХНУЛА АНЯ РУКОЙ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Электрон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(англ. 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e-book reader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) — общее название группы узкоспециализированных компактных планшетных компьютерных устройств, предназначенных для отображения текстовой информации, представленной в электронном виде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стория создания электронной книги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вые электронные книги появились с первым появлением компьютеров и возможностью печати на принтере и, позже, вывода текста на экран. Так, 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1971 году Майкл  Харт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получил неограниченный доступ ко времени крупного компьютера Sigma V от операторов в университете штата Иллинойс. Пытаясь достойно применить этот ресурс, он создал первую электронную книгу Декларация независимости США, когда впечатал ее текст в компьютер. Так путём создания электронных копий большего количества книг получил начало Проект «Гутенберг»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6" descr="C:\Users\Света\Desktop\i (8).jpg"/>
          <p:cNvPicPr/>
          <p:nvPr/>
        </p:nvPicPr>
        <p:blipFill>
          <a:blip r:embed="rId1"/>
          <a:stretch/>
        </p:blipFill>
        <p:spPr>
          <a:xfrm>
            <a:off x="1600200" y="4952880"/>
            <a:ext cx="2200320" cy="142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:\Users\Света\Desktop\i (7).jpg"/>
          <p:cNvPicPr/>
          <p:nvPr/>
        </p:nvPicPr>
        <p:blipFill>
          <a:blip r:embed="rId2"/>
          <a:stretch/>
        </p:blipFill>
        <p:spPr>
          <a:xfrm>
            <a:off x="5334120" y="4724280"/>
            <a:ext cx="1295280" cy="1704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52280" y="6091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нтересные факты о книга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реднем люди проводят за чтением 6,5 часов в недел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гласно исследованию Йельского университета, три четверти учеников, которые плохо умеют читать в третьем классе, останутся такими в средней школ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написание романа уходит в среднем около 475 час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реднем, покупатель книжного магазина проводит восемь секунд, глядя на переднюю обложку и 15 секунд, просматривая задню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нщины покупают 68% всех кни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ольшинство читателей теряют интерес к книге на 18 страниц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иблиоклептоманом  называют человека, ворующего книги. Один из самых известных  библиоклептоманов — Стивен  Блумберг, который похитил более 23 000 редких книг из 268 библиотек. Чтобы составить свою коллекцию, оценивающуюся примерно в 20 миллионов долларов, Блумберг  применял самые разнообразные методы: иногда он пробирался в библиотеку через вентиляционную систему и даже шахту лиф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рмин «книжный червь» происходит от крошечных насекомых, которые питаются корешками кни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C:\Users\Света\Desktop\i (4).jpg"/>
          <p:cNvPicPr/>
          <p:nvPr/>
        </p:nvPicPr>
        <p:blipFill>
          <a:blip r:embed="rId1"/>
          <a:stretch/>
        </p:blipFill>
        <p:spPr>
          <a:xfrm>
            <a:off x="7543800" y="1522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 rot="19752600">
            <a:off x="455400" y="2586240"/>
            <a:ext cx="77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9" descr="C:\Users\Света\Desktop\i (22).jpg"/>
          <p:cNvPicPr/>
          <p:nvPr/>
        </p:nvPicPr>
        <p:blipFill>
          <a:blip r:embed="rId1"/>
          <a:stretch/>
        </p:blipFill>
        <p:spPr>
          <a:xfrm>
            <a:off x="5943600" y="3352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C:\Users\Света\Desktop\i (5).jpg"/>
          <p:cNvPicPr/>
          <p:nvPr/>
        </p:nvPicPr>
        <p:blipFill>
          <a:blip r:embed="rId2"/>
          <a:stretch/>
        </p:blipFill>
        <p:spPr>
          <a:xfrm>
            <a:off x="533520" y="457200"/>
            <a:ext cx="2295360" cy="142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C:\Users\Света\Desktop\i (23).jpg"/>
          <p:cNvPicPr/>
          <p:nvPr/>
        </p:nvPicPr>
        <p:blipFill>
          <a:blip r:embed="rId3"/>
          <a:stretch/>
        </p:blipFill>
        <p:spPr>
          <a:xfrm rot="622200">
            <a:off x="4087440" y="506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C:\Users\Света\Desktop\i (11).jpg"/>
          <p:cNvPicPr/>
          <p:nvPr/>
        </p:nvPicPr>
        <p:blipFill>
          <a:blip r:embed="rId4"/>
          <a:stretch/>
        </p:blipFill>
        <p:spPr>
          <a:xfrm>
            <a:off x="3048120" y="4724280"/>
            <a:ext cx="147636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7-03-01T12:36:3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