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232B-D40C-4A5C-AB6E-0488378EA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2B1F-071A-4E24-8CDA-970AF133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8773-0E80-4CC1-8B13-43454DFA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8B36-BD03-408E-91F7-7C0BD9A9C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7B1A4-9365-438C-9F80-8E4F85A70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239A9-6310-4365-87F8-66A5ECAE7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21F7E-9D22-4D9D-8660-42F6CE73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1CB97-8617-41CD-B70B-79F24BC6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F3792-B83E-4FC4-9FC3-4DEA93B6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C819-A323-4AA6-B000-3C5A14C2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AC45-68EF-4C73-AD15-FC697BF5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6D67-624C-4C17-8B3C-D4CBBC011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5B2B-8637-4DD4-A220-3281B178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384A5-BCF5-489D-A3B9-ED719C347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77030-326D-46A6-98E3-D53D8004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0B7F-F8B2-47D7-B4F7-3D60F869A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29D3-11E3-4270-B73D-B27A5FB06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8E8A7-F0C9-47E0-BDF6-0048AE16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F0820-58FB-40B6-B16B-DA9769DC2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CC43D5-48AA-4313-97BA-FB84F5328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E0DD0-719E-414D-B59B-D56B8CFD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0AD7F4-AC9E-4A15-B117-770BC61F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5AF7-AD03-474E-8FA8-589207C1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8755F2-8586-4A2D-AC9C-447A2B9B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09B222-6749-4C33-8EFE-FD332012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EF8D2-BB7F-42E4-AA56-113F7A0DD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9FD623-9DE9-46F3-BCF3-FE78A0A7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8A209-89D3-4497-94C2-C096F0895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2BE40F-1195-4CAA-A359-460AC859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1E7888-FC0A-49A4-A24D-9600C58A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D99952-67CE-4B7D-804E-CAA81B958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BF20A-CBCA-430D-9697-251387BF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C8C11-D80E-48B1-938D-48D01F83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6D1C-F20F-4F28-B239-F6B09B96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29EDE-70DF-44AB-8FCF-E61721EA0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9EA0D-649F-4E42-B4D7-1B3977F45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E3A74-2FFD-4233-B86C-5B3A194C9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0F0E6-5812-4AA9-8589-D6907E74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0A63AC-65B6-4203-B182-94FF477B9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F1FBD-A97A-4F2D-BEFD-E1187E4C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EE43D-D5DA-462C-8F90-EBE4C195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8DDC1-57A3-4DF5-A997-71F271B8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5357B-F074-487C-BBB8-E90783354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1B228F-D8D5-4954-8BD4-E86B161A8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F66F-7E2D-415E-AAA1-AF5454680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68F8AF-C33C-45BA-8268-CDC05D5CA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E70D31-69E2-4463-A999-CDA35FEF9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4F2480-4E62-47DD-9AE3-E2C281C5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B347A9-1313-489B-8445-72A03398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52176B-8ED4-4C6A-AEFD-31FEE2E5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094C3B-159E-49CC-B7FD-704D94195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FD61B1-BBE9-4312-A372-A1E469D7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AE000E-3E7A-4532-8E28-AD13BF229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71FFE8-48D6-42B6-A45C-F9B9B2875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E36EBA-D7DF-4793-B2A5-07042477E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A6C8-88A5-4590-811A-1870DE82A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E4F5E5-5DE9-40CD-85EA-A98ED5F94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50EF6E-1F38-4B27-B9D5-00CFAA7A4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7AC9BA-D672-4E6C-ADB9-F4113826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E04FC6-06D0-400C-932C-B5399C56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43048B-489F-4B62-9CF3-7B97E038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57E352-6BD5-4D06-B356-009CF7D8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B6F59E-BE22-4D8F-87D4-E7493B64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29783-E7D4-4BE7-AA23-4FE30B335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9E29A0-D8DA-4074-90F9-8AB6D75F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2C5412-98FA-46D4-B7B5-5C544D24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639-4093-4C40-8ACE-E09A69AB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3C0867-9EBD-4B31-9072-BE999EFB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0B2137-AD3E-4F59-9B29-5007851D3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5FED1F-C685-4CDA-A420-73DB37BFF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85B7F5-4219-4577-AC02-8F9901AC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ABCF9B-E521-4900-ACD4-5590AEAF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A5C77C-B4AE-4C1A-897B-EE9BB0DD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1D9FB1-8068-49B9-8D98-ADA946BD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F4AC50-8EBA-4D6A-A0F3-751C180F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3BEAA35-5B1C-4A41-A058-AB27A97A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71A0F8-5562-4D1B-A006-47533B22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801-279D-47A6-B822-B7FCBE24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458639-64EC-4855-9BDA-0F754530B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59A053-CF34-4E5A-958F-90DA83BDD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13B113-3B5F-40A4-869F-B9EFEA358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39AE21-71E9-4813-B102-6A24E1AA9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EBB76D-82D8-4498-9668-015BC8849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34D8-5EF0-4654-9193-43BEB64F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9E8E-208F-4038-92CC-860BA8D3EC7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FE13-BF86-4AF1-982A-5C52F6B1CA3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0ED9-30DD-42BC-B715-6762CFB499D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6D5C7-E87E-43BB-B164-7B3BF52EE76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284D-A5EF-457C-B905-8C1785FB371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8C9E-9BA8-47CA-A488-E650E0987FD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5F13-6172-4535-981A-B461CE5472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ubranstvo.ru/" TargetMode="External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4343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900" spc="-1" strike="noStrike">
                <a:solidFill>
                  <a:srgbClr val="575f6d"/>
                </a:solidFill>
                <a:latin typeface="Century Schoolbook"/>
              </a:rPr>
              <a:t>«ОТ ПЕЧАТНОЙ КНИГИ ДО ИНТЕРНЕТ – КНИГИ».</a:t>
            </a:r>
            <a:endParaRPr b="0" lang="en-US" sz="5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2" name="Picture 4" descr="C:\Users\Света\Desktop\i (4).jpg"/>
          <p:cNvPicPr/>
          <p:nvPr/>
        </p:nvPicPr>
        <p:blipFill>
          <a:blip r:embed="rId1"/>
          <a:stretch/>
        </p:blipFill>
        <p:spPr>
          <a:xfrm>
            <a:off x="6858000" y="68580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5" descr="C:\Users\Света\Desktop\i (7).jpg"/>
          <p:cNvPicPr/>
          <p:nvPr/>
        </p:nvPicPr>
        <p:blipFill>
          <a:blip r:embed="rId2"/>
          <a:stretch/>
        </p:blipFill>
        <p:spPr>
          <a:xfrm rot="20463600">
            <a:off x="6324480" y="4571640"/>
            <a:ext cx="1086120" cy="1428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6" descr="C:\Users\Света\Desktop\i (22).jpg"/>
          <p:cNvPicPr/>
          <p:nvPr/>
        </p:nvPicPr>
        <p:blipFill>
          <a:blip r:embed="rId3"/>
          <a:stretch/>
        </p:blipFill>
        <p:spPr>
          <a:xfrm>
            <a:off x="2286000" y="304920"/>
            <a:ext cx="1905120" cy="14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entury Schoolbook"/>
              </a:rPr>
              <a:t>«ПЕРВАЯ КНИГА НА РУСИ»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1432080" y="2779560"/>
            <a:ext cx="603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7"/>
          <p:cNvSpPr/>
          <p:nvPr/>
        </p:nvSpPr>
        <p:spPr>
          <a:xfrm>
            <a:off x="3048120" y="24382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8"/>
          <p:cNvSpPr/>
          <p:nvPr/>
        </p:nvSpPr>
        <p:spPr>
          <a:xfrm>
            <a:off x="1432080" y="2322360"/>
            <a:ext cx="4740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1736640" y="2703600"/>
            <a:ext cx="47404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0"/>
          <p:cNvSpPr/>
          <p:nvPr/>
        </p:nvSpPr>
        <p:spPr>
          <a:xfrm>
            <a:off x="838080" y="1068840"/>
            <a:ext cx="7543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тромирово Евангелие — древнейшая русская книга. Более того, вообще славянских книг древнее этой рукописи наука не знает. Для истории нашей культуры первая книга — очень важный факт. Нам сегодня трудно осознать ценность отдельно взятой книги — ведь в наши дни книги могут печататься милионными тиражами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 вплоть до шестнадцатого века, т.е. до появления книгопечатания на Руси, каждая книга была произведением искусства, каждая — была драгоценностью. Драгоценным был не только материал — пергамент, драгоценным был и труд писцов и художников, вручную создававших книги. И первая книга для нации — это огромная культурная ценность, это, по существу, отправная точка национальной письменной культ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адемик Федор Иванович Буслаев (1818—1897) ввел Остромирово Евангелие в курс преподавания истории русского языка. Его диссертация «О влиянии христианства на славянский язык» (1848) имела подзаголовок: «Опыт истории языка по Остромирову Евангелию». В XX веке Остромирово Евангелие изучали историки, слависты, языковеды, литературоведы, искусствоведы, и даже музыков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1_4_6"/>
          <p:cNvPicPr/>
          <p:nvPr/>
        </p:nvPicPr>
        <p:blipFill>
          <a:blip r:embed="rId1"/>
          <a:stretch/>
        </p:blipFill>
        <p:spPr>
          <a:xfrm>
            <a:off x="380880" y="228600"/>
            <a:ext cx="2922840" cy="45054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i (37)"/>
          <p:cNvPicPr/>
          <p:nvPr/>
        </p:nvPicPr>
        <p:blipFill>
          <a:blip r:embed="rId2"/>
          <a:stretch/>
        </p:blipFill>
        <p:spPr>
          <a:xfrm rot="21064800">
            <a:off x="4041720" y="3540240"/>
            <a:ext cx="3581280" cy="22906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i (38)"/>
          <p:cNvPicPr/>
          <p:nvPr/>
        </p:nvPicPr>
        <p:blipFill>
          <a:blip r:embed="rId3"/>
          <a:stretch/>
        </p:blipFill>
        <p:spPr>
          <a:xfrm rot="945000">
            <a:off x="6418080" y="655560"/>
            <a:ext cx="1741320" cy="2057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1" descr="C:\Users\Света\Desktop\08_1h.jpg"/>
          <p:cNvPicPr/>
          <p:nvPr/>
        </p:nvPicPr>
        <p:blipFill>
          <a:blip r:embed="rId4"/>
          <a:stretch/>
        </p:blipFill>
        <p:spPr>
          <a:xfrm>
            <a:off x="3809880" y="457200"/>
            <a:ext cx="1573200" cy="25146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12" descr="C:\Users\Света\Desktop\i (6).jpg"/>
          <p:cNvPicPr/>
          <p:nvPr/>
        </p:nvPicPr>
        <p:blipFill>
          <a:blip r:embed="rId5"/>
          <a:stretch/>
        </p:blipFill>
        <p:spPr>
          <a:xfrm>
            <a:off x="914400" y="4876920"/>
            <a:ext cx="1190520" cy="1428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entury Schoolbook"/>
              </a:rPr>
              <a:t>«РУССКОЕ КНИГОПЕЧАТАНИЕ В 17 ВЕКЕ»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ВЛИЯНИЕ ВНЕШНИХ ФАКТОРОВ НЕ МОГЛО НЕ СКАЗАТЬСЯ НА РАЗВИТИИ ОБРАЗОВАНИЯ, НАУКИ И КУЛЬТУРЫ. БОЛЬШИНСТВО НАСЕЛЕНИЯ СТРАНЫ БЫЛО БЕЗГРАМОТНЫМ, ОТСУТСТВОВАЛО ЖЕНСКОЕ ОБРАЗОВАНИЕ, В ШКОЛЕ ОБУЧАЛИ ЛИШЬ АЗАМ ГРАМОТЫ И ОСНОВАМ ПРАВОСЛАВИЯ. НО, НЕСМОТРЯ НА ВСЕ ЭТО, В 17 ВЕКЕ НЕ УМИРАЕТ КНИЖНОЕ ДЕЛО – ПРОДОЛЖАЕТСЯ СОЗДАНИЕ РУКОПИСЕЙ И ВЫПУСК ПЕЧАТНЫХ КНИГ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СЛЕДУЕТ ОТМЕТИТЬ, ЧТО В ЦЕЛОМ ТЕНДЕНЦИЯ РАЗВИТИЯ ПЕЧАТНОГО ДЕЛА В РОССИИ НОСИЛА ПРОТИВОПОЛОЖНЫЙ ХАРАКТЕР ОТ ТЕНДЕНЦИИ ЕВРОПЕЙСКОЙ. ЕСЛИ В ЕВРОПЕ ПРЕВАЛИРОВАЛА ДЕЯТЕЛЬНОСТЬ ЧАСТНЫХ ТИПОГРАФИЙ, ТО В РОССИИ МОНОПОЛИСТАМИ КНИЖНОГО ИЗДАТЕЛЬСТВА БЫЛИ ГОСУДАРСТВО И ЦЕРКОВЬ.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Century Schoolbook"/>
              </a:rPr>
              <a:t>ЕЩЕ ОДНОЙ ОСОБЕННОСТЬЮ РАЗВИТИЯ КНИЖНОГО ДЕЛА СТАЛО ТО, ЧТО ЗАМЕТНУЮ РОЛЬ В НАЧАЛЕ 17 ВЕКА ИГРАЛА РУКОПИСНАЯ КНИГА. ПЕЧАТНЫЕ И </a:t>
            </a:r>
            <a:r>
              <a:rPr b="0" lang="en-US" sz="1600" spc="-1" strike="noStrike" u="sng">
                <a:solidFill>
                  <a:srgbClr val="d2611c"/>
                </a:solidFill>
                <a:uFillTx/>
                <a:latin typeface="Century Schoolbook"/>
                <a:hlinkClick r:id="rId1"/>
              </a:rPr>
              <a:t>РУКОПИСНЫЕ КНИГИ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entury Schoolbook"/>
              </a:rPr>
              <a:t>  СУЩЕСТВОВАЛИ ВМЕСТЕ, ЗАЧАСТУЮ ОКАЗЫВАЛИ ВЛИЯНИЕ ДРУГ НА ДРУГА. ОДНИМ ИЗ СПОСОБОВ ЭТОГО ВЛИЯНИЯ ЯВЛЯЛАСЬ ПЕРЕПИСКА ПЕЧАТНЫХ ИЗДАНИЙ, КОГДА ПИСЦЫ ПОДРАЖАЛИ ОБРАЗЦАМ ПЕЧАТНЫХ ИЗДАНИЙ.</a:t>
            </a: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blinds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4" descr="knigi"/>
          <p:cNvPicPr/>
          <p:nvPr/>
        </p:nvPicPr>
        <p:blipFill>
          <a:blip r:embed="rId1"/>
          <a:stretch/>
        </p:blipFill>
        <p:spPr>
          <a:xfrm>
            <a:off x="838080" y="304920"/>
            <a:ext cx="3538800" cy="358128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C:\Users\Света\Desktop\i (23).jpg"/>
          <p:cNvPicPr/>
          <p:nvPr/>
        </p:nvPicPr>
        <p:blipFill>
          <a:blip r:embed="rId2"/>
          <a:stretch/>
        </p:blipFill>
        <p:spPr>
          <a:xfrm>
            <a:off x="2743200" y="4648320"/>
            <a:ext cx="2203560" cy="185724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" descr="C:\Users\Света\Desktop\pervope4atnik.jpg"/>
          <p:cNvPicPr/>
          <p:nvPr/>
        </p:nvPicPr>
        <p:blipFill>
          <a:blip r:embed="rId3"/>
          <a:stretch/>
        </p:blipFill>
        <p:spPr>
          <a:xfrm>
            <a:off x="5334120" y="457200"/>
            <a:ext cx="2546280" cy="349236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10" descr="C:\Users\Света\Desktop\i (3).jpg"/>
          <p:cNvPicPr/>
          <p:nvPr/>
        </p:nvPicPr>
        <p:blipFill>
          <a:blip r:embed="rId4"/>
          <a:stretch/>
        </p:blipFill>
        <p:spPr>
          <a:xfrm>
            <a:off x="6629400" y="4876920"/>
            <a:ext cx="961920" cy="142848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11" descr="C:\Users\Света\Desktop\i.jpg"/>
          <p:cNvPicPr/>
          <p:nvPr/>
        </p:nvPicPr>
        <p:blipFill>
          <a:blip r:embed="rId5"/>
          <a:stretch/>
        </p:blipFill>
        <p:spPr>
          <a:xfrm>
            <a:off x="457200" y="5029200"/>
            <a:ext cx="1406520" cy="12193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2640" y="1599840"/>
            <a:ext cx="6172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entury Schoolbook"/>
              </a:rPr>
              <a:t>ЗНАЕШЬ,- ОБРАТИЛАСЬ Я К СВОЕЙ ПОДРУГЕ АННЕ.- ТАКОЕ ОЩУЩЕНИЕ, ЧТО АНЕКДОТ ПРО ПИСАТЕЛЕЙ ПРАВДА</a:t>
            </a:r>
            <a:r>
              <a:rPr b="0" lang="en-US" sz="1600" spc="-1" strike="noStrike">
                <a:solidFill>
                  <a:srgbClr val="a6a6a6"/>
                </a:solidFill>
                <a:latin typeface="Century Schoolbook"/>
              </a:rPr>
              <a:t>.</a:t>
            </a:r>
            <a:br>
              <a:rPr sz="1600"/>
            </a:br>
            <a:r>
              <a:rPr b="0" lang="en-US" sz="1600" spc="-1" strike="noStrike">
                <a:solidFill>
                  <a:srgbClr val="e75c01"/>
                </a:solidFill>
                <a:latin typeface="Century Schoolbook"/>
              </a:rPr>
              <a:t>КАКОЙ ИМЕННО?- ОЖИВИЛАСЬ ОНА.</a:t>
            </a:r>
            <a:br>
              <a:rPr sz="1600"/>
            </a:br>
            <a:r>
              <a:rPr b="0" lang="en-US" sz="1600" spc="-1" strike="noStrike">
                <a:solidFill>
                  <a:srgbClr val="575f6d"/>
                </a:solidFill>
                <a:latin typeface="Century Schoolbook"/>
              </a:rPr>
              <a:t>НУ ЧТО СЕЙЧАС ПИШУТ ВСЕ КОМУ НЕ ЛЕНЬ, НО К СЧАСТЬЮ МНОГИМ ЛЕНЬ. ТОЧНЕЕ ЭТО НЕ ПРО ПИСАТЕЛЕЙ. Я ЗАШЛА НА НЕСКОЛЬКО ФОРУМОВ ДЛЯ НАЧИНАЮЩИХ ПИСАТЕЛЕЙ И ОБНАРУЖИЛА, ЧТО БОЛЬШИНСТВО ПИШЕТ КАК- ТО ПО-ДЕТСКИ, КРАСИВЫЕ ОБОРОТЫ, СРАВНЕНИЯ ПОЧТИ ИСЧЕЗЛИ. Я БЫ ОЧЕНЬ ХОТЕЛА ПИСАТЬ!</a:t>
            </a:r>
            <a:br>
              <a:rPr sz="1600"/>
            </a:br>
            <a:r>
              <a:rPr b="0" lang="en-US" sz="1600" spc="-1" strike="noStrike">
                <a:solidFill>
                  <a:srgbClr val="d2611c"/>
                </a:solidFill>
                <a:latin typeface="Century Schoolbook"/>
              </a:rPr>
              <a:t>В ЧЁМ ЖЕ ДЕЛО?</a:t>
            </a:r>
            <a:br>
              <a:rPr sz="1600"/>
            </a:br>
            <a:r>
              <a:rPr b="0" lang="en-US" sz="1600" spc="-1" strike="noStrike">
                <a:solidFill>
                  <a:srgbClr val="575f6d"/>
                </a:solidFill>
                <a:latin typeface="Century Schoolbook"/>
              </a:rPr>
              <a:t>УЖЕ НАЧАЛА. ТОЛЬКО…ТЫ ЧИТАЛА СОВРЕМЕННИКОВ? ПО-МОЕМУ, КНИГ СКОРО НЕ БУДЕТ ВОВСЕ. ВОТ УЖЕ ПОЯВИЛИСЬ ЭЛЕКТРОННЫЕ КНИГИ. УЖАС! НЕ ПОНИМАЮ ЭТОГО! ВО-ПЕРВЫХ, ПОРТИТЬ ЗРЕНИЕ, А ВО-ВТОРЫХ, ТЕРЯЕТСЯ РОМАНТИКА, СУТЬ, ИНТЕРЕС! ВЕДЬ ТАК ЗДОРОВО КУПИТЬ НОВУЮ КНИГУ, ПОЛИСТАТЬ СТРАНИЦЫ, ДЕРЖАТЬ ЕЁ В РУКАХ, ЧУВСТВОВАТЬ ЗАПАХ БУМАГИ. ЭТО ОСОБЫЙ ЗАПАХ. ЗДОРОВО СОБИРАТЬ СВОЮ БИБЛИОТЕКУ. А ЧТО БУДЕТ ПОТОМ? МЫ БУДЕМ СОБИРАТЬ БИБЛИОТЕКИ В КОМПЬЮТЕРАХ?! НЕ ХОЧУ!</a:t>
            </a:r>
            <a:br>
              <a:rPr sz="1600"/>
            </a:br>
            <a:r>
              <a:rPr b="0" lang="en-US" sz="1600" spc="-1" strike="noStrike">
                <a:solidFill>
                  <a:srgbClr val="d2611c"/>
                </a:solidFill>
                <a:latin typeface="Century Schoolbook"/>
              </a:rPr>
              <a:t>ДА УЖ, « ПРОГРЕСС».- МАХНУЛА АНЯ РУКОЙ.</a:t>
            </a:r>
            <a:br>
              <a:rPr sz="16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04920" y="15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Электронная книга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(англ. </a:t>
            </a:r>
            <a:r>
              <a:rPr b="1" i="1" lang="ru-RU" sz="1800" spc="-1" strike="noStrike">
                <a:solidFill>
                  <a:srgbClr val="000000"/>
                </a:solidFill>
                <a:latin typeface="Century Schoolbook"/>
              </a:rPr>
              <a:t>e-book reader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) — общее название группы узкоспециализированных компактных планшетных компьютерных устройств, предназначенных для отображения текстовой информации, представленной в электронном виде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История создания электронной книги.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Первые электронные книги появились с первым появлением компьютеров и возможностью печати на принтере и, позже, вывода текста на экран. Так, </a:t>
            </a: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в 1971 году Майкл  Харт </a:t>
            </a: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получил неограниченный доступ ко времени крупного компьютера Sigma V от операторов в университете штата Иллинойс. Пытаясь достойно применить этот ресурс, он создал первую электронную книгу Декларация независимости США, когда впечатал ее текст в компьютер. Так путём создания электронных копий большего количества книг получил начало Проект «Гутенберг»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4" name="Picture 6" descr="C:\Users\Света\Desktop\i (8).jpg"/>
          <p:cNvPicPr/>
          <p:nvPr/>
        </p:nvPicPr>
        <p:blipFill>
          <a:blip r:embed="rId1"/>
          <a:stretch/>
        </p:blipFill>
        <p:spPr>
          <a:xfrm>
            <a:off x="1600200" y="4952880"/>
            <a:ext cx="2200320" cy="14288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C:\Users\Света\Desktop\i (7).jpg"/>
          <p:cNvPicPr/>
          <p:nvPr/>
        </p:nvPicPr>
        <p:blipFill>
          <a:blip r:embed="rId2"/>
          <a:stretch/>
        </p:blipFill>
        <p:spPr>
          <a:xfrm>
            <a:off x="5334120" y="4724280"/>
            <a:ext cx="1295280" cy="17049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152280" y="60912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             </a:t>
            </a:r>
            <a:r>
              <a:rPr b="0" i="1" lang="ru-RU" sz="2800" spc="-1" strike="noStrike">
                <a:solidFill>
                  <a:srgbClr val="ff0000"/>
                </a:solidFill>
                <a:latin typeface="Century Schoolbook"/>
              </a:rPr>
              <a:t>Интересные факты о книгах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среднем люди проводят за чтением 6,5 часов в недел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Согласно исследованию Йельского университета, три четверти учеников, которые плохо умеют читать в третьем классе, останутся такими в средней школ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На написание романа уходит в среднем около 475 часов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В среднем, покупатель книжного магазина проводит восемь секунд, глядя на переднюю обложку и 15 секунд, просматривая заднюю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Женщины покупают 68% всех кни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Большинство читателей теряют интерес к книге на 18 странице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Библиоклептоманом  называют человека, ворующего книги. Один из самых известных  библиоклептоманов — Стивен  Блумберг, который похитил более 23 000 редких книг из 268 библиотек. Чтобы составить свою коллекцию, оценивающуюся примерно в 20 миллионов долларов, Блумберг  применял самые разнообразные методы: иногда он пробирался в библиотеку через вентиляционную систему и даже шахту лифта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Термин «книжный червь» происходит от крошечных насекомых, которые питаются корешками книг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7" name="Picture 2" descr="C:\Users\Света\Desktop\i (4).jpg"/>
          <p:cNvPicPr/>
          <p:nvPr/>
        </p:nvPicPr>
        <p:blipFill>
          <a:blip r:embed="rId1"/>
          <a:stretch/>
        </p:blipFill>
        <p:spPr>
          <a:xfrm>
            <a:off x="7543800" y="15228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4"/>
          <p:cNvSpPr/>
          <p:nvPr/>
        </p:nvSpPr>
        <p:spPr>
          <a:xfrm rot="19752600">
            <a:off x="455400" y="2586240"/>
            <a:ext cx="770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Picture 9" descr="C:\Users\Света\Desktop\i (22).jpg"/>
          <p:cNvPicPr/>
          <p:nvPr/>
        </p:nvPicPr>
        <p:blipFill>
          <a:blip r:embed="rId1"/>
          <a:stretch/>
        </p:blipFill>
        <p:spPr>
          <a:xfrm>
            <a:off x="5943600" y="33526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C:\Users\Света\Desktop\i (5).jpg"/>
          <p:cNvPicPr/>
          <p:nvPr/>
        </p:nvPicPr>
        <p:blipFill>
          <a:blip r:embed="rId2"/>
          <a:stretch/>
        </p:blipFill>
        <p:spPr>
          <a:xfrm>
            <a:off x="533520" y="457200"/>
            <a:ext cx="2295360" cy="142884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1" descr="C:\Users\Света\Desktop\i (23).jpg"/>
          <p:cNvPicPr/>
          <p:nvPr/>
        </p:nvPicPr>
        <p:blipFill>
          <a:blip r:embed="rId3"/>
          <a:stretch/>
        </p:blipFill>
        <p:spPr>
          <a:xfrm rot="622200">
            <a:off x="4087440" y="50652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2" descr="C:\Users\Света\Desktop\i (11).jpg"/>
          <p:cNvPicPr/>
          <p:nvPr/>
        </p:nvPicPr>
        <p:blipFill>
          <a:blip r:embed="rId4"/>
          <a:stretch/>
        </p:blipFill>
        <p:spPr>
          <a:xfrm>
            <a:off x="3048120" y="4724280"/>
            <a:ext cx="1476360" cy="1428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лена</cp:lastModifiedBy>
  <dcterms:modified xsi:type="dcterms:W3CDTF">2017-03-01T12:36:33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