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840-4869-4342-A10B-2DDD2643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B3C-B174-4610-94F6-31B9BC2F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610D-9336-464A-9CFA-BDA70C06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33CC-7857-41BE-885A-1399E87B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D4F5-1261-46E7-B91F-B53BD2F6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9398-11B3-4D52-BD5F-31FFA2FB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ADFB-6E0C-42DA-B5A4-91A5345C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28E6-56A0-4FFF-98A1-104C2C89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C028-4892-4523-8DCA-25EF746D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8E9F-4A6F-4A11-85C8-453AD2E3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37D2-EC19-4FA0-B9B0-F672005D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E09-EBB5-40B5-A16C-DE3BFC8C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DC4F-FD48-45E5-80F8-89D218DD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2B22-B8D5-4732-9E40-620A77B1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EDEF-92AC-4B5D-B91A-1D1F3563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B8F3-20EC-41A3-B048-84884C0B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0CDC-66A1-4E9E-8A2F-9D9BC6DA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0CEB2F-0DA7-4EA4-8E1B-B1723D31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32944-E942-4224-98D0-ACC9865B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9FFCF-D6CD-45B7-AA86-7AD0401D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9983A-03ED-4379-B2DE-DBF2F046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17C93-DD63-4C6A-BE65-EBF8D7CB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ADAA-0989-4E9A-BD5B-6691C88F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151C7-EA4F-462A-9AE1-78394F74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E8534-6FF5-42D5-94A2-26575B98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3B03F-3BD5-468E-B028-6DE3C55B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0E288-7BC7-484B-914D-FDCA2C68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AC687-CF71-40D9-B7D1-B0AEA8CF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F82A3-CE58-48B5-8F7B-0A1AAABA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5F569-2B4B-4A19-9DB1-6F23D02B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C2A2E-E87D-4D4F-B6A4-B54692CC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B1BFD-4562-46B2-8AD9-D4CB918D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FBBCB-0BBF-4401-9FD5-B3F3344C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58C-AA1A-4F6C-820D-D8EC2072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F7F63-5ED4-41AD-986D-81ECA562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5BA4D-EAD2-4A72-9CBB-87B07D0A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8BB88-F8BF-4963-B8CE-BDE79D38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AA484-4C1A-4456-BC58-BD822D97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C36F3-E1B4-488F-9575-F189CE62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FB09F-E07C-455D-AF37-6DB31659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09998-9266-40A2-960D-9F862F10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19DAD-77E1-4764-9290-11573BB9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36CF4-5644-4BA2-8B97-1294765A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E199C4-9916-4A96-A477-1A8D1E23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8564-C1A4-4D1F-80BE-246C7BD7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7152E8-ECC8-4DAE-A012-CD690869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D6AF41-9F68-47F4-8934-C9511D50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45762-83B5-4059-B6B8-CD923E77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1B9867-C4AE-4626-A6C5-8852E2E2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F08890-422E-4CCC-A58F-C822F085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A0712-7137-40E3-8158-50967C72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4D965B-04F2-4F8E-A8CA-6E834833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B9C2C-97F5-4F9D-8240-0717655C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DB491-6966-4C26-BC42-634C92BD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6044B7-BF34-48FA-8F51-5C12C713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9221-3E74-45EF-B1ED-25C6D7FE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B50BF2-D3E1-4318-927C-583E27EE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0EB935-1069-4F9D-BAA7-C0351DA6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1FA15-49DD-4764-B356-587237BD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CA3A14-662E-41CE-904E-CAEEAEA6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D8E53C-49BE-4BD2-9B92-9B324966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467620-EC14-4E76-9B41-BB841CA3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A68AF0-E0A4-4AC2-9C4B-E49F7CA4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2C795B-C628-4844-A2BB-1ACF2E9A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9FE25B-91B8-463D-924E-AE724624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B07BE6-F7A5-42C7-AD9B-114BAEA4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7029-BC10-4AE5-821C-4721AF32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A612D2-60EA-4EF7-8EA2-428677F9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7ADDD1-A747-4654-848F-4493C021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A1E19C-50D0-4AD3-936B-4ABDAAA4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59E1D3-C6B5-4389-B630-5A395FC9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2FCB96-AD45-4245-9060-9D0B18D0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18C61C-09C9-4442-9B4B-A444C73A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47313B-DC8A-4C41-AAE0-D4C89B86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E3E6F9-1027-42D7-9328-E41BB0A8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FE20D1-C518-4E1C-8809-5B134EB0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9E7120-8EEE-4B44-A3E2-8658F48D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366-A7E0-4708-A219-BF895371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162258-ABD4-404D-AED2-93E28455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72C01F-C293-40B1-AD9B-85EE202B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4130F2-FA11-4D86-8D80-CFFF441F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F11F40-8F7D-4895-8919-10D2B20D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5C03B4-2D67-445E-A3B6-F1A97A06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5DB9-7A62-45A2-9E0A-D48ADDAF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812F-9548-437D-BEAE-B19010FFECB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70F3-762F-4574-8106-64320E43A0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7166-7CFA-494F-ACD6-1D703A34BE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B0A8-E7A5-4487-A616-0C876F5C33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CFBA-4FBE-49C1-8938-754A4D14DE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8BE6-CEE8-4802-A8AF-7E4106A5D4A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2DBB-678B-4F1F-906B-C88BDE1214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branstvo.ru/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4343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900" spc="-1" strike="noStrike">
                <a:solidFill>
                  <a:srgbClr val="575f6d"/>
                </a:solidFill>
                <a:latin typeface="Century Schoolbook"/>
              </a:rPr>
              <a:t>«ОТ ПЕЧАТНОЙ КНИГИ ДО ИНТЕРНЕТ – КНИГИ».</a:t>
            </a:r>
            <a:endParaRPr b="0" lang="en-US" sz="5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4" descr="C:\Users\Света\Desktop\i (4).jpg"/>
          <p:cNvPicPr/>
          <p:nvPr/>
        </p:nvPicPr>
        <p:blipFill>
          <a:blip r:embed="rId1"/>
          <a:stretch/>
        </p:blipFill>
        <p:spPr>
          <a:xfrm>
            <a:off x="6858000" y="685800"/>
            <a:ext cx="1190520" cy="1428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C:\Users\Света\Desktop\i (7).jpg"/>
          <p:cNvPicPr/>
          <p:nvPr/>
        </p:nvPicPr>
        <p:blipFill>
          <a:blip r:embed="rId2"/>
          <a:stretch/>
        </p:blipFill>
        <p:spPr>
          <a:xfrm rot="20463600">
            <a:off x="6324480" y="4571640"/>
            <a:ext cx="1086120" cy="1428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C:\Users\Света\Desktop\i (22).jpg"/>
          <p:cNvPicPr/>
          <p:nvPr/>
        </p:nvPicPr>
        <p:blipFill>
          <a:blip r:embed="rId3"/>
          <a:stretch/>
        </p:blipFill>
        <p:spPr>
          <a:xfrm>
            <a:off x="2286000" y="30492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Schoolbook"/>
              </a:rPr>
              <a:t>«ПЕРВАЯ КНИГА НА РУСИ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432080" y="2779560"/>
            <a:ext cx="603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3048120" y="24382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1432080" y="2322360"/>
            <a:ext cx="474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1736640" y="2703600"/>
            <a:ext cx="474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838080" y="1068840"/>
            <a:ext cx="754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ромирово Евангелие — древнейшая русская книга. Более того, вообще славянских книг древнее этой рукописи наука не знает. Для истории нашей культуры первая книга — очень важный факт. Нам сегодня трудно осознать ценность отдельно взятой книги — ведь в наши дни книги могут печататься милионными тиража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 вплоть до шестнадцатого века, т.е. до появления книгопечатания на Руси, каждая книга была произведением искусства, каждая — была драгоценностью. Драгоценным был не только материал — пергамент, драгоценным был и труд писцов и художников, вручную создававших книги. И первая книга для нации — это огромная культурная ценность, это, по существу, отправная точка национальной письменн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адемик Федор Иванович Буслаев (1818—1897) ввел Остромирово Евангелие в курс преподавания истории русского языка. Его диссертация «О влиянии христианства на славянский язык» (1848) имела подзаголовок: «Опыт истории языка по Остромирову Евангелию». В XX веке Остромирово Евангелие изучали историки, слависты, языковеды, литературоведы, искусствоведы, и даже музыков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1_4_6"/>
          <p:cNvPicPr/>
          <p:nvPr/>
        </p:nvPicPr>
        <p:blipFill>
          <a:blip r:embed="rId1"/>
          <a:stretch/>
        </p:blipFill>
        <p:spPr>
          <a:xfrm>
            <a:off x="380880" y="228600"/>
            <a:ext cx="2922840" cy="4505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i (37)"/>
          <p:cNvPicPr/>
          <p:nvPr/>
        </p:nvPicPr>
        <p:blipFill>
          <a:blip r:embed="rId2"/>
          <a:stretch/>
        </p:blipFill>
        <p:spPr>
          <a:xfrm rot="21064800">
            <a:off x="4041720" y="3540240"/>
            <a:ext cx="3581280" cy="22906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i (38)"/>
          <p:cNvPicPr/>
          <p:nvPr/>
        </p:nvPicPr>
        <p:blipFill>
          <a:blip r:embed="rId3"/>
          <a:stretch/>
        </p:blipFill>
        <p:spPr>
          <a:xfrm rot="945000">
            <a:off x="6418080" y="655560"/>
            <a:ext cx="1741320" cy="2057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1" descr="C:\Users\Света\Desktop\08_1h.jpg"/>
          <p:cNvPicPr/>
          <p:nvPr/>
        </p:nvPicPr>
        <p:blipFill>
          <a:blip r:embed="rId4"/>
          <a:stretch/>
        </p:blipFill>
        <p:spPr>
          <a:xfrm>
            <a:off x="3809880" y="457200"/>
            <a:ext cx="1573200" cy="2514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C:\Users\Света\Desktop\i (6).jpg"/>
          <p:cNvPicPr/>
          <p:nvPr/>
        </p:nvPicPr>
        <p:blipFill>
          <a:blip r:embed="rId5"/>
          <a:stretch/>
        </p:blipFill>
        <p:spPr>
          <a:xfrm>
            <a:off x="914400" y="4876920"/>
            <a:ext cx="1190520" cy="1428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«РУССКОЕ КНИГОПЕЧАТАНИЕ В 17 ВЕКЕ»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Century Schoolbook"/>
              </a:rPr>
              <a:t>ВЛИЯНИЕ ВНЕШНИХ ФАКТОРОВ НЕ МОГЛО НЕ СКАЗАТЬСЯ НА РАЗВИТИИ ОБРАЗОВАНИЯ, НАУКИ И КУЛЬТУРЫ. БОЛЬШИНСТВО НАСЕЛЕНИЯ СТРАНЫ БЫЛО БЕЗГРАМОТНЫМ, ОТСУТСТВОВАЛО ЖЕНСКОЕ ОБРАЗОВАНИЕ, В ШКОЛЕ ОБУЧАЛИ ЛИШЬ АЗАМ ГРАМОТЫ И ОСНОВАМ ПРАВОСЛАВИЯ. НО, НЕСМОТРЯ НА ВСЕ ЭТО, В 17 ВЕКЕ НЕ УМИРАЕТ КНИЖНОЕ ДЕЛО – ПРОДОЛЖАЕТСЯ СОЗДАНИЕ РУКОПИСЕЙ И ВЫПУСК ПЕЧАТНЫХ КНИГ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Century Schoolbook"/>
              </a:rPr>
              <a:t>СЛЕДУЕТ ОТМЕТИТЬ, ЧТО В ЦЕЛОМ ТЕНДЕНЦИЯ РАЗВИТИЯ ПЕЧАТНОГО ДЕЛА В РОССИИ НОСИЛА ПРОТИВОПОЛОЖНЫЙ ХАРАКТЕР ОТ ТЕНДЕНЦИИ ЕВРОПЕЙСКОЙ. ЕСЛИ В ЕВРОПЕ ПРЕВАЛИРОВАЛА ДЕЯТЕЛЬНОСТЬ ЧАСТНЫХ ТИПОГРАФИЙ, ТО В РОССИИ МОНОПОЛИСТАМИ КНИЖНОГО ИЗДАТЕЛЬСТВА БЫЛИ ГОСУДАРСТВО И ЦЕРКОВЬ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Century Schoolbook"/>
              </a:rPr>
              <a:t>ЕЩЕ ОДНОЙ ОСОБЕННОСТЬЮ РАЗВИТИЯ КНИЖНОГО ДЕЛА СТАЛО ТО, ЧТО ЗАМЕТНУЮ РОЛЬ В НАЧАЛЕ 17 ВЕКА ИГРАЛА РУКОПИСНАЯ КНИГА. ПЕЧАТНЫЕ И </a:t>
            </a:r>
            <a:r>
              <a:rPr b="0" lang="en-US" sz="16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РУКОПИСНЫЕ КНИГ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  СУЩЕСТВОВАЛИ ВМЕСТЕ, ЗАЧАСТУЮ ОКАЗЫВАЛИ ВЛИЯНИЕ ДРУГ НА ДРУГА. ОДНИМ ИЗ СПОСОБОВ ЭТОГО ВЛИЯНИЯ ЯВЛЯЛАСЬ ПЕРЕПИСКА ПЕЧАТНЫХ ИЗДАНИЙ, КОГДА ПИСЦЫ ПОДРАЖАЛИ ОБРАЗЦАМ ПЕЧАТНЫХ ИЗДАНИЙ.</a:t>
            </a:r>
            <a:br>
              <a:rPr sz="16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knigi"/>
          <p:cNvPicPr/>
          <p:nvPr/>
        </p:nvPicPr>
        <p:blipFill>
          <a:blip r:embed="rId1"/>
          <a:stretch/>
        </p:blipFill>
        <p:spPr>
          <a:xfrm>
            <a:off x="838080" y="304920"/>
            <a:ext cx="3538800" cy="3581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C:\Users\Света\Desktop\i (23).jpg"/>
          <p:cNvPicPr/>
          <p:nvPr/>
        </p:nvPicPr>
        <p:blipFill>
          <a:blip r:embed="rId2"/>
          <a:stretch/>
        </p:blipFill>
        <p:spPr>
          <a:xfrm>
            <a:off x="2743200" y="4648320"/>
            <a:ext cx="2203560" cy="1857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9" descr="C:\Users\Света\Desktop\pervope4atnik.jpg"/>
          <p:cNvPicPr/>
          <p:nvPr/>
        </p:nvPicPr>
        <p:blipFill>
          <a:blip r:embed="rId3"/>
          <a:stretch/>
        </p:blipFill>
        <p:spPr>
          <a:xfrm>
            <a:off x="5334120" y="457200"/>
            <a:ext cx="2546280" cy="3492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C:\Users\Света\Desktop\i (3).jpg"/>
          <p:cNvPicPr/>
          <p:nvPr/>
        </p:nvPicPr>
        <p:blipFill>
          <a:blip r:embed="rId4"/>
          <a:stretch/>
        </p:blipFill>
        <p:spPr>
          <a:xfrm>
            <a:off x="6629400" y="4876920"/>
            <a:ext cx="961920" cy="14284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C:\Users\Света\Desktop\i.jpg"/>
          <p:cNvPicPr/>
          <p:nvPr/>
        </p:nvPicPr>
        <p:blipFill>
          <a:blip r:embed="rId5"/>
          <a:stretch/>
        </p:blipFill>
        <p:spPr>
          <a:xfrm>
            <a:off x="457200" y="5029200"/>
            <a:ext cx="1406520" cy="1219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2640" y="1599840"/>
            <a:ext cx="617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entury Schoolbook"/>
              </a:rPr>
              <a:t>ЗНАЕШЬ,- ОБРАТИЛАСЬ Я К СВОЕЙ ПОДРУГЕ АННЕ.- ТАКОЕ ОЩУЩЕНИЕ, ЧТО АНЕКДОТ ПРО ПИСАТЕЛЕЙ ПРАВДА</a:t>
            </a:r>
            <a:r>
              <a:rPr b="0" lang="en-US" sz="1600" spc="-1" strike="noStrike">
                <a:solidFill>
                  <a:srgbClr val="a6a6a6"/>
                </a:solidFill>
                <a:latin typeface="Century Schoolbook"/>
              </a:rPr>
              <a:t>.</a:t>
            </a:r>
            <a:br>
              <a:rPr sz="1600"/>
            </a:br>
            <a:r>
              <a:rPr b="0" lang="en-US" sz="1600" spc="-1" strike="noStrike">
                <a:solidFill>
                  <a:srgbClr val="e75c01"/>
                </a:solidFill>
                <a:latin typeface="Century Schoolbook"/>
              </a:rPr>
              <a:t>КАКОЙ ИМЕННО?- ОЖИВИЛАСЬ ОНА.</a:t>
            </a:r>
            <a:br>
              <a:rPr sz="1600"/>
            </a:br>
            <a:r>
              <a:rPr b="0" lang="en-US" sz="1600" spc="-1" strike="noStrike">
                <a:solidFill>
                  <a:srgbClr val="575f6d"/>
                </a:solidFill>
                <a:latin typeface="Century Schoolbook"/>
              </a:rPr>
              <a:t>НУ ЧТО СЕЙЧАС ПИШУТ ВСЕ КОМУ НЕ ЛЕНЬ, НО К СЧАСТЬЮ МНОГИМ ЛЕНЬ. ТОЧНЕЕ ЭТО НЕ ПРО ПИСАТЕЛЕЙ. Я ЗАШЛА НА НЕСКОЛЬКО ФОРУМОВ ДЛЯ НАЧИНАЮЩИХ ПИСАТЕЛЕЙ И ОБНАРУЖИЛА, ЧТО БОЛЬШИНСТВО ПИШЕТ КАК- ТО ПО-ДЕТСКИ, КРАСИВЫЕ ОБОРОТЫ, СРАВНЕНИЯ ПОЧТИ ИСЧЕЗЛИ. Я БЫ ОЧЕНЬ ХОТЕЛА ПИСАТЬ!</a:t>
            </a:r>
            <a:br>
              <a:rPr sz="1600"/>
            </a:br>
            <a:r>
              <a:rPr b="0" lang="en-US" sz="1600" spc="-1" strike="noStrike">
                <a:solidFill>
                  <a:srgbClr val="d2611c"/>
                </a:solidFill>
                <a:latin typeface="Century Schoolbook"/>
              </a:rPr>
              <a:t>В ЧЁМ ЖЕ ДЕЛО?</a:t>
            </a:r>
            <a:br>
              <a:rPr sz="1600"/>
            </a:br>
            <a:r>
              <a:rPr b="0" lang="en-US" sz="1600" spc="-1" strike="noStrike">
                <a:solidFill>
                  <a:srgbClr val="575f6d"/>
                </a:solidFill>
                <a:latin typeface="Century Schoolbook"/>
              </a:rPr>
              <a:t>УЖЕ НАЧАЛА. ТОЛЬКО…ТЫ ЧИТАЛА СОВРЕМЕННИКОВ? ПО-МОЕМУ, КНИГ СКОРО НЕ БУДЕТ ВОВСЕ. ВОТ УЖЕ ПОЯВИЛИСЬ ЭЛЕКТРОННЫЕ КНИГИ. УЖАС! НЕ ПОНИМАЮ ЭТОГО! ВО-ПЕРВЫХ, ПОРТИТЬ ЗРЕНИЕ, А ВО-ВТОРЫХ, ТЕРЯЕТСЯ РОМАНТИКА, СУТЬ, ИНТЕРЕС! ВЕДЬ ТАК ЗДОРОВО КУПИТЬ НОВУЮ КНИГУ, ПОЛИСТАТЬ СТРАНИЦЫ, ДЕРЖАТЬ ЕЁ В РУКАХ, ЧУВСТВОВАТЬ ЗАПАХ БУМАГИ. ЭТО ОСОБЫЙ ЗАПАХ. ЗДОРОВО СОБИРАТЬ СВОЮ БИБЛИОТЕКУ. А ЧТО БУДЕТ ПОТОМ? МЫ БУДЕМ СОБИРАТЬ БИБЛИОТЕКИ В КОМПЬЮТЕРАХ?! НЕ ХОЧУ!</a:t>
            </a:r>
            <a:br>
              <a:rPr sz="1600"/>
            </a:br>
            <a:r>
              <a:rPr b="0" lang="en-US" sz="1600" spc="-1" strike="noStrike">
                <a:solidFill>
                  <a:srgbClr val="d2611c"/>
                </a:solidFill>
                <a:latin typeface="Century Schoolbook"/>
              </a:rPr>
              <a:t>ДА УЖ, « ПРОГРЕСС».- МАХНУЛА АНЯ РУКОЙ.</a:t>
            </a:r>
            <a:br>
              <a:rPr sz="16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0492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Электронная книга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(англ. 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e-book reader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) — общее название группы узкоспециализированных компактных планшетных компьютерных устройств, предназначенных для отображения текстовой информации, представленной в электронном виде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История создания электронной книги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вые электронные книги появились с первым появлением компьютеров и возможностью печати на принтере и, позже, вывода текста на экран. Так, 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1971 году Майкл  Харт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получил неограниченный доступ ко времени крупного компьютера Sigma V от операторов в университете штата Иллинойс. Пытаясь достойно применить этот ресурс, он создал первую электронную книгу Декларация независимости США, когда впечатал ее текст в компьютер. Так путём создания электронных копий большего количества книг получил начало Проект «Гутенберг»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6" descr="C:\Users\Света\Desktop\i (8).jpg"/>
          <p:cNvPicPr/>
          <p:nvPr/>
        </p:nvPicPr>
        <p:blipFill>
          <a:blip r:embed="rId1"/>
          <a:stretch/>
        </p:blipFill>
        <p:spPr>
          <a:xfrm>
            <a:off x="1600200" y="4952880"/>
            <a:ext cx="2200320" cy="142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C:\Users\Света\Desktop\i (7).jpg"/>
          <p:cNvPicPr/>
          <p:nvPr/>
        </p:nvPicPr>
        <p:blipFill>
          <a:blip r:embed="rId2"/>
          <a:stretch/>
        </p:blipFill>
        <p:spPr>
          <a:xfrm>
            <a:off x="5334120" y="4724280"/>
            <a:ext cx="1295280" cy="1704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52280" y="6091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Century Schoolbook"/>
              </a:rPr>
              <a:t>Интересные факты о книгах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среднем люди проводят за чтением 6,5 часов в недел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огласно исследованию Йельского университета, три четверти учеников, которые плохо умеют читать в третьем классе, останутся такими в средней школ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 написание романа уходит в среднем около 475 часо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среднем, покупатель книжного магазина проводит восемь секунд, глядя на переднюю обложку и 15 секунд, просматривая задню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Женщины покупают 68% всех книг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Большинство читателей теряют интерес к книге на 18 страниц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Библиоклептоманом  называют человека, ворующего книги. Один из самых известных  библиоклептоманов — Стивен  Блумберг, который похитил более 23 000 редких книг из 268 библиотек. Чтобы составить свою коллекцию, оценивающуюся примерно в 20 миллионов долларов, Блумберг  применял самые разнообразные методы: иногда он пробирался в библиотеку через вентиляционную систему и даже шахту лифт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ермин «книжный червь» происходит от крошечных насекомых, которые питаются корешками книг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2" descr="C:\Users\Света\Desktop\i (4).jpg"/>
          <p:cNvPicPr/>
          <p:nvPr/>
        </p:nvPicPr>
        <p:blipFill>
          <a:blip r:embed="rId1"/>
          <a:stretch/>
        </p:blipFill>
        <p:spPr>
          <a:xfrm>
            <a:off x="7543800" y="15228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 rot="19752600">
            <a:off x="455400" y="2586240"/>
            <a:ext cx="770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9" descr="C:\Users\Света\Desktop\i (22).jpg"/>
          <p:cNvPicPr/>
          <p:nvPr/>
        </p:nvPicPr>
        <p:blipFill>
          <a:blip r:embed="rId1"/>
          <a:stretch/>
        </p:blipFill>
        <p:spPr>
          <a:xfrm>
            <a:off x="5943600" y="33526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" descr="C:\Users\Света\Desktop\i (5).jpg"/>
          <p:cNvPicPr/>
          <p:nvPr/>
        </p:nvPicPr>
        <p:blipFill>
          <a:blip r:embed="rId2"/>
          <a:stretch/>
        </p:blipFill>
        <p:spPr>
          <a:xfrm>
            <a:off x="533520" y="457200"/>
            <a:ext cx="2295360" cy="142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1" descr="C:\Users\Света\Desktop\i (23).jpg"/>
          <p:cNvPicPr/>
          <p:nvPr/>
        </p:nvPicPr>
        <p:blipFill>
          <a:blip r:embed="rId3"/>
          <a:stretch/>
        </p:blipFill>
        <p:spPr>
          <a:xfrm rot="622200">
            <a:off x="4087440" y="506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2" descr="C:\Users\Света\Desktop\i (11).jpg"/>
          <p:cNvPicPr/>
          <p:nvPr/>
        </p:nvPicPr>
        <p:blipFill>
          <a:blip r:embed="rId4"/>
          <a:stretch/>
        </p:blipFill>
        <p:spPr>
          <a:xfrm>
            <a:off x="3048120" y="4724280"/>
            <a:ext cx="1476360" cy="1428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7-03-01T12:36:3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