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7.png" ContentType="image/png"/>
  <Override PartName="/ppt/media/image1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9F75-8708-4787-B65A-21509C18B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97A1-645D-4BBD-ACA3-C7718292B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964F-3A37-4144-AC7E-76D592BCF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931A-8C97-4D07-BC3F-9A064B388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4A77-9573-48E3-9C9D-18462C7F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953B-5BB4-4BDF-8B93-DC5DD90C1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8C67-B407-45EF-AA45-9BF93FA5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5865-B4AF-4F02-A6FB-CB854C38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8C90-D948-4256-98BD-EFCE6069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B927-7A56-4BDC-820F-A91BCCF2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B5C3-5595-4EAC-8BBF-44A0F54C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0F84-24D4-4572-BA19-733D5A70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4847D-29E4-4260-A5B3-3DB74B53AC1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8438F-3842-45F2-8CBF-67BAA3D859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76240" y="3809880"/>
            <a:ext cx="7391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« Как происходило объединение Франции?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7"/>
          <p:cNvSpPr/>
          <p:nvPr/>
        </p:nvSpPr>
        <p:spPr>
          <a:xfrm>
            <a:off x="228600" y="152280"/>
            <a:ext cx="8686800" cy="8384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рия Средних веков 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44D4-23D2-44F9-879D-78497F70120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609EA-C48B-44DA-BCE8-548C64FA0E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 Филипп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расивом было присоединено богатое графство Шампань и лежащая в Пиренейских горах на юге страна Навар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липп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Красив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Филипп IV Красивый"/>
          <p:cNvPicPr/>
          <p:nvPr/>
        </p:nvPicPr>
        <p:blipFill>
          <a:blip r:embed="rId2"/>
          <a:stretch/>
        </p:blipFill>
        <p:spPr>
          <a:xfrm>
            <a:off x="4724280" y="1600200"/>
            <a:ext cx="4232520" cy="450072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116" name="Rectangle 8"/>
          <p:cNvSpPr/>
          <p:nvPr/>
        </p:nvSpPr>
        <p:spPr>
          <a:xfrm>
            <a:off x="4724280" y="6019920"/>
            <a:ext cx="426744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липп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расив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EAD2F-4CE7-434F-B5BE-758F20E2E9E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8143-634F-48A0-9518-B06E4F7F8F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4572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тобы обеспечить казну деньгами, Филипп прибегнул к порче королевской монеты, заменив в ней часть серебра дешёвым металлом. Служащим платили испорченными деньгами, а платить в казну нужно было полноценной моне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200px-Philippe_IV_le_Bel"/>
          <p:cNvPicPr/>
          <p:nvPr/>
        </p:nvPicPr>
        <p:blipFill>
          <a:blip r:embed="rId2"/>
          <a:stretch/>
        </p:blipFill>
        <p:spPr>
          <a:xfrm>
            <a:off x="5029200" y="1447920"/>
            <a:ext cx="3865680" cy="5257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липп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Красив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DE8CE-5BB1-4D7F-98BC-E75D67638CB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48F7-FD98-4625-A502-E23A5FF776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52280" y="1600200"/>
            <a:ext cx="4572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нежные трудности вызвали конфликт Филиппа IV с папой. Бонифаций VIII пытался возобновить претензии пап на руководство светскими государями, в ответ Филипп IV обложил налогами церковные зем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липп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Красив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8" descr="File:Bonifatius VIII Grabstatue.JPG"/>
          <p:cNvPicPr/>
          <p:nvPr/>
        </p:nvPicPr>
        <p:blipFill>
          <a:blip r:embed="rId2"/>
          <a:stretch/>
        </p:blipFill>
        <p:spPr>
          <a:xfrm>
            <a:off x="4876920" y="1600200"/>
            <a:ext cx="38844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A3EE-83CE-464A-AA05-CB2E543C365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C299-E09F-4B37-B21B-58F0E6B8CF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Папский дворец в Авиньоне"/>
          <p:cNvPicPr/>
          <p:nvPr/>
        </p:nvPicPr>
        <p:blipFill>
          <a:blip r:embed="rId2"/>
          <a:stretch/>
        </p:blipFill>
        <p:spPr>
          <a:xfrm>
            <a:off x="1181160" y="1523880"/>
            <a:ext cx="6781680" cy="5113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илипп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Красивы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8DDA-8A32-40F7-8E63-F8960FC6889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F189-B8CE-4DDE-BFE1-25137AEA97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енеральные шт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Генеральные штаты"/>
          <p:cNvPicPr/>
          <p:nvPr/>
        </p:nvPicPr>
        <p:blipFill>
          <a:blip r:embed="rId2"/>
          <a:stretch/>
        </p:blipFill>
        <p:spPr>
          <a:xfrm>
            <a:off x="2666880" y="1523880"/>
            <a:ext cx="3592800" cy="51818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8"/>
          <p:cNvSpPr/>
          <p:nvPr/>
        </p:nvSpPr>
        <p:spPr>
          <a:xfrm>
            <a:off x="838080" y="289548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I 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палат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духовенство</a:t>
            </a: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9"/>
          <p:cNvSpPr/>
          <p:nvPr/>
        </p:nvSpPr>
        <p:spPr>
          <a:xfrm>
            <a:off x="5715000" y="3733920"/>
            <a:ext cx="2590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II 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палат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дворянство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91440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III 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палат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бюргерство</a:t>
            </a:r>
            <a:r>
              <a:rPr b="1" lang="en-US" sz="28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1E6A9-CE72-4841-9D67-E9925A9EFC8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5FEA-7789-4E83-9D12-39AF802586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енеральные шта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Сословная монархия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– централизованное государство, в котором королевская власть опиралась на собрание представителей сослов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0F0BF-A3C1-4877-9421-40DC46362F9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167C2-CFA3-4459-8270-B49011BC2F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одведение итог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опросы на стр. 152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83D1-4063-4E17-80BD-9CACE01756C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480B-9500-4ED0-891F-BC19D3C201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араграф 17, вопросы, за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28AE-7BB6-4C76-BEA2-A5D5ECFCFF5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A58E-81D2-4393-82F0-DD5E9C9B8B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9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лан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152280" y="1752480"/>
            <a:ext cx="8839440" cy="4800600"/>
          </a:xfrm>
          <a:prstGeom prst="rect">
            <a:avLst/>
          </a:prstGeom>
          <a:gradFill rotWithShape="0">
            <a:gsLst>
              <a:gs pos="0">
                <a:srgbClr val="53b9d1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то был заинтересован 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бъединении стран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 Первые успехи объедин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 Филипп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Красивый и е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нфликт с пап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. Генеральные шта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D67AB-0D0A-47F0-AA4F-26D4FCEE1C5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FEF8-C9FE-4C6F-BF71-655FBFA766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ние на урок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1"/>
          <p:cNvSpPr/>
          <p:nvPr/>
        </p:nvSpPr>
        <p:spPr>
          <a:xfrm>
            <a:off x="152280" y="1752480"/>
            <a:ext cx="8839440" cy="4800600"/>
          </a:xfrm>
          <a:prstGeom prst="rect">
            <a:avLst/>
          </a:prstGeom>
          <a:gradFill rotWithShape="0">
            <a:gsLst>
              <a:gs pos="0">
                <a:srgbClr val="53b9d1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йствительно 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бъеди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ранции было неизбежны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бытием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8E0DD-C0DB-41B9-ADF5-8FE906A1E15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C6F1C-068D-4711-8F7A-4D3DD93006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то был заинтересован в объединени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380880" y="2133720"/>
            <a:ext cx="822960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едположите, кто мог бы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интересован 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ъединении Франц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E8B95-9B63-4B1E-9767-4606A9C8BD8D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A72E-5A93-46A1-94B8-2697AA84B4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4343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2"/>
          <p:cNvPicPr/>
          <p:nvPr/>
        </p:nvPicPr>
        <p:blipFill>
          <a:blip r:embed="rId2"/>
          <a:stretch/>
        </p:blipFill>
        <p:spPr>
          <a:xfrm>
            <a:off x="4724280" y="1752480"/>
            <a:ext cx="4159440" cy="4262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10"/>
          <p:cNvPicPr/>
          <p:nvPr/>
        </p:nvPicPr>
        <p:blipFill>
          <a:blip r:embed="rId3"/>
          <a:stretch/>
        </p:blipFill>
        <p:spPr>
          <a:xfrm>
            <a:off x="6400800" y="2362320"/>
            <a:ext cx="1066680" cy="8395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6"/>
          <p:cNvPicPr/>
          <p:nvPr/>
        </p:nvPicPr>
        <p:blipFill>
          <a:blip r:embed="rId4"/>
          <a:stretch/>
        </p:blipFill>
        <p:spPr>
          <a:xfrm>
            <a:off x="5257800" y="2592360"/>
            <a:ext cx="838080" cy="836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filipp2avg"/>
          <p:cNvPicPr/>
          <p:nvPr/>
        </p:nvPicPr>
        <p:blipFill>
          <a:blip r:embed="rId5"/>
          <a:stretch/>
        </p:blipFill>
        <p:spPr>
          <a:xfrm>
            <a:off x="6400800" y="34290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1"/>
          <p:cNvPicPr/>
          <p:nvPr/>
        </p:nvPicPr>
        <p:blipFill>
          <a:blip r:embed="rId6"/>
          <a:stretch/>
        </p:blipFill>
        <p:spPr>
          <a:xfrm>
            <a:off x="6629400" y="4724280"/>
            <a:ext cx="833400" cy="1067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Герб Святого Престола"/>
          <p:cNvPicPr/>
          <p:nvPr/>
        </p:nvPicPr>
        <p:blipFill>
          <a:blip r:embed="rId7"/>
          <a:stretch/>
        </p:blipFill>
        <p:spPr>
          <a:xfrm>
            <a:off x="7924680" y="4419720"/>
            <a:ext cx="811440" cy="11001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593640" y="411120"/>
            <a:ext cx="818460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ые успехи объеди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3"/>
          <p:cNvSpPr/>
          <p:nvPr/>
        </p:nvSpPr>
        <p:spPr>
          <a:xfrm>
            <a:off x="152280" y="1600200"/>
            <a:ext cx="4800600" cy="495288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начала коро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чиняли вассал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собственных землях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затем начали подчиня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бе независим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ителей обширн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ла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BBB1-7486-44D2-887B-D25330AB7638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FAA6-8F27-4F00-8ADA-B5862BFA8A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>
            <a:off x="457200" y="274680"/>
            <a:ext cx="8458200" cy="109692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ые успехи объеди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Сена в Париже. Вид с моста Пон Неф"/>
          <p:cNvPicPr/>
          <p:nvPr/>
        </p:nvPicPr>
        <p:blipFill>
          <a:blip r:embed="rId2"/>
          <a:stretch/>
        </p:blipFill>
        <p:spPr>
          <a:xfrm>
            <a:off x="5181480" y="1447920"/>
            <a:ext cx="3505320" cy="2635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Луара в Нанте"/>
          <p:cNvPicPr/>
          <p:nvPr/>
        </p:nvPicPr>
        <p:blipFill>
          <a:blip r:embed="rId3"/>
          <a:stretch/>
        </p:blipFill>
        <p:spPr>
          <a:xfrm>
            <a:off x="4952880" y="4114800"/>
            <a:ext cx="3962520" cy="25192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1"/>
          <p:cNvSpPr/>
          <p:nvPr/>
        </p:nvSpPr>
        <p:spPr>
          <a:xfrm>
            <a:off x="228600" y="1523880"/>
            <a:ext cx="4572000" cy="5105520"/>
          </a:xfrm>
          <a:prstGeom prst="rect">
            <a:avLst/>
          </a:prstGeom>
          <a:gradFill rotWithShape="0">
            <a:gsLst>
              <a:gs pos="0">
                <a:srgbClr val="53b9d1"/>
              </a:gs>
              <a:gs pos="100000">
                <a:srgbClr val="ffffff"/>
              </a:gs>
            </a:gsLst>
            <a:lin ang="5400000"/>
          </a:gra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этой борьбе корол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ан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шлось столкну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 английск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олём. Зна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еодалы Фран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ред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кали помощи 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глийского коро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9DB6-D2D8-4F2C-A668-01CC5AA80DF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3B59-0667-48A7-9540-0D8FA1BC42D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04560" y="167652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ольших успехов в объединении добился Филипп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Август, который отобрал у англичан Нормандию, а затем и другие территории на севере Фран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File:Louis-Félix Amiel-Philippe II dit Philippe-Auguste Roi de France (1165-1223).jpg"/>
          <p:cNvPicPr/>
          <p:nvPr/>
        </p:nvPicPr>
        <p:blipFill>
          <a:blip r:embed="rId2"/>
          <a:stretch/>
        </p:blipFill>
        <p:spPr>
          <a:xfrm>
            <a:off x="4952880" y="1523880"/>
            <a:ext cx="3984840" cy="5029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ые успехи объеди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7304-575F-472F-A013-D2B6F9A79C36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6B15-5CB6-4958-AC13-0B9B7095F08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 1214 году Филипп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в ожесточённой битве при Бувине наголо разгромил своих противников и захватил богатые трофеи. У англичан осталась лишь часть Аквита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ые успехи объеди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12"/>
          <p:cNvPicPr/>
          <p:nvPr/>
        </p:nvPicPr>
        <p:blipFill>
          <a:blip r:embed="rId2"/>
          <a:stretch/>
        </p:blipFill>
        <p:spPr>
          <a:xfrm>
            <a:off x="4572000" y="1828800"/>
            <a:ext cx="4419720" cy="349236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100" name="Rectangle 8"/>
          <p:cNvSpPr/>
          <p:nvPr/>
        </p:nvSpPr>
        <p:spPr>
          <a:xfrm>
            <a:off x="4572000" y="5334120"/>
            <a:ext cx="4419720" cy="6858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Битва при Був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111D9-2A29-49BE-9C90-4EF48070924C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ижний колонтитул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6DD7-2CE9-4B79-BCFA-10058B69EF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Светло-синий 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Людовик IX Святой"/>
          <p:cNvPicPr/>
          <p:nvPr/>
        </p:nvPicPr>
        <p:blipFill>
          <a:blip r:embed="rId2"/>
          <a:stretch/>
        </p:blipFill>
        <p:spPr>
          <a:xfrm>
            <a:off x="457200" y="1676520"/>
            <a:ext cx="3598920" cy="452592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106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ервые успехи объеди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304920" y="5943600"/>
            <a:ext cx="38098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довик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Свя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"/>
          <p:cNvSpPr/>
          <p:nvPr/>
        </p:nvSpPr>
        <p:spPr>
          <a:xfrm>
            <a:off x="4572000" y="1676520"/>
            <a:ext cx="4419720" cy="487656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роль Людовик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X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ятой стал сильне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юбого феод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анции. Издав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оны, котор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йствовали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рритории вс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Елена</cp:lastModifiedBy>
  <dcterms:modified xsi:type="dcterms:W3CDTF">2015-11-14T09:08:44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