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529F-944D-4F7D-BE85-0FA3DBD4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A2E0-8809-4BFC-8848-C88D1B60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B60E-C1DA-415B-9FC2-B5BF213A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4EC1-FFF4-4AA4-B641-029C18FC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E94C-5114-4AE5-89D4-1477C745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3CF7-E8BD-4B54-AF76-4A1A229F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7FBA-3BBB-409B-B71F-3CAA3B60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3A80-08EE-41AE-9AA3-1169EEAE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96FF-C488-402E-83C3-26DA1659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15BA-3615-4346-9DD8-2C02B1B5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6DA0-8BB3-4C24-894C-FF30BCC5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A7C7-3B5F-46B7-9F90-9D2D3B8C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C438-0803-47D6-B567-E1C7062C136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E01A-83EB-4DC9-8EE9-58D5B24507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76240" y="3809880"/>
            <a:ext cx="7391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 Как происходило объединение Франции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228600" y="152280"/>
            <a:ext cx="8686800" cy="8384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я Средних веков 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DE9B-98F0-49DC-BC0F-C424446C07B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6F65-4915-45CD-BBD1-6289A684EF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Филипп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расивом было присоединено богатое графство Шампань и лежащая в Пиренейских горах на юге страна Навар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липп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Краси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Филипп IV Красивый"/>
          <p:cNvPicPr/>
          <p:nvPr/>
        </p:nvPicPr>
        <p:blipFill>
          <a:blip r:embed="rId2"/>
          <a:stretch/>
        </p:blipFill>
        <p:spPr>
          <a:xfrm>
            <a:off x="4724280" y="1600200"/>
            <a:ext cx="4232520" cy="450072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116" name="Rectangle 8"/>
          <p:cNvSpPr/>
          <p:nvPr/>
        </p:nvSpPr>
        <p:spPr>
          <a:xfrm>
            <a:off x="4724280" y="6019920"/>
            <a:ext cx="42674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липп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раси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B798-FF87-4C06-924C-22E19455B11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26DE-A92E-4968-A2AA-7800973BCB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бы обеспечить казну деньгами, Филипп прибегнул к порче королевской монеты, заменив в ней часть серебра дешёвым металлом. Служащим платили испорченными деньгами, а платить в казну нужно было полноценной моне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200px-Philippe_IV_le_Bel"/>
          <p:cNvPicPr/>
          <p:nvPr/>
        </p:nvPicPr>
        <p:blipFill>
          <a:blip r:embed="rId2"/>
          <a:stretch/>
        </p:blipFill>
        <p:spPr>
          <a:xfrm>
            <a:off x="5029200" y="1447920"/>
            <a:ext cx="3865680" cy="5257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липп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Краси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26FF-B958-438D-8EA6-6DD667D2AB0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91F6-DDB2-48BC-8414-68EADD8187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4572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нежные трудности вызвали конфликт Филиппа IV с папой. Бонифаций VIII пытался возобновить претензии пап на руководство светскими государями, в ответ Филипп IV обложил налогами церковные зем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липп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Краси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File:Bonifatius VIII Grabstatue.JPG"/>
          <p:cNvPicPr/>
          <p:nvPr/>
        </p:nvPicPr>
        <p:blipFill>
          <a:blip r:embed="rId2"/>
          <a:stretch/>
        </p:blipFill>
        <p:spPr>
          <a:xfrm>
            <a:off x="4876920" y="1600200"/>
            <a:ext cx="3884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441B-ED25-4C1B-8CA1-87172CE44AE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815D-68B3-42AE-A78D-00F15527FD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Папский дворец в Авиньоне"/>
          <p:cNvPicPr/>
          <p:nvPr/>
        </p:nvPicPr>
        <p:blipFill>
          <a:blip r:embed="rId2"/>
          <a:stretch/>
        </p:blipFill>
        <p:spPr>
          <a:xfrm>
            <a:off x="1181160" y="1523880"/>
            <a:ext cx="6781680" cy="5113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липп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Краси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70C3-0A73-4333-BE32-FDE83E744A5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501D-31D8-4D7B-8F0D-A1E82D3EB5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енеральные ш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Генеральные штаты"/>
          <p:cNvPicPr/>
          <p:nvPr/>
        </p:nvPicPr>
        <p:blipFill>
          <a:blip r:embed="rId2"/>
          <a:stretch/>
        </p:blipFill>
        <p:spPr>
          <a:xfrm>
            <a:off x="2666880" y="1523880"/>
            <a:ext cx="3592800" cy="51818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838080" y="28954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I 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палат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духовенство</a:t>
            </a: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5715000" y="3733920"/>
            <a:ext cx="259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II 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палат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дворянство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91440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III 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палат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бюргерство</a:t>
            </a: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3FA4-684A-45CC-9BE9-27D282D57BD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8B06-9CDF-42A5-A30C-5E86FE0D8B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енеральные ш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Сословная монархи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централизованное государство, в котором королевская власть опиралась на собрание представителей сослов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0B01-90B2-4F44-A1CA-925C8107D9E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C696-594C-48DF-B973-B0B98BCFAB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ведение итог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ы на стр. 15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B2B8-407B-4816-8BED-F698E254993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4CEC-07A2-4F23-AEB0-C274D402D3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араграф 17, вопросы,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002D-42CE-4C64-B18E-F8ED49C5DD2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822F-B7F2-44A6-973B-2FE251ECD7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152280" y="1752480"/>
            <a:ext cx="8839440" cy="4800600"/>
          </a:xfrm>
          <a:prstGeom prst="rect">
            <a:avLst/>
          </a:prstGeom>
          <a:gradFill rotWithShape="0">
            <a:gsLst>
              <a:gs pos="0">
                <a:srgbClr val="53b9d1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то был заинтересован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ъединении стра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Первые успехи объедин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Филипп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Красивый и е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нфликт с пап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 Генеральные шта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6838-17E6-41B8-9D3E-5A2B2902D04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CFFF-24CB-4517-9641-5888A88F76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е на уро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152280" y="1752480"/>
            <a:ext cx="8839440" cy="4800600"/>
          </a:xfrm>
          <a:prstGeom prst="rect">
            <a:avLst/>
          </a:prstGeom>
          <a:gradFill rotWithShape="0">
            <a:gsLst>
              <a:gs pos="0">
                <a:srgbClr val="53b9d1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йствительно 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ъеди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ранции было неизбежны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быти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9FF5-00BC-4A02-9317-2D0A8F20184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034D-4A29-4B98-BE12-30B5C6196E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то был заинтересован в объединен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380880" y="2133720"/>
            <a:ext cx="822960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положите, кто мог 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интересован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ъединении Франц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0495-8B74-4333-8446-56B680FDA29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7085-20A6-4880-B6B1-0F99D6856E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2"/>
          <p:cNvPicPr/>
          <p:nvPr/>
        </p:nvPicPr>
        <p:blipFill>
          <a:blip r:embed="rId2"/>
          <a:stretch/>
        </p:blipFill>
        <p:spPr>
          <a:xfrm>
            <a:off x="4724280" y="1752480"/>
            <a:ext cx="4159440" cy="4262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10"/>
          <p:cNvPicPr/>
          <p:nvPr/>
        </p:nvPicPr>
        <p:blipFill>
          <a:blip r:embed="rId3"/>
          <a:stretch/>
        </p:blipFill>
        <p:spPr>
          <a:xfrm>
            <a:off x="6400800" y="2362320"/>
            <a:ext cx="1066680" cy="839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6"/>
          <p:cNvPicPr/>
          <p:nvPr/>
        </p:nvPicPr>
        <p:blipFill>
          <a:blip r:embed="rId4"/>
          <a:stretch/>
        </p:blipFill>
        <p:spPr>
          <a:xfrm>
            <a:off x="5257800" y="2592360"/>
            <a:ext cx="838080" cy="836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filipp2avg"/>
          <p:cNvPicPr/>
          <p:nvPr/>
        </p:nvPicPr>
        <p:blipFill>
          <a:blip r:embed="rId5"/>
          <a:stretch/>
        </p:blipFill>
        <p:spPr>
          <a:xfrm>
            <a:off x="6400800" y="34290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1"/>
          <p:cNvPicPr/>
          <p:nvPr/>
        </p:nvPicPr>
        <p:blipFill>
          <a:blip r:embed="rId6"/>
          <a:stretch/>
        </p:blipFill>
        <p:spPr>
          <a:xfrm>
            <a:off x="6629400" y="4724280"/>
            <a:ext cx="833400" cy="1067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Герб Святого Престола"/>
          <p:cNvPicPr/>
          <p:nvPr/>
        </p:nvPicPr>
        <p:blipFill>
          <a:blip r:embed="rId7"/>
          <a:stretch/>
        </p:blipFill>
        <p:spPr>
          <a:xfrm>
            <a:off x="7924680" y="4419720"/>
            <a:ext cx="811440" cy="1100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593640" y="411120"/>
            <a:ext cx="818460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ые успехи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152280" y="1600200"/>
            <a:ext cx="4800600" cy="49528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ачала коро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чиняли васса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обственных земля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затем начали подчиня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бе независим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телей обшир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ла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439E-1601-4E11-9575-DBE4066BA01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6D12-6F8F-43D3-9DA7-D4D2D5774A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457200" y="274680"/>
            <a:ext cx="8458200" cy="109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ые успехи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Сена в Париже. Вид с моста Пон Неф"/>
          <p:cNvPicPr/>
          <p:nvPr/>
        </p:nvPicPr>
        <p:blipFill>
          <a:blip r:embed="rId2"/>
          <a:stretch/>
        </p:blipFill>
        <p:spPr>
          <a:xfrm>
            <a:off x="5181480" y="1447920"/>
            <a:ext cx="3505320" cy="2635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Луара в Нанте"/>
          <p:cNvPicPr/>
          <p:nvPr/>
        </p:nvPicPr>
        <p:blipFill>
          <a:blip r:embed="rId3"/>
          <a:stretch/>
        </p:blipFill>
        <p:spPr>
          <a:xfrm>
            <a:off x="4952880" y="4114800"/>
            <a:ext cx="3962520" cy="25192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1"/>
          <p:cNvSpPr/>
          <p:nvPr/>
        </p:nvSpPr>
        <p:spPr>
          <a:xfrm>
            <a:off x="228600" y="1523880"/>
            <a:ext cx="4572000" cy="5105520"/>
          </a:xfrm>
          <a:prstGeom prst="rect">
            <a:avLst/>
          </a:prstGeom>
          <a:gradFill rotWithShape="0">
            <a:gsLst>
              <a:gs pos="0">
                <a:srgbClr val="53b9d1"/>
              </a:gs>
              <a:gs pos="100000">
                <a:srgbClr val="ffffff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этой борьбе корол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а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шлось столкну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английск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олём. Зна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еодалы Фран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ред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кали помощи 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глийского коро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9F21-6E9F-4D99-9861-CDB1F314BCF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59C8-A606-43CD-9D3F-415D9FC8FD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ьших успехов в объединении добился Филипп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Август, который отобрал у англичан Нормандию, а затем и другие территории на севере Фран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File:Louis-Félix Amiel-Philippe II dit Philippe-Auguste Roi de France (1165-1223).jpg"/>
          <p:cNvPicPr/>
          <p:nvPr/>
        </p:nvPicPr>
        <p:blipFill>
          <a:blip r:embed="rId2"/>
          <a:stretch/>
        </p:blipFill>
        <p:spPr>
          <a:xfrm>
            <a:off x="4952880" y="1523880"/>
            <a:ext cx="3984840" cy="5029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ые успехи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E842-23CF-4FE3-909A-D7E45E7707A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C6CA-7717-4915-BD5F-1E2DB6CAEB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1214 году Филипп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 ожесточённой битве при Бувине наголо разгромил своих противников и захватил богатые трофеи. У англичан осталась лишь часть Аквит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ые успехи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12"/>
          <p:cNvPicPr/>
          <p:nvPr/>
        </p:nvPicPr>
        <p:blipFill>
          <a:blip r:embed="rId2"/>
          <a:stretch/>
        </p:blipFill>
        <p:spPr>
          <a:xfrm>
            <a:off x="4572000" y="1828800"/>
            <a:ext cx="4419720" cy="34923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100" name="Rectangle 8"/>
          <p:cNvSpPr/>
          <p:nvPr/>
        </p:nvSpPr>
        <p:spPr>
          <a:xfrm>
            <a:off x="4572000" y="5334120"/>
            <a:ext cx="4419720" cy="6858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итва при Був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2E0E-3999-4985-B229-78E886E72DB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2306-FF3D-4A39-8166-4680F80E32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Людовик IX Святой"/>
          <p:cNvPicPr/>
          <p:nvPr/>
        </p:nvPicPr>
        <p:blipFill>
          <a:blip r:embed="rId2"/>
          <a:stretch/>
        </p:blipFill>
        <p:spPr>
          <a:xfrm>
            <a:off x="457200" y="1676520"/>
            <a:ext cx="3598920" cy="452592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106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ые успехи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304920" y="5943600"/>
            <a:ext cx="3809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овик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вя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572000" y="1676520"/>
            <a:ext cx="4419720" cy="4876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оль Людовик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ятой стал сильн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го феод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анции. Изда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ы, котор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йствовали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рритории 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Елена</cp:lastModifiedBy>
  <dcterms:modified xsi:type="dcterms:W3CDTF">2015-11-14T09:08:4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