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E3B-A41C-42FA-A166-54E13DC8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DC1-ACF2-4C4A-9FA0-6F964FC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8E5-64BB-4ECB-8064-59552F82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9A3-CBCC-450E-8DDF-C2071DDE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BF3-1A39-4B6C-9A38-3C2D9A21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7B8-E4E3-408F-B20F-FCFA98AD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8AB-EB5D-4614-9928-CC6044F9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D28-2EB4-4BE6-85BF-E93D1DE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709-B7E0-47DC-8A0A-A00D7FF8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8A3-5ED9-4FFE-8197-E8F1BB89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025-135F-40AF-88CF-17D1B73F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E49-C4B3-4B35-B760-2BB59E0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5897-391A-4479-A922-5BB2BCBB491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5779-3AF2-46E0-B4DE-90F1367CD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76240" y="38098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 Как происходило объединение Франции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228600" y="152280"/>
            <a:ext cx="8686800" cy="838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Средних веков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FEF4-E782-4119-B199-8A42652D006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2BC-3C1E-4452-BE4A-899F23AA5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илип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расивом было присоединено богатое графство Шампань и лежащая в Пиренейских горах на юге страна Навар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Филипп IV Красивый"/>
          <p:cNvPicPr/>
          <p:nvPr/>
        </p:nvPicPr>
        <p:blipFill>
          <a:blip r:embed="rId2"/>
          <a:stretch/>
        </p:blipFill>
        <p:spPr>
          <a:xfrm>
            <a:off x="4724280" y="1600200"/>
            <a:ext cx="4232520" cy="4500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16" name="Rectangle 8"/>
          <p:cNvSpPr/>
          <p:nvPr/>
        </p:nvSpPr>
        <p:spPr>
          <a:xfrm>
            <a:off x="4724280" y="6019920"/>
            <a:ext cx="4267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34EB-7606-4F11-A5E6-3C04D8AB342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C963-BA5B-416A-9C35-B2099B2C8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обеспечить казну деньгами, Филипп прибегнул к порче королевской монеты, заменив в ней часть серебра дешёвым металлом. Служащим платили испорченными деньгами, а платить в казну нужно было полноценной моне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00px-Philippe_IV_le_Bel"/>
          <p:cNvPicPr/>
          <p:nvPr/>
        </p:nvPicPr>
        <p:blipFill>
          <a:blip r:embed="rId2"/>
          <a:stretch/>
        </p:blipFill>
        <p:spPr>
          <a:xfrm>
            <a:off x="5029200" y="1447920"/>
            <a:ext cx="386568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60FA-D193-441D-9099-6184D4DE746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B2CA-99CA-45FD-8788-C0EA3770C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ежные трудности вызвали конфликт Филиппа IV с папой. Бонифаций VIII пытался возобновить претензии пап на руководство светскими государями, в ответ Филипп IV обложил налогами церковные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File:Bonifatius VIII Grabstatue.JPG"/>
          <p:cNvPicPr/>
          <p:nvPr/>
        </p:nvPicPr>
        <p:blipFill>
          <a:blip r:embed="rId2"/>
          <a:stretch/>
        </p:blipFill>
        <p:spPr>
          <a:xfrm>
            <a:off x="4876920" y="1600200"/>
            <a:ext cx="3884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B985-797E-41EB-B600-15DE632ED1D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C2E1-62C1-4FAB-896A-157A9AF10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Папский дворец в Авиньоне"/>
          <p:cNvPicPr/>
          <p:nvPr/>
        </p:nvPicPr>
        <p:blipFill>
          <a:blip r:embed="rId2"/>
          <a:stretch/>
        </p:blipFill>
        <p:spPr>
          <a:xfrm>
            <a:off x="1181160" y="1523880"/>
            <a:ext cx="6781680" cy="511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155-4D7C-4F03-A357-D0C6F3DE69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A06-78B1-4009-A118-68BD20D4F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Генеральные штаты"/>
          <p:cNvPicPr/>
          <p:nvPr/>
        </p:nvPicPr>
        <p:blipFill>
          <a:blip r:embed="rId2"/>
          <a:stretch/>
        </p:blipFill>
        <p:spPr>
          <a:xfrm>
            <a:off x="2666880" y="1523880"/>
            <a:ext cx="3592800" cy="5181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838080" y="28954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духовенство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715000" y="373392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дворянство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91440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бюргерство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7C22-9A89-4B30-9455-C1BC7A5C80A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F3D9-F61E-4F52-A7B8-4DED79D2C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ословная монарх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централизованное государство, в котором королевская власть опиралась на собрание представителей сослов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B39A-769A-44A9-8F1D-4AD3EB4E08C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93B-7CB0-450D-81A6-DAF6CEFF1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ение итог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ы на стр. 15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D213-A963-4A32-9FDF-22EF1BCE59A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A54-CC91-4E0C-AD0B-5083D75B2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раграф 17, вопросы,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75E0-7CF0-4387-ADA6-C21AB88F1D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726-0DEA-40E6-AE93-ABC72631E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был заинтересован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динении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Первые успехи объ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Филипп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сивый и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фликт с па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Генеральные шт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F065-BFEB-4070-829F-C4E3CA78CCF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6B3F-1510-4881-BD7F-684E83830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йствительно 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ранции было неизбеж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быт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A7AD-CDD1-4C10-BEB2-8777FB7C71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056A-9338-455B-832C-4AB82FE46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был заинтересован в объедин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80880" y="2133720"/>
            <a:ext cx="82296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то мог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интересован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динении Фран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F8CE-F8F9-4907-82C4-1DBD1BC481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C85-9A4C-4617-BE5B-30B18ACEA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2"/>
          <p:cNvPicPr/>
          <p:nvPr/>
        </p:nvPicPr>
        <p:blipFill>
          <a:blip r:embed="rId2"/>
          <a:stretch/>
        </p:blipFill>
        <p:spPr>
          <a:xfrm>
            <a:off x="4724280" y="1752480"/>
            <a:ext cx="4159440" cy="426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0"/>
          <p:cNvPicPr/>
          <p:nvPr/>
        </p:nvPicPr>
        <p:blipFill>
          <a:blip r:embed="rId3"/>
          <a:stretch/>
        </p:blipFill>
        <p:spPr>
          <a:xfrm>
            <a:off x="6400800" y="2362320"/>
            <a:ext cx="1066680" cy="83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6"/>
          <p:cNvPicPr/>
          <p:nvPr/>
        </p:nvPicPr>
        <p:blipFill>
          <a:blip r:embed="rId4"/>
          <a:stretch/>
        </p:blipFill>
        <p:spPr>
          <a:xfrm>
            <a:off x="5257800" y="2592360"/>
            <a:ext cx="838080" cy="83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filipp2avg"/>
          <p:cNvPicPr/>
          <p:nvPr/>
        </p:nvPicPr>
        <p:blipFill>
          <a:blip r:embed="rId5"/>
          <a:stretch/>
        </p:blipFill>
        <p:spPr>
          <a:xfrm>
            <a:off x="6400800" y="3429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1"/>
          <p:cNvPicPr/>
          <p:nvPr/>
        </p:nvPicPr>
        <p:blipFill>
          <a:blip r:embed="rId6"/>
          <a:stretch/>
        </p:blipFill>
        <p:spPr>
          <a:xfrm>
            <a:off x="6629400" y="4724280"/>
            <a:ext cx="8334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Герб Святого Престола"/>
          <p:cNvPicPr/>
          <p:nvPr/>
        </p:nvPicPr>
        <p:blipFill>
          <a:blip r:embed="rId7"/>
          <a:stretch/>
        </p:blipFill>
        <p:spPr>
          <a:xfrm>
            <a:off x="7924680" y="4419720"/>
            <a:ext cx="811440" cy="1100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93640" y="411120"/>
            <a:ext cx="818460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152280" y="1600200"/>
            <a:ext cx="4800600" cy="4952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чала кор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иняли васс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обственных земл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тем начали подчи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е независ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ей обши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5B2C-F8C0-4241-8C08-544E5F40CC8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EDA-9B63-4982-9835-C93080102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457200" y="274680"/>
            <a:ext cx="8458200" cy="109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Сена в Париже. Вид с моста Пон Неф"/>
          <p:cNvPicPr/>
          <p:nvPr/>
        </p:nvPicPr>
        <p:blipFill>
          <a:blip r:embed="rId2"/>
          <a:stretch/>
        </p:blipFill>
        <p:spPr>
          <a:xfrm>
            <a:off x="5181480" y="1447920"/>
            <a:ext cx="3505320" cy="263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Луара в Нанте"/>
          <p:cNvPicPr/>
          <p:nvPr/>
        </p:nvPicPr>
        <p:blipFill>
          <a:blip r:embed="rId3"/>
          <a:stretch/>
        </p:blipFill>
        <p:spPr>
          <a:xfrm>
            <a:off x="4952880" y="4114800"/>
            <a:ext cx="396252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228600" y="1523880"/>
            <a:ext cx="4572000" cy="510552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борьбе коро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шлось столкну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англий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ём. Зн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одалы Фра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али помощи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глийского ко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888E-AA15-4C71-85FA-5C87E46207A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C2CB-C0C3-4BC9-95CE-C6A035994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их успехов в объединении добился Филип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вгуст, который отобрал у англичан Нормандию, а затем и другие территории на севере Фра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File:Louis-Félix Amiel-Philippe II dit Philippe-Auguste Roi de France (1165-1223).jpg"/>
          <p:cNvPicPr/>
          <p:nvPr/>
        </p:nvPicPr>
        <p:blipFill>
          <a:blip r:embed="rId2"/>
          <a:stretch/>
        </p:blipFill>
        <p:spPr>
          <a:xfrm>
            <a:off x="4952880" y="1523880"/>
            <a:ext cx="398484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3A19-A345-4FA7-930B-4DF9F50C6EC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A22E-8E88-4349-BBB9-F8C416892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214 году Филип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ожесточённой битве при Бувине наголо разгромил своих противников и захватил богатые трофеи. У англичан осталась лишь часть Акв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2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3492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0" name="Rectangle 8"/>
          <p:cNvSpPr/>
          <p:nvPr/>
        </p:nvSpPr>
        <p:spPr>
          <a:xfrm>
            <a:off x="4572000" y="5334120"/>
            <a:ext cx="441972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итва при Бу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567-9E1C-4E45-90BB-AF326E92BE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A112-00A3-4E9D-9802-919F66780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Людовик IX Святой"/>
          <p:cNvPicPr/>
          <p:nvPr/>
        </p:nvPicPr>
        <p:blipFill>
          <a:blip r:embed="rId2"/>
          <a:stretch/>
        </p:blipFill>
        <p:spPr>
          <a:xfrm>
            <a:off x="457200" y="1676520"/>
            <a:ext cx="3598920" cy="4525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5943600"/>
            <a:ext cx="3809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вя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572000" y="1676520"/>
            <a:ext cx="4419720" cy="4876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ь Людов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й стал силь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го феод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. Изда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ы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овал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11-14T09:08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