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2B5-0BC2-4C18-907A-5E737ED6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110-DAA7-4B4E-A0EE-7D6D53A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2A4-1F7B-4020-8E4C-48FCD5E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AEA-31A4-482B-93AF-85CCBEC7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705F-7B82-4993-AB51-4CBD25C4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9C02-AF13-4DE2-A143-4D399A7E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E534-4EE8-4CDC-A8E3-24A6D7D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5F7-D9F7-4E3D-9C75-B10E09E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87E-AD08-4567-A366-A082856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B92-4052-4AC0-83B0-BCBFE7B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AD9-69CF-45C5-8F13-12679634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FA3-8068-4BEC-803A-2EC201D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2CFA-A5B6-4BB4-B0AB-52BB4A5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90D-DFB2-432A-9468-04D4071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C6F-B1C0-4533-BC32-667F1313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6F9-32B4-43B7-A622-8217F068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FDC-585E-4C1C-BC36-C094824C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51A-3FE0-4EDE-BB63-D721D6D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39F-D484-417E-9F12-AFC3408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4D7-483B-47C5-BDD3-CE40FA1C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563-AD12-42E6-8107-41EC5B7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380-FB86-4E79-957B-2C1C345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32F-C3FC-489B-9426-85862F8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C5E-96EA-4F92-8886-96B35D8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1008000 w 9142560"/>
                <a:gd name="textAreaRight" fmla="*/ 8134560 w 9142560"/>
                <a:gd name="textAreaTop" fmla="*/ 58680 h 532080"/>
                <a:gd name="textAreaBottom" fmla="*/ 4734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5" y="21600"/>
                  </a:lnTo>
                  <a:lnTo>
                    <a:pt x="2043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6D36-18A1-44E5-8AC8-84E2E5226B25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995400 w 9142560"/>
                <a:gd name="textAreaRight" fmla="*/ 8147160 w 9142560"/>
                <a:gd name="textAreaTop" fmla="*/ 56880 h 532080"/>
                <a:gd name="textAreaBottom" fmla="*/ 4752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9B80-1BB8-4E9E-B57C-1116DD04CA51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Царство</a:t>
            </a:r>
            <a:br>
              <a:rPr sz="4400"/>
            </a:b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Давида и Соломон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8520"/>
            <a:ext cx="7772400" cy="421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74520"/>
            <a:ext cx="7772400" cy="3786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Times New Roman"/>
              </a:rPr>
              <a:t>Определите, что в преданиях евреев похоже на правду, а что - на вымысел?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248000" cy="597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13 в.до н.э. евреи при-шли в долину р. Иордан  и начали борьбу с местными племе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.Иерихон они взяли затрубив в трубы и громко закричав, после чего крепостная стена рухнул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другой раз во время сражения, солнце начало садиться. Вождь евреев попросил бога остановить закат и ев реи взяли верх над противник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4560" y="5559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дамент башни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ерих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1" name="Picture 9" descr="1"/>
          <p:cNvPicPr/>
          <p:nvPr/>
        </p:nvPicPr>
        <p:blipFill>
          <a:blip r:embed="rId2"/>
          <a:stretch/>
        </p:blipFill>
        <p:spPr>
          <a:xfrm>
            <a:off x="611280" y="981000"/>
            <a:ext cx="3744720" cy="45356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0720" cy="476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248000" cy="61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дин из евреев Самсон- обладал огромной си-лой.Он полюбил кра-савицу Далилу и та уз нала,что его сила кро-ется в волосах.Спяще-го Самсона остригли и связали.Он был ос-леплен и брошен в те-мницу.Филистимляне устроили пир и стали издеваться над Самсо-ном.Но его волосы уже отрасли.Самсон схватился за колонны и обрушил здани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31040" y="555948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сон разрушает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филистимля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5" name="Picture 6" descr="bibs15"/>
          <p:cNvPicPr/>
          <p:nvPr/>
        </p:nvPicPr>
        <p:blipFill>
          <a:blip r:embed="rId2"/>
          <a:stretch/>
        </p:blipFill>
        <p:spPr>
          <a:xfrm>
            <a:off x="826920" y="836640"/>
            <a:ext cx="3381480" cy="47466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Прочитайте притчу о Давиде и Голиафе (С.80-81)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ие качества в борьбе с врагами ценили Древние евре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ой смысл они вкладывали в эту притчу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5240" y="198900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вид и Голиаф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9" name="Picture 6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779400"/>
            <a:ext cx="5327640" cy="32259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4080" y="198900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тадель Иерусалима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ши дни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2" name="Picture 6" descr="4"/>
          <p:cNvPicPr/>
          <p:nvPr/>
        </p:nvPicPr>
        <p:blipFill>
          <a:blip r:embed="rId1"/>
          <a:stretch/>
        </p:blipFill>
        <p:spPr>
          <a:xfrm>
            <a:off x="3849840" y="797040"/>
            <a:ext cx="4825800" cy="32083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860640"/>
            <a:ext cx="849600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сле Давида правил его сын Соломон. При нем прекратились войны, евреи занялись земледели ем,скотоводством,ремеслом и торговлей.Иеруса-лим был отстроен заново,в центре города возве-ли дворец Соломона.Египетский фараон отдал за него свою дочь, а царица Савская прислала послов с богатыми подарка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очитайте «Легенду о суде Соломона» с.82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Почему Соломона считали мудрейшим из царей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Что помогало ему решать запутанные судебные споры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2320" y="195912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Г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царя Солом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7" name="Picture 5" descr="1"/>
          <p:cNvPicPr/>
          <p:nvPr/>
        </p:nvPicPr>
        <p:blipFill>
          <a:blip r:embed="rId2"/>
          <a:stretch/>
        </p:blipFill>
        <p:spPr>
          <a:xfrm>
            <a:off x="4249800" y="817560"/>
            <a:ext cx="4354560" cy="31878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 центре Иерусалима Соломон воздвиг храм Бога Яхве в нем хранились скрижали с заповедями бога.Храм был единственным местом поклоне-ния Яхве.Евреи считали храм своей святыней. Но после смерти Соломона его царство распа-лось, а затем был разрушен и Хра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43600" y="184464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Яхве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Иерусалим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атюра к.19 в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1" name="Picture 5" descr="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621240" y="814320"/>
            <a:ext cx="4911480" cy="31910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Елена</dc:creator>
  <dc:description/>
  <dc:language>en-US</dc:language>
  <cp:lastModifiedBy>Елена</cp:lastModifiedBy>
  <dcterms:modified xsi:type="dcterms:W3CDTF">2015-11-13T10:14:30Z</dcterms:modified>
  <cp:revision>39</cp:revision>
  <dc:subject/>
  <dc:title>Финикийские мореплаватели.</dc:title>
</cp:coreProperties>
</file>