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566-031C-47E0-9779-DCF5826F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B86-54E8-4639-9BDE-1F533569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938-60C8-40B5-838A-279921A2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4EA-93BE-46A5-AA1D-C449BA92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D40A-8B32-4166-8FEB-7AD08C24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BB44-8950-498C-A4D0-58A58B5D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076-203B-4A66-B742-1FA2032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DA1-56FC-431B-9442-E14DE2AE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E7A2-1A5A-4929-84E9-D0E70107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6410-7C5D-427D-BE2C-0426D16F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1E96-F124-40B6-BCDD-F8CDF5A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AAE-EC25-42C1-9EAD-C9D77D6D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7FB3-D4CA-4CE3-8E23-CC4DEBAF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2A63-AF48-4B07-98A0-81A6854F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7BB-2FF2-473B-A313-D087103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1A25-DCCF-4178-B483-BFEC72F3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7787-D18E-45C2-B3C4-D62D0494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709-AC2B-4CBD-BC50-229C9AD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028-134E-4F20-96F8-A16DD5D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666-0ACA-4088-BD99-C8FBABC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5A5-B3C6-45E5-9921-326D819C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D60-0454-493F-B2E0-7C74AB1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22E-12C3-499C-B93A-A924F61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B34-EE3A-4BE7-9308-6532AC7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1008000 w 9142560"/>
                <a:gd name="textAreaRight" fmla="*/ 8134560 w 9142560"/>
                <a:gd name="textAreaTop" fmla="*/ 58680 h 532080"/>
                <a:gd name="textAreaBottom" fmla="*/ 4734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5" y="21600"/>
                  </a:lnTo>
                  <a:lnTo>
                    <a:pt x="2043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CEB8-A39A-475F-94C1-E85D7C8A0C29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995400 w 9142560"/>
                <a:gd name="textAreaRight" fmla="*/ 8147160 w 9142560"/>
                <a:gd name="textAreaTop" fmla="*/ 56880 h 532080"/>
                <a:gd name="textAreaBottom" fmla="*/ 4752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8D1E-016E-4E87-8019-AA27913917AA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Царство</a:t>
            </a:r>
            <a:br>
              <a:rPr sz="4400"/>
            </a:b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Давида и Соломон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8520"/>
            <a:ext cx="7772400" cy="421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История царя Давида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4.Храм в Иерусалиме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74520"/>
            <a:ext cx="7772400" cy="3786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Times New Roman"/>
              </a:rPr>
              <a:t>Определите, что в преданиях евреев похоже на правду, а что - на вымысел?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0" y="764640"/>
            <a:ext cx="4248000" cy="597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13 в.до н.э. евреи при-шли в долину р. Иордан  и начали борьбу с местными племен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.Иерихон они взяли затрубив в трубы и громко закричав, после чего крепостная стена рухнул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другой раз во время сражения, солнце начало садиться. Вождь евреев попросил бога остановить закат и ев реи взяли верх над противник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4560" y="555948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ндамент башни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ерихона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1" name="Picture 9" descr="1"/>
          <p:cNvPicPr/>
          <p:nvPr/>
        </p:nvPicPr>
        <p:blipFill>
          <a:blip r:embed="rId2"/>
          <a:stretch/>
        </p:blipFill>
        <p:spPr>
          <a:xfrm>
            <a:off x="611280" y="981000"/>
            <a:ext cx="3744720" cy="453564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0720" cy="476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549360"/>
            <a:ext cx="4248000" cy="61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дин из евреев Самсон- обладал огромной си-лой.Он полюбил кра-савицу Далилу и та уз нала,что его сила кро-ется в волосах.Спяще-го Самсона остригли и связали.Он был ос-леплен и брошен в те-мницу.Филистимляне устроили пир и стали издеваться над Самсо-ном.Но его волосы уже отрасли.Самсон схватился за колонны и обрушил здани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31040" y="555948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сон разрушает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ам филистимлян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5" name="Picture 6" descr="bibs15"/>
          <p:cNvPicPr/>
          <p:nvPr/>
        </p:nvPicPr>
        <p:blipFill>
          <a:blip r:embed="rId2"/>
          <a:stretch/>
        </p:blipFill>
        <p:spPr>
          <a:xfrm>
            <a:off x="826920" y="836640"/>
            <a:ext cx="3381480" cy="47466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История царя Давид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Прочитайте притчу о Давиде и Голиафе (С.80-81) и ответьте на вопросы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ие качества в борьбе с врагами ценили Древние евре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ой смысл они вкладывали в эту притчу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5240" y="198900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вид и Голиаф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9" name="Picture 6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779400"/>
            <a:ext cx="5327640" cy="322596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24080" y="198900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итадель Иерусалима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аши дни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22" name="Picture 6" descr="4"/>
          <p:cNvPicPr/>
          <p:nvPr/>
        </p:nvPicPr>
        <p:blipFill>
          <a:blip r:embed="rId1"/>
          <a:stretch/>
        </p:blipFill>
        <p:spPr>
          <a:xfrm>
            <a:off x="3849840" y="797040"/>
            <a:ext cx="4825800" cy="32083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860640"/>
            <a:ext cx="8496000" cy="28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сле Давида правил его сын Соломон. При нем прекратились войны, евреи занялись земледели ем,скотоводством,ремеслом и торговлей.Иеруса-лим был отстроен заново,в центре города возве-ли дворец Соломона.Египетский фараон отдал за него свою дочь, а царица Савская прислала послов с богатыми подаркам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очитайте «Легенду о суде Соломона» с.82 и ответьте на вопросы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-Почему Соломона считали мудрейшим из царей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-Что помогало ему решать запутанные судебные споры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32320" y="195912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Ге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 царя Соломона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27" name="Picture 5" descr="1"/>
          <p:cNvPicPr/>
          <p:nvPr/>
        </p:nvPicPr>
        <p:blipFill>
          <a:blip r:embed="rId2"/>
          <a:stretch/>
        </p:blipFill>
        <p:spPr>
          <a:xfrm>
            <a:off x="4249800" y="817560"/>
            <a:ext cx="4354560" cy="31878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Храм в Иерусалиме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 центре Иерусалима Соломон воздвиг храм Бога Яхве в нем хранились скрижали с заповедями бога.Храм был единственным местом поклоне-ния Яхве.Евреи считали храм своей святыней. Но после смерти Соломона его царство распа-лось, а затем был разрушен и Хра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43600" y="184464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ам Яхве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Иерусалиме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атюра к.19 в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31" name="Picture 5" descr="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621240" y="814320"/>
            <a:ext cx="4911480" cy="319104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Елена</dc:creator>
  <dc:description/>
  <dc:language>en-US</dc:language>
  <cp:lastModifiedBy>Елена</cp:lastModifiedBy>
  <dcterms:modified xsi:type="dcterms:W3CDTF">2015-11-13T10:14:30Z</dcterms:modified>
  <cp:revision>39</cp:revision>
  <dc:subject/>
  <dc:title>Финикийские мореплаватели.</dc:title>
</cp:coreProperties>
</file>