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FE4-1AD6-4F06-A381-F849930B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7981-73ED-4DD1-9894-DFD095D61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23D3-80EC-4A4E-94CA-E2752F2A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6E06-E03D-43F5-BB59-4FE49C8C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803A7-D1DB-4A7F-A188-5DF77893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8680-70CE-48F2-97CA-3F2D1767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2FC5-B5DB-4107-9E88-015DFD77E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4AD7-5219-4563-A899-A1FA5BE60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F16C-3681-4C3C-A37A-06B89CF5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86BB-F65E-4681-B0DE-1B38F3E6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72EE-F98D-4C3A-A944-310240DD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7D1C-7B53-4B98-B9A6-DC4D479E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B3724-D857-46B0-9E69-2371928C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DA77-C9EC-4081-B889-822BA6AE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245B4-3F13-4CB0-9566-1B6AEEBA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475C6-5531-4C89-AF19-ED20BCD8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98D4-5E85-42FE-B33A-377967AEB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FB4-2E15-44C8-8F90-2D9820C35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6EF3-7C04-4BCD-927B-62B6AA9A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74B1-0631-4C02-B5B2-DC2E7D1F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321A-EA33-45BA-8599-C741004D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DEF4-C3AD-4F56-B960-4406A8C0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F98-4225-45DC-92C7-3509445AD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290F-D222-48EB-81E6-5A8B843F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custGeom>
              <a:avLst/>
              <a:gdLst>
                <a:gd name="textAreaLeft" fmla="*/ 992160 w 9142560"/>
                <a:gd name="textAreaRight" fmla="*/ 8150400 w 9142560"/>
                <a:gd name="textAreaTop" fmla="*/ 41040 h 380880"/>
                <a:gd name="textAreaBottom" fmla="*/ 339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 flipV="1">
              <a:off x="0" y="6324480"/>
              <a:ext cx="9142560" cy="532080"/>
            </a:xfrm>
            <a:custGeom>
              <a:avLst/>
              <a:gdLst>
                <a:gd name="textAreaLeft" fmla="*/ 1008000 w 9142560"/>
                <a:gd name="textAreaRight" fmla="*/ 8134560 w 9142560"/>
                <a:gd name="textAreaTop" fmla="*/ 58680 h 532080"/>
                <a:gd name="textAreaBottom" fmla="*/ 47340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65" y="21600"/>
                  </a:lnTo>
                  <a:lnTo>
                    <a:pt x="2043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D5480-27ED-4A89-B0B6-03939EE6830E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" name="Rectangle 2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49" name="Rectangle 3"/>
            <p:cNvSpPr/>
            <p:nvPr/>
          </p:nvSpPr>
          <p:spPr>
            <a:xfrm>
              <a:off x="868680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 flipH="1" flipV="1" rot="10800000">
              <a:off x="0" y="0"/>
              <a:ext cx="9142560" cy="380880"/>
            </a:xfrm>
            <a:custGeom>
              <a:avLst/>
              <a:gdLst>
                <a:gd name="textAreaLeft" fmla="*/ 992160 w 9142560"/>
                <a:gd name="textAreaRight" fmla="*/ 8150400 w 9142560"/>
                <a:gd name="textAreaTop" fmla="*/ 41040 h 380880"/>
                <a:gd name="textAreaBottom" fmla="*/ 339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6633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1" name="AutoShape 5"/>
            <p:cNvSpPr/>
            <p:nvPr/>
          </p:nvSpPr>
          <p:spPr>
            <a:xfrm flipV="1">
              <a:off x="0" y="6324480"/>
              <a:ext cx="9142560" cy="532080"/>
            </a:xfrm>
            <a:custGeom>
              <a:avLst/>
              <a:gdLst>
                <a:gd name="textAreaLeft" fmla="*/ 995400 w 9142560"/>
                <a:gd name="textAreaRight" fmla="*/ 8147160 w 9142560"/>
                <a:gd name="textAreaTop" fmla="*/ 56880 h 532080"/>
                <a:gd name="textAreaBottom" fmla="*/ 475200 h 532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99663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sp>
          <p:nvSpPr>
            <p:cNvPr id="52" name="Rectangle 6"/>
            <p:cNvSpPr/>
            <p:nvPr/>
          </p:nvSpPr>
          <p:spPr>
            <a:xfrm>
              <a:off x="457200" y="304920"/>
              <a:ext cx="8229600" cy="6019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 Cyr"/>
              </a:endParaRPr>
            </a:p>
          </p:txBody>
        </p:sp>
        <p:grpSp>
          <p:nvGrpSpPr>
            <p:cNvPr id="53" name="Group 15"/>
            <p:cNvGrpSpPr/>
            <p:nvPr/>
          </p:nvGrpSpPr>
          <p:grpSpPr>
            <a:xfrm>
              <a:off x="609480" y="3324240"/>
              <a:ext cx="8001000" cy="374760"/>
              <a:chOff x="609480" y="3324240"/>
              <a:chExt cx="8001000" cy="374760"/>
            </a:xfrm>
          </p:grpSpPr>
          <p:sp>
            <p:nvSpPr>
              <p:cNvPr id="54" name="Rectangle 7"/>
              <p:cNvSpPr/>
              <p:nvPr/>
            </p:nvSpPr>
            <p:spPr>
              <a:xfrm>
                <a:off x="609480" y="3470400"/>
                <a:ext cx="8001000" cy="228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5" name="Rectangle 8"/>
              <p:cNvSpPr/>
              <p:nvPr/>
            </p:nvSpPr>
            <p:spPr>
              <a:xfrm>
                <a:off x="615960" y="3324240"/>
                <a:ext cx="7843680" cy="277920"/>
              </a:xfrm>
              <a:prstGeom prst="rect">
                <a:avLst/>
              </a:prstGeom>
              <a:gradFill rotWithShape="0">
                <a:gsLst>
                  <a:gs pos="0">
                    <a:srgbClr val="e6dcac"/>
                  </a:gs>
                  <a:gs pos="100000">
                    <a:srgbClr val="e6dcac"/>
                  </a:gs>
                </a:gsLst>
                <a:lin ang="2700000"/>
              </a:gradFill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6" name="Line 9"/>
              <p:cNvSpPr/>
              <p:nvPr/>
            </p:nvSpPr>
            <p:spPr>
              <a:xfrm>
                <a:off x="622440" y="339408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7" name="Line 10"/>
              <p:cNvSpPr/>
              <p:nvPr/>
            </p:nvSpPr>
            <p:spPr>
              <a:xfrm>
                <a:off x="622440" y="347040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622440" y="3546360"/>
                <a:ext cx="7840440" cy="0"/>
              </a:xfrm>
              <a:prstGeom prst="line">
                <a:avLst/>
              </a:prstGeom>
              <a:ln w="12600">
                <a:solidFill>
                  <a:srgbClr val="cc996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622440" y="337968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622440" y="345600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622440" y="3532320"/>
                <a:ext cx="7840440" cy="0"/>
              </a:xfrm>
              <a:prstGeom prst="line">
                <a:avLst/>
              </a:prstGeom>
              <a:ln w="1260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 Cyr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ru-RU" sz="1400" spc="-1" strike="noStrike">
                <a:solidFill>
                  <a:srgbClr val="cc996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98C3-CF4C-432F-B2FD-453F8D185D33}" type="slidenum">
              <a:rPr b="0" i="1" lang="ru-RU" sz="1400" spc="-1" strike="noStrike">
                <a:solidFill>
                  <a:srgbClr val="cc996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Царство</a:t>
            </a:r>
            <a:br>
              <a:rPr sz="4400"/>
            </a:b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Давида и Соломона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План урока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58520"/>
            <a:ext cx="7772400" cy="4218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1.Библейские предания о героях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2.История царя Давида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3.Правление Соломона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4.Храм в Иерусалиме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00"/>
                </a:solidFill>
                <a:uFillTx/>
                <a:latin typeface="Times New Roman"/>
              </a:rPr>
              <a:t>Задание на урок.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74520"/>
            <a:ext cx="7772400" cy="37861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00080"/>
                </a:solidFill>
                <a:latin typeface="Times New Roman"/>
              </a:rPr>
              <a:t>Определите, что в преданиях евреев похоже на правду, а что - на вымысел?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Библейские предания о героях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0" y="764640"/>
            <a:ext cx="4248000" cy="5977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 13 в.до н.э. евреи при-шли в долину р. Иордан  и начали борьбу с местными племенами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Г.Иерихон они взяли затрубив в трубы и громко закричав, после чего крепостная стена рухнул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В другой раз во время сражения, солнце начало садиться. Вождь евреев попросил бога остановить закат и ев реи взяли верх над противнико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1114560" y="5559480"/>
            <a:ext cx="273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Фундамент башни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ерихона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1" name="Picture 9" descr="1"/>
          <p:cNvPicPr/>
          <p:nvPr/>
        </p:nvPicPr>
        <p:blipFill>
          <a:blip r:embed="rId2"/>
          <a:stretch/>
        </p:blipFill>
        <p:spPr>
          <a:xfrm>
            <a:off x="611280" y="981000"/>
            <a:ext cx="3744720" cy="453564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40720" cy="47628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Библейские предания о героях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0" y="549360"/>
            <a:ext cx="4248000" cy="6192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Один из евреев Самсон- обладал огромной си-лой.Он полюбил кра-савицу Далилу и та уз нала,что его сила кро-ется в волосах.Спяще-го Самсона остригли и связали.Он был ос-леплен и брошен в те-мницу.Филистимляне устроили пир и стали издеваться над Самсо-ном.Но его волосы уже отрасли.Самсон схватился за колонны и обрушил здание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031040" y="555948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амсон разрушает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рам филистимлян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5" name="Picture 6" descr="bibs15"/>
          <p:cNvPicPr/>
          <p:nvPr/>
        </p:nvPicPr>
        <p:blipFill>
          <a:blip r:embed="rId2"/>
          <a:stretch/>
        </p:blipFill>
        <p:spPr>
          <a:xfrm>
            <a:off x="826920" y="836640"/>
            <a:ext cx="3381480" cy="474660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История царя Давида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4078080"/>
            <a:ext cx="8496000" cy="2663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ff"/>
                </a:solidFill>
                <a:uFillTx/>
                <a:latin typeface="Times New Roman"/>
              </a:rPr>
              <a:t>Прочитайте притчу о Давиде и Голиафе (С.80-81) и ответьте на вопросы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акие качества в борьбе с врагами ценили Древние евреи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-Какой смысл они вкладывали в эту притчу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615240" y="1989000"/>
            <a:ext cx="249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И.Репин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Давид и Голиаф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19" name="Picture 6" descr="2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3348000" y="779400"/>
            <a:ext cx="5327640" cy="322596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Правление Соломона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24080" y="1989000"/>
            <a:ext cx="328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Цитадель Иерусалима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наши дни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22" name="Picture 6" descr="4"/>
          <p:cNvPicPr/>
          <p:nvPr/>
        </p:nvPicPr>
        <p:blipFill>
          <a:blip r:embed="rId1"/>
          <a:stretch/>
        </p:blipFill>
        <p:spPr>
          <a:xfrm>
            <a:off x="3849840" y="797040"/>
            <a:ext cx="4825800" cy="320832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3860640"/>
            <a:ext cx="8496000" cy="28814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осле Давида правил его сын Соломон. При нем прекратились войны, евреи занялись земледели ем,скотоводством,ремеслом и торговлей.Иеруса-лим был отстроен заново,в центре города возве-ли дворец Соломона.Египетский фараон отдал за него свою дочь, а царица Савская прислала послов с богатыми подарками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Правление Соломона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4078080"/>
            <a:ext cx="8496000" cy="2663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Прочитайте «Легенду о суде Соломона» с.82 и ответьте на вопросы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-Почему Соломона считали мудрейшим из царей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-Что помогало ему решать запутанные судебные споры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832320" y="1959120"/>
            <a:ext cx="297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Н.Ге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Суд царя Соломона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27" name="Picture 5" descr="1"/>
          <p:cNvPicPr/>
          <p:nvPr/>
        </p:nvPicPr>
        <p:blipFill>
          <a:blip r:embed="rId2"/>
          <a:stretch/>
        </p:blipFill>
        <p:spPr>
          <a:xfrm>
            <a:off x="4249800" y="817560"/>
            <a:ext cx="4354560" cy="318780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640720" cy="6127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50000">
                <a:srgbClr val="000000"/>
              </a:gs>
              <a:gs pos="100000">
                <a:srgbClr val="996633"/>
              </a:gs>
            </a:gsLst>
            <a:lin ang="5400000"/>
          </a:grad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4.Храм в Иерусалиме.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4000" y="4078080"/>
            <a:ext cx="8496000" cy="26636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76320">
            <a:solidFill>
              <a:srgbClr val="ffcc66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Times New Roman"/>
              </a:rPr>
              <a:t>В центре Иерусалима Соломон воздвиг храм Бога Яхве в нем хранились скрижали с заповедями бога.Храм был единственным местом поклоне-ния Яхве.Евреи считали храм своей святыней. Но после смерти Соломона его царство распа-лось, а затем был разрушен и Храм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43600" y="1844640"/>
            <a:ext cx="280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Храм Яхве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 Иерусалиме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Миниатюра к.19 в.</a:t>
            </a:r>
            <a:endParaRPr b="0" lang="en-US" sz="2400" spc="-1" strike="noStrike">
              <a:solidFill>
                <a:srgbClr val="eaeaea"/>
              </a:solidFill>
              <a:latin typeface="Times New Roman Cyr"/>
            </a:endParaRPr>
          </a:p>
        </p:txBody>
      </p:sp>
      <p:pic>
        <p:nvPicPr>
          <p:cNvPr id="131" name="Picture 5" descr="4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3621240" y="814320"/>
            <a:ext cx="4911480" cy="3191040"/>
          </a:xfrm>
          <a:prstGeom prst="rect">
            <a:avLst/>
          </a:prstGeom>
          <a:ln w="76320">
            <a:solidFill>
              <a:srgbClr val="ffc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11-07T22:49:56Z</dcterms:created>
  <dc:creator>Елена</dc:creator>
  <dc:description/>
  <dc:language>en-US</dc:language>
  <cp:lastModifiedBy>Елена</cp:lastModifiedBy>
  <dcterms:modified xsi:type="dcterms:W3CDTF">2015-11-13T10:14:30Z</dcterms:modified>
  <cp:revision>39</cp:revision>
  <dc:subject/>
  <dc:title>Финикийские мореплаватели.</dc:title>
</cp:coreProperties>
</file>