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arrow.wav" ContentType="audio/x-wav"/>
  <Override PartName="/ppt/media/image1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0B0-1B4F-47DA-B9BF-B0083F49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F95-9E25-4B73-8CB5-E07F527C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7AC-9F3C-45AE-AD6A-767FDE10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EA9-493C-4246-BCD5-1B1D5B8F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5F4D-E65B-42CF-959B-90781307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10DB-B9D8-4BB6-A37F-B75573AC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FCF-E58F-4459-98F5-6C485425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8F0B-D4E6-4ADD-A8E1-CD7B774B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A637-4AF7-4B6F-92C0-41159F64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0B67-F1D1-4A42-ACF7-0B911C34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2648-6580-4FBA-A0F5-CC5821CB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771-D0C9-48A7-A177-84A0C21F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73C8-AD5C-4D2A-93E1-32793D62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D5E0-6BA5-4E6F-B994-1598E9A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323F-A657-4B7D-9745-FCDEF3D4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1D39-E9B5-4FCB-8A98-C068C68B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4A8B-C50A-4528-B5F1-83C6996B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5F7-0DDE-40FA-9880-0B6FDB1F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E66-9CC0-4FDE-8498-619A4953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B06-F728-4084-AFEC-C36800A3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F9F-336A-4E1C-8C30-4488BAE3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5AD-20AE-4973-BEE0-123377FC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F3C-9A92-4DF5-962D-A76E315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F79-E8A7-4EE4-8604-D5B816D9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FF6D-41F3-43E6-9E8D-4A70DEB372F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5493-01F0-46ED-971C-ECDD007B986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3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20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efee"/>
                </a:solidFill>
                <a:latin typeface="Garamond"/>
              </a:rPr>
              <a:t>МДОУ «Детский сад комбинированного вида №103 Заводского района г. Саратова»</a:t>
            </a:r>
            <a:endParaRPr b="1" lang="en-US" sz="1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зентац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Развитие логического мышл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ходе НОД по ФЭМП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: Шорникова М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рат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1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168120"/>
            <a:ext cx="3763800" cy="668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29200" y="312840"/>
            <a:ext cx="3681360" cy="65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2120" y="171360"/>
            <a:ext cx="3760560" cy="668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6094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3681360" cy="65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гра: «Подбери по цвету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Цель: Закреплять           знания цветов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0"/>
            <a:ext cx="3743280" cy="665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гра: «Подбери по цвету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Цель: закрепить знание цветов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43200" y="0"/>
            <a:ext cx="3746520" cy="66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71360"/>
            <a:ext cx="3760560" cy="6686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376092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гра : «Один-много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Цель: научиться соотносить предметы по количеству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3743280" cy="6654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376092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0" y="171360"/>
            <a:ext cx="3760920" cy="6686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376092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Мышление и логическое мышление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ышление - одна из высших форм деятельности человека. Это социально обусловленный процесс, неразрывно связанный с речью. В процессе мыслительной деятельности вырабатываются определенные приемы или операции (анализ, синтез, сравнения, обобщения, конкретизация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Логическое мышление - это вид мышления, сущность которого в оперировании понятиями, суждениями, умозаключениями на основе законов логики, их сопоставлении и соотнесении с действиями или же совокупность умственных логически достоверных действий или операций мышления, связанных причинно-следственными закономерностями, позволяющими согласовать наличные знания с целью описания и преобразования объективной действительно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гра : «Времена год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Цель: учить различать времена год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438280" y="165240"/>
            <a:ext cx="3764160" cy="66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гра: «Отгадай какая форм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Цель: учить и различать геометрические формы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763800" cy="6692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376092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гра : «Учимся сравнивать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Цель: учить сравнивать предметы по толщине, по высоте и по длине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2280" y="171360"/>
            <a:ext cx="3760920" cy="6686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00600" y="203040"/>
            <a:ext cx="3743280" cy="665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Игра: «Сложи пирамидку»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Цель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: упражнять детей в умении сопоставлять цвета, способствовать закреплению знаний и системе цветов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0" y="171360"/>
            <a:ext cx="3760920" cy="6686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376056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Задач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Создать условия для развития познавательных способностей и логического мышле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Развить и совершенствовать работу мыслительных операций: анализ, синтез, обобщение, сравнение, классификации, упорядоченности действий ориентировке в пространств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Развить у детей слуховую и зрительную память, восприятие, произвольное внимание, воображ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 Воспитать у детей коммуникативные навыки, стремление к преодолению трудностей, уверенности в себе, желание вовремя прийти на помощь сверстник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ешения, поставленных задач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группе создаем предметно-развивающую среду, уголок с наличием дидактических игр по развитию логического мышления. Подбираем картотеки логико-математический игр, стихотворений  с математическим содержанием, считалки, сказ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иды мышле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ыделяют три вида мышл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Предметно- действенное мышление – 2,5-3 года, является ведущим до 4-5 л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Наглядно-образное мышление – с 3,5- 4 лет, ведущее до 6-6,5 л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Словесно-логическое мышление – формируется в 5,5 – 6 лет, становится ведущим с 7-8 лет и остается основной формой мышления у большинства взрослых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нашей группе имеютс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идактические игр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«Один и много», ее цель: учить детей находить один и много предметов;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«Какой цвет», её цель: закрепить знание цве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«Отгадай какая фигура?», её цель: учить называть и различать геометрические фигу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«Времена года», её цель: закреплять времена год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редметно –развивающая среда по ФЭМП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181480" y="1751040"/>
            <a:ext cx="2187720" cy="3862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600200" y="1600200"/>
            <a:ext cx="2382840" cy="42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4572000" cy="5035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идактические игр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514600" y="1530360"/>
            <a:ext cx="4572000" cy="53276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идактические игр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905120" y="982800"/>
            <a:ext cx="5486400" cy="5875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идактические игр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177840"/>
            <a:ext cx="3757680" cy="6680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952880" y="152280"/>
            <a:ext cx="37720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2411280" cy="4286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505320" y="152280"/>
            <a:ext cx="2411280" cy="4286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324480" y="1600200"/>
            <a:ext cx="2411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Заключение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ким образом, можно сделать вывод: педагогические возможности логических игр очень велики. Игры и упражнения по логике развивают все стороны личности ребёнка, активизируют скрытые умственные и интеллектуальные возможности детей. В результате освоения пространственно-практических действий в играх дети познают свойства и отношения предметов, временные отношения; учатся делать умозаключения, классифицировать, обобщат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Спасибо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за              внимание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процессе развития логического мышления у ребенка формируются умения рассуждать, делать умозаключения в соответствии с законами логики, построение причинно-следственных связей; Развиваются такие качества, как: любознательность, сообразительность, смекалка, наблюдательность, самостоятельность, память, внимани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814560" cy="678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43520" y="0"/>
            <a:ext cx="377172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3672000" cy="6527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372888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Логическое мышление и дидактическая игра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огическое мышление-это система навыков,позволяющая выражать мысли в ясной и отчетливой форме,а главное понимать суть вещей,происходящих процессов. Лучше всего привычку логично думать прививать ребенку с дошкольного возраста,но не предлагая ему готовый ответ на заданный вопрос,а давая возможность найти решение самому.В этом поможет дидактическая игра. Дидактическая игра делает процесс обучения легким и занимательным.Та или иная умственная задача,заключенная в игру,решается в ходе доступной и привлекательной для дете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Цель дидактических игр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способствовать развитию познавательной активности и логических способностей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формировать стремление к самостоятельному познанию и размышлени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идактические игры «Цвет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Цель игры: учить различать цвета по названию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4T17:22:50Z</dcterms:created>
  <dc:creator>PC</dc:creator>
  <dc:description/>
  <dc:language>en-US</dc:language>
  <cp:lastModifiedBy>PC</cp:lastModifiedBy>
  <dcterms:modified xsi:type="dcterms:W3CDTF">2019-12-22T19:08:1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