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A73-842C-4C2D-B2F4-4C627EF0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9A4-A969-4599-B2E5-160C8A7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211-44FC-423F-9C1A-D52BC1D1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5CD-507D-4FD7-80F7-85153193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92C-11CA-4425-AAF7-EF4E78A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EC4-A0E5-449C-B009-E19C650F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424-C225-4FCE-B47E-CF2EA89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505-2316-4520-8B21-9C8F1404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54F-7BEE-436B-80DA-168A19B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316-79E0-451C-BDBD-18C0F74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D23-D927-492A-84BD-2D2E1296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48E-C853-48C4-A591-0FE235E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20A7-C3E1-465A-AD79-F16600242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1523880"/>
            <a:ext cx="6248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РАЗВИТ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СРЕДНЕВЕКОВ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ериод европейской истории, продлившийся приблизительно с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по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II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 гг. - Эпоха Развитого Средневековья. Она сменила Раннее Средневековье и предшествовала Позднему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ОСНОВНЫЕ ЧЕР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данный период Средневековья развивается феодальные отношения, идёт борьба между папской и светской властью, поднимается культура, развивается готическое искусство, нау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Крестовые пох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определяющих черт эпохи Высокого Средневековья были крестовые по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стовые походы – военно-колониальные движения, которое продолжались с 1096-1270 и проходили под флагом борьбы христианства с исламом за святые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цвет идеи крестовых походов пришёлся на X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, когда после Первого крестового похода (1095г) на отвоёванных территориях образовалось христианское государство — Иерусалимское королевство. В XIII веке и позже христиане предпринимали несколько крестовых походов против своих же братьев-христиан, а также против язычников, исповедовавших другие, немусульманские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cc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Развитие науки и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XII—XIII веков в Европе произошёл резкий подъём развития технологий и увеличилось число нововведений в средствах производства, что способствовало экономическому росту региона. Менее чем за столетие было сделано больше изобретений, чем за предыдущую тысячу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изобретены пушки, очки, артезианские скважины. Порох, шёлк, компас пришли с Востока. Были также большие успехи в судостроении и в часах. В то же время огромное количество греческих и арабских работ по медицине и науке были переведены и распространены по всей Евро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е учёные делали свои открытия именно в это время. Тихо Браге, Николай Коперник и Галилео Гал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50px-Tom_Quad%2C_Christ_Church_2004-01-21"/>
          <p:cNvPicPr/>
          <p:nvPr/>
        </p:nvPicPr>
        <p:blipFill>
          <a:blip r:embed="rId1"/>
          <a:stretch/>
        </p:blipFill>
        <p:spPr>
          <a:xfrm>
            <a:off x="2971800" y="4572000"/>
            <a:ext cx="3174840" cy="17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ГО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Западной Европе господствовал готический сти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тический стиль, возникнув на основе романского, все же имеет очень существенные отличия: в пропорциях, интерьере, силуэте костю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се подчиняется одной идее — стремлению ввысь, где все прямые линии сходятся в бесконечном пространстве у престола Господня. Возникает мода на все стройное, величавое, высокое и горделив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рхитектура — ведущий вид готического искусства. Для готических соборов очень характерно стремление ввысь, ощущение особой воздушности, легкости и одухотворенности. В готическом соборе присутствуют огромные, украшенные витражами окна. В здании много света, окрашенного (благодаря витражам) в различные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громная ажурная «готическая роза» занимает почетное место в центре фасада. В это время в искусстве и быту распространяются мотивы розы. Роза символизирует изящество, нежность, хрупкость. Розами украшали и обеденный стол (лепестки роз разбрасывались по столу, плавали в чашках с вином). Юноши и девушки даже носили венки из 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бор Парижской богоматери (XI-XIV вв.) — один из шедевров французской го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774-1"/>
          <p:cNvPicPr/>
          <p:nvPr/>
        </p:nvPicPr>
        <p:blipFill>
          <a:blip r:embed="rId2"/>
          <a:stretch/>
        </p:blipFill>
        <p:spPr>
          <a:xfrm>
            <a:off x="6324480" y="1219320"/>
            <a:ext cx="2268720" cy="4647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Жен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каз от красоты, а тем самым от косметики и гигиены — вот характерные черты эпохи средневековья. Косметика запрещается церковью. Вода объявляется источником заражения, возникновения эпидемий. Люди купались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редневековые знатные дамы привязывали к поясу «блошиный мех», чтобы отпугнуть бл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лосы замужних женщин прятались под головным убором, никто, кроме мужа, не мог любоваться их красотой, а обязательным условием красоты, согласно представлениям об эстетическом идеале, были длинные золотистые вьющиеся вол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евушки заплетали косы и укладывали их над ушами в «бараний рог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 XIII в. признаком рабства и бесчестия считались короткие вол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Женщины носили золотые цепочки, кольца, серьги, диадемы, браслеты на руках и но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д платье надевали полотняный корсет (от франц. corso — тел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Женская обувь имела слегка заостренные носки. Обувь изготавливалась из дорогой плотной ткани или из цветной мягкой кожи на мягкой подошве. Женская обувь походила на муж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86-1"/>
          <p:cNvPicPr/>
          <p:nvPr/>
        </p:nvPicPr>
        <p:blipFill>
          <a:blip r:embed="rId2"/>
          <a:stretch/>
        </p:blipFill>
        <p:spPr>
          <a:xfrm>
            <a:off x="6095880" y="1752480"/>
            <a:ext cx="2309760" cy="3724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pull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14440" y="609480"/>
            <a:ext cx="52578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азвитие мужского костю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сих пор костюм рыцаря был неудобным, так как ограничивал движения воина, это связано с монолитностью и тяжеловесностью кольчу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очень часто цельный металлический костюм являлся причиной боле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 кольчугу делят на отдельные части, которые на участках перегиба соединяют посредством крючков, пряжек, шарни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членения позволили перенести соответствующие отдельным частям фигуры формы (перед, спинка, рукава) на ткань, учитывая практические свойства ткани — растяжимость поперечных и долевых ни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 середины XIV в. до начала XV в. опять в моду возвращается короткая мужская одежда. В XV в. популярной была безрукавка, не скрепляемая и не сшиваемая по бокам, с разрезами спереди и сзади (для удобства езды на лошад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лась эта безрукавка по-разному: в зависимости от функций (чаще от ткани и декора) — блио, котт, сюрко, манто; у военных — коттдарме или же табар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тюм рыцаря XV в. — коттдарме без украшений, или укороченное и широкое на груди с гербовой вышив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ая одежда расценивается как одежда королей, служителей церкви, ученых, судей, врач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300px-Michelino_DanteAndHisPoem"/>
          <p:cNvPicPr/>
          <p:nvPr/>
        </p:nvPicPr>
        <p:blipFill>
          <a:blip r:embed="rId1"/>
          <a:stretch/>
        </p:blipFill>
        <p:spPr>
          <a:xfrm>
            <a:off x="4952880" y="2133720"/>
            <a:ext cx="3886200" cy="314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11-14T09:0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