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756-86F4-4D3B-9B29-9FC48176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490-EEAF-4145-ABE6-D3E08D0E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261-2ADC-4844-BAF1-6E5C179D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51A-B28B-4625-9D6D-96629CCF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C66-92FB-4BA4-BF8F-DDE48BCA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9C3-F805-41E7-8FFE-2C618C4C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7DB-7C6C-42DB-A250-A4D2C59C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043-2CE0-4665-ADC6-A3A670EB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B30-986B-4BAC-BBD9-3DD1A403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C9C-292C-49EF-AF1B-B20E119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D13-5FAF-4491-8692-BE880F5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532-C676-4D22-8536-F2CCD321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333E-E13B-4EDA-85B1-76F46B3DD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1523880"/>
            <a:ext cx="6248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Monotype Corsiva"/>
              </a:rPr>
              <a:t>РАЗВИТ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Monotype Corsiva"/>
              </a:rPr>
              <a:t>СРЕДНЕВЕКОВ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ериод европейской истории, продлившийся приблизительно с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I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по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III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 гг. - Эпоха Развитого Средневековья. Она сменила Раннее Средневековье и предшествовала Позднему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ОСНОВНЫЕ ЧЕР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данный период Средневековья развивается феодальные отношения, идёт борьба между папской и светской властью, поднимается культура, развивается готическое искусство, нау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Крестовые пох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определяющих черт эпохи Высокого Средневековья были крестовые по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стовые походы – военно-колониальные движения, которое продолжались с 1096-1270 и проходили под флагом борьбы христианства с исламом за святые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цвет идеи крестовых походов пришёлся на X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, когда после Первого крестового похода (1095г) на отвоёванных территориях образовалось христианское государство — Иерусалимское королевство. В XIII веке и позже христиане предпринимали несколько крестовых походов против своих же братьев-христиан, а также против язычников, исповедовавших другие, немусульманские рели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cc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Развитие науки и 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тяжении XII—XIII веков в Европе произошёл резкий подъём развития технологий и увеличилось число нововведений в средствах производства, что способствовало экономическому росту региона. Менее чем за столетие было сделано больше изобретений, чем за предыдущую тысячу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и изобретены пушки, очки, артезианские скважины. Порох, шёлк, компас пришли с Востока. Были также большие успехи в судостроении и в часах. В то же время огромное количество греческих и арабских работ по медицине и науке были переведены и распространены по всей Евро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е учёные делали свои открытия именно в это время. Тихо Браге, Николай Коперник и Галилео Гал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50px-Tom_Quad%2C_Christ_Church_2004-01-21"/>
          <p:cNvPicPr/>
          <p:nvPr/>
        </p:nvPicPr>
        <p:blipFill>
          <a:blip r:embed="rId1"/>
          <a:stretch/>
        </p:blipFill>
        <p:spPr>
          <a:xfrm>
            <a:off x="2971800" y="4572000"/>
            <a:ext cx="3174840" cy="176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ГО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Западной Европе господствовал готический сти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тический стиль, возникнув на основе романского, все же имеет очень существенные отличия: в пропорциях, интерьере, силуэте костю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се подчиняется одной идее — стремлению ввысь, где все прямые линии сходятся в бесконечном пространстве у престола Господня. Возникает мода на все стройное, величавое, высокое и горделив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рхитектура — ведущий вид готического искусства. Для готических соборов очень характерно стремление ввысь, ощущение особой воздушности, легкости и одухотворенности. В готическом соборе присутствуют огромные, украшенные витражами окна. В здании много света, окрашенного (благодаря витражам) в различные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громная ажурная «готическая роза» занимает почетное место в центре фасада. В это время в искусстве и быту распространяются мотивы розы. Роза символизирует изящество, нежность, хрупкость. Розами украшали и обеденный стол (лепестки роз разбрасывались по столу, плавали в чашках с вином). Юноши и девушки даже носили венки из ро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обор Парижской богоматери (XI-XIV вв.) — один из шедевров французской го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774-1"/>
          <p:cNvPicPr/>
          <p:nvPr/>
        </p:nvPicPr>
        <p:blipFill>
          <a:blip r:embed="rId2"/>
          <a:stretch/>
        </p:blipFill>
        <p:spPr>
          <a:xfrm>
            <a:off x="6324480" y="1219320"/>
            <a:ext cx="2268720" cy="4647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heel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Женская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5029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тказ от красоты, а тем самым от косметики и гигиены — вот характерные черты эпохи средневековья. Косметика запрещается церковью. Вода объявляется источником заражения, возникновения эпидемий. Люди купались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редневековые знатные дамы привязывали к поясу «блошиный мех», чтобы отпугнуть бло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лосы замужних женщин прятались под головным убором, никто, кроме мужа, не мог любоваться их красотой, а обязательным условием красоты, согласно представлениям об эстетическом идеале, были длинные золотистые вьющиеся воло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евушки заплетали косы и укладывали их над ушами в «бараний рог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 XIII в. признаком рабства и бесчестия считались короткие воло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Женщины носили золотые цепочки, кольца, серьги, диадемы, браслеты на руках и ног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д платье надевали полотняный корсет (от франц. corso — тел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Женская обувь имела слегка заостренные носки. Обувь изготавливалась из дорогой плотной ткани или из цветной мягкой кожи на мягкой подошве. Женская обувь походила на мужс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786-1"/>
          <p:cNvPicPr/>
          <p:nvPr/>
        </p:nvPicPr>
        <p:blipFill>
          <a:blip r:embed="rId2"/>
          <a:stretch/>
        </p:blipFill>
        <p:spPr>
          <a:xfrm>
            <a:off x="6095880" y="1752480"/>
            <a:ext cx="2309760" cy="3724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pull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cc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14440" y="609480"/>
            <a:ext cx="52578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Развитие мужского костю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4114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сих пор костюм рыцаря был неудобным, так как ограничивал движения воина, это связано с монолитностью и тяжеловесностью кольчу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очень часто цельный металлический костюм являлся причиной боле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зультате кольчугу делят на отдельные части, которые на участках перегиба соединяют посредством крючков, пряжек, шарни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членения позволили перенести соответствующие отдельным частям фигуры формы (перед, спинка, рукава) на ткань, учитывая практические свойства ткани — растяжимость поперечных и долевых ни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 середины XIV в. до начала XV в. опять в моду возвращается короткая мужская одежда. В XV в. популярной была безрукавка, не скрепляемая и не сшиваемая по бокам, с разрезами спереди и сзади (для удобства езды на лошад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лась эта безрукавка по-разному: в зависимости от функций (чаще от ткани и декора) — блио, котт, сюрко, манто; у военных — коттдарме или же табар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тюм рыцаря XV в. — коттдарме без украшений, или укороченное и широкое на груди с гербовой вышив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ая одежда расценивается как одежда королей, служителей церкви, ученых, судей, врач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300px-Michelino_DanteAndHisPoem"/>
          <p:cNvPicPr/>
          <p:nvPr/>
        </p:nvPicPr>
        <p:blipFill>
          <a:blip r:embed="rId1"/>
          <a:stretch/>
        </p:blipFill>
        <p:spPr>
          <a:xfrm>
            <a:off x="4952880" y="2133720"/>
            <a:ext cx="3886200" cy="3147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11-14T09:01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