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B56-3A4F-4F85-9A0B-A459D22F2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C486-D7EA-4E60-A937-8FCBD33C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E55-95BF-4824-961C-56F85AA2A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E4B-9FFB-4462-B71C-DC06CEDDC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844B-54BC-400C-8DFE-E68F9A5E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0C4C-0916-4919-AB34-A08D8A5EA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E84-66BE-47B9-9127-5B0FA1CBE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A38-141D-4D74-910C-9D0F1EC9C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C477-EFF4-453B-990F-25987417E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9F4C-1B7C-4019-9C6B-33F357BA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3684-5501-45FE-B182-467D67C4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8A80-A8EC-4D8B-9C3A-1DB9A9D2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DE25-E390-49CE-9D84-EA7753F51B4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523880" y="1523880"/>
            <a:ext cx="62485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Monotype Corsiva"/>
              </a:rPr>
              <a:t>РАЗВИТО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66"/>
                </a:solidFill>
                <a:latin typeface="Monotype Corsiva"/>
              </a:rPr>
              <a:t>СРЕДНЕВЕКОВЬ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ериод европейской истории, продлившийся приблизительно с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I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по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XIII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 гг. - Эпоха Развитого Средневековья. Она сменила Раннее Средневековье и предшествовала Позднему.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Monotype Corsiva"/>
              </a:rPr>
              <a:t>ОСНОВНЫЕ ЧЕРТ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В данный период Средневековья развивается феодальные отношения, идёт борьба между папской и светской властью, поднимается культура, развивается готическое искусство, наука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Monotype Corsiva"/>
              </a:rPr>
              <a:t>Крестовые пох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й из определяющих черт эпохи Высокого Средневековья были крестовые пох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стовые походы – военно-колониальные движения, которое продолжались с 1096-1270 и проходили под флагом борьбы христианства с исламом за святые мест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цвет идеи крестовых походов пришёлся на X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ек, когда после Первого крестового похода (1095г) на отвоёванных территориях образовалось христианское государство — Иерусалимское королевство. В XIII веке и позже христиане предпринимали несколько крестовых походов против своих же братьев-христиан, а также против язычников, исповедовавших другие, немусульманские религ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u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1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1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cc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Развитие науки и технолог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ротяжении XII—XIII веков в Европе произошёл резкий подъём развития технологий и увеличилось число нововведений в средствах производства, что способствовало экономическому росту региона. Менее чем за столетие было сделано больше изобретений, чем за предыдущую тысячу л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ыли изобретены пушки, очки, артезианские скважины. Порох, шёлк, компас пришли с Востока. Были также большие успехи в судостроении и в часах. В то же время огромное количество греческих и арабских работ по медицине и науке были переведены и распространены по всей Европ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вестные учёные делали свои открытия именно в это время. Тихо Браге, Николай Коперник и Галилео Гали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50px-Tom_Quad%2C_Christ_Church_2004-01-21"/>
          <p:cNvPicPr/>
          <p:nvPr/>
        </p:nvPicPr>
        <p:blipFill>
          <a:blip r:embed="rId1"/>
          <a:stretch/>
        </p:blipFill>
        <p:spPr>
          <a:xfrm>
            <a:off x="2971800" y="4572000"/>
            <a:ext cx="3174840" cy="176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ГОТИЧЕСКИЙ СТИ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 Западной Европе господствовал готический сти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Готический стиль, возникнув на основе романского, все же имеет очень существенные отличия: в пропорциях, интерьере, силуэте костюм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се подчиняется одной идее — стремлению ввысь, где все прямые линии сходятся в бесконечном пространстве у престола Господня. Возникает мода на все стройное, величавое, высокое и горделиво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Архитектура — ведущий вид готического искусства. Для готических соборов очень характерно стремление ввысь, ощущение особой воздушности, легкости и одухотворенности. В готическом соборе присутствуют огромные, украшенные витражами окна. В здании много света, окрашенного (благодаря витражам) в различные цв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громная ажурная «готическая роза» занимает почетное место в центре фасада. В это время в искусстве и быту распространяются мотивы розы. Роза символизирует изящество, нежность, хрупкость. Розами украшали и обеденный стол (лепестки роз разбрасывались по столу, плавали в чашках с вином). Юноши и девушки даже носили венки из роз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обор Парижской богоматери (XI-XIV вв.) — один из шедевров французской го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774-1"/>
          <p:cNvPicPr/>
          <p:nvPr/>
        </p:nvPicPr>
        <p:blipFill>
          <a:blip r:embed="rId2"/>
          <a:stretch/>
        </p:blipFill>
        <p:spPr>
          <a:xfrm>
            <a:off x="6324480" y="1219320"/>
            <a:ext cx="2268720" cy="46479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wheel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8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8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8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8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81120" y="228240"/>
            <a:ext cx="396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onotype Corsiva"/>
              </a:rPr>
              <a:t>Женская мо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456840"/>
            <a:ext cx="50292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Отказ от красоты, а тем самым от косметики и гигиены — вот характерные черты эпохи средневековья. Косметика запрещается церковью. Вода объявляется источником заражения, возникновения эпидемий. Люди купались редк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Средневековые знатные дамы привязывали к поясу «блошиный мех», чтобы отпугнуть бло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Волосы замужних женщин прятались под головным убором, никто, кроме мужа, не мог любоваться их красотой, а обязательным условием красоты, согласно представлениям об эстетическом идеале, были длинные золотистые вьющиеся воло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евушки заплетали косы и укладывали их над ушами в «бараний рог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До XIII в. признаком рабства и бесчестия считались короткие воло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Женщины носили золотые цепочки, кольца, серьги, диадемы, браслеты на руках и ногах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Под платье надевали полотняный корсет (от франц. corso — тело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Женская обувь имела слегка заостренные носки. Обувь изготавливалась из дорогой плотной ткани или из цветной мягкой кожи на мягкой подошве. Женская обувь походила на мужску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786-1"/>
          <p:cNvPicPr/>
          <p:nvPr/>
        </p:nvPicPr>
        <p:blipFill>
          <a:blip r:embed="rId2"/>
          <a:stretch/>
        </p:blipFill>
        <p:spPr>
          <a:xfrm>
            <a:off x="6095880" y="1752480"/>
            <a:ext cx="2309760" cy="37245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pull dir="rd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385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385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385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50000">
              <a:srgbClr val="ccccff"/>
            </a:gs>
            <a:gs pos="100000">
              <a:srgbClr val="ff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14440" y="609480"/>
            <a:ext cx="52578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Monotype Corsiva"/>
              </a:rPr>
              <a:t>Развитие мужского костюм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533520"/>
            <a:ext cx="4114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 сих пор костюм рыцаря был неудобным, так как ограничивал движения воина, это связано с монолитностью и тяжеловесностью кольчуг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 очень часто цельный металлический костюм являлся причиной болезн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результате кольчугу делят на отдельные части, которые на участках перегиба соединяют посредством крючков, пряжек, шарнир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Эти членения позволили перенести соответствующие отдельным частям фигуры формы (перед, спинка, рукава) на ткань, учитывая практические свойства ткани — растяжимость поперечных и долевых нит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период с середины XIV в. до начала XV в. опять в моду возвращается короткая мужская одежда. В XV в. популярной была безрукавка, не скрепляемая и не сшиваемая по бокам, с разрезами спереди и сзади (для удобства езды на лошади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ывалась эта безрукавка по-разному: в зависимости от функций (чаще от ткани и декора) — блио, котт, сюрко, манто; у военных — коттдарме или же табар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стюм рыцаря XV в. — коттдарме без украшений, или укороченное и широкое на груди с гербовой вышивко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инная одежда расценивается как одежда королей, служителей церкви, ученых, судей, врачей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300px-Michelino_DanteAndHisPoem"/>
          <p:cNvPicPr/>
          <p:nvPr/>
        </p:nvPicPr>
        <p:blipFill>
          <a:blip r:embed="rId1"/>
          <a:stretch/>
        </p:blipFill>
        <p:spPr>
          <a:xfrm>
            <a:off x="4952880" y="2133720"/>
            <a:ext cx="3886200" cy="3147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38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7" dur="385" fill="hold"/>
                                        <p:tgtEl>
                                          <p:spTgt spid="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9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1" dur="385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0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8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10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6" dur="10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10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10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лена</dc:creator>
  <dc:description/>
  <dc:language>en-US</dc:language>
  <cp:lastModifiedBy>Елена</cp:lastModifiedBy>
  <dcterms:modified xsi:type="dcterms:W3CDTF">2015-11-14T09:01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