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"/>
          <p:cNvSpPr/>
          <p:nvPr/>
        </p:nvSpPr>
        <p:spPr>
          <a:xfrm>
            <a:off x="0" y="0"/>
            <a:ext cx="6881760" cy="971064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710640"/>
              <a:gd name="textAreaBottom" fmla="*/ 9710280 h 9710640"/>
            </a:gdLst>
            <a:ahLst/>
            <a:rect l="textAreaLeft" t="textAreaTop" r="textAreaRight" b="textAreaBottom"/>
            <a:pathLst>
              <a:path w="21600" h="30479">
                <a:moveTo>
                  <a:pt x="5" y="0"/>
                </a:moveTo>
                <a:arcTo wR="5" hR="5" stAng="16200000" swAng="-5400000"/>
                <a:lnTo>
                  <a:pt x="0" y="30474"/>
                </a:lnTo>
                <a:arcTo wR="5" hR="5" stAng="10800000" swAng="-5400000"/>
                <a:lnTo>
                  <a:pt x="21595" y="304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0" y="0"/>
            <a:ext cx="6881760" cy="971064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710640"/>
              <a:gd name="textAreaBottom" fmla="*/ 9710280 h 9710640"/>
            </a:gdLst>
            <a:ahLst/>
            <a:rect l="textAreaLeft" t="textAreaTop" r="textAreaRight" b="textAreaBottom"/>
            <a:pathLst>
              <a:path w="21600" h="30479">
                <a:moveTo>
                  <a:pt x="5" y="0"/>
                </a:moveTo>
                <a:arcTo wR="5" hR="5" stAng="16200000" swAng="-5400000"/>
                <a:lnTo>
                  <a:pt x="0" y="30474"/>
                </a:lnTo>
                <a:arcTo wR="5" hR="5" stAng="10800000" swAng="-5400000"/>
                <a:lnTo>
                  <a:pt x="21595" y="304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0" y="0"/>
            <a:ext cx="6881760" cy="971064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710640"/>
              <a:gd name="textAreaBottom" fmla="*/ 9710280 h 9710640"/>
            </a:gdLst>
            <a:ahLst/>
            <a:rect l="textAreaLeft" t="textAreaTop" r="textAreaRight" b="textAreaBottom"/>
            <a:pathLst>
              <a:path w="21600" h="30479">
                <a:moveTo>
                  <a:pt x="5" y="0"/>
                </a:moveTo>
                <a:arcTo wR="5" hR="5" stAng="16200000" swAng="-5400000"/>
                <a:lnTo>
                  <a:pt x="0" y="30474"/>
                </a:lnTo>
                <a:arcTo wR="5" hR="5" stAng="10800000" swAng="-5400000"/>
                <a:lnTo>
                  <a:pt x="21595" y="304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0" y="0"/>
            <a:ext cx="6881760" cy="971064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710640"/>
              <a:gd name="textAreaBottom" fmla="*/ 9710280 h 9710640"/>
            </a:gdLst>
            <a:ahLst/>
            <a:rect l="textAreaLeft" t="textAreaTop" r="textAreaRight" b="textAreaBottom"/>
            <a:pathLst>
              <a:path w="21600" h="30479">
                <a:moveTo>
                  <a:pt x="5" y="0"/>
                </a:moveTo>
                <a:arcTo wR="5" hR="5" stAng="16200000" swAng="-5400000"/>
                <a:lnTo>
                  <a:pt x="0" y="30474"/>
                </a:lnTo>
                <a:arcTo wR="5" hR="5" stAng="10800000" swAng="-5400000"/>
                <a:lnTo>
                  <a:pt x="21595" y="304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0"/>
            <a:ext cx="2982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dt" idx="16"/>
          </p:nvPr>
        </p:nvSpPr>
        <p:spPr>
          <a:xfrm>
            <a:off x="3897360" y="0"/>
            <a:ext cx="2976480" cy="479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ldImg"/>
          </p:nvPr>
        </p:nvSpPr>
        <p:spPr>
          <a:xfrm>
            <a:off x="1015920" y="728640"/>
            <a:ext cx="4843440" cy="3633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3240" rIns="93240" tIns="48600" bIns="4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99360" cy="4362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7"/>
          </p:nvPr>
        </p:nvSpPr>
        <p:spPr>
          <a:xfrm>
            <a:off x="3897360" y="9223200"/>
            <a:ext cx="2976480" cy="479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463680"/>
                <a:tab algn="l" pos="928800"/>
                <a:tab algn="l" pos="1395360"/>
                <a:tab algn="l" pos="1860480"/>
                <a:tab algn="l" pos="2327400"/>
                <a:tab algn="l" pos="2792520"/>
                <a:tab algn="l" pos="3259080"/>
                <a:tab algn="l" pos="3724200"/>
                <a:tab algn="l" pos="4189320"/>
                <a:tab algn="l" pos="4656240"/>
                <a:tab algn="l" pos="5121360"/>
                <a:tab algn="l" pos="5587920"/>
                <a:tab algn="l" pos="6053040"/>
                <a:tab algn="l" pos="6519960"/>
                <a:tab algn="l" pos="6985080"/>
                <a:tab algn="l" pos="7451640"/>
                <a:tab algn="l" pos="7916760"/>
                <a:tab algn="l" pos="8381880"/>
                <a:tab algn="l" pos="884880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63680"/>
                <a:tab algn="l" pos="928800"/>
                <a:tab algn="l" pos="1395360"/>
                <a:tab algn="l" pos="1860480"/>
                <a:tab algn="l" pos="2327400"/>
                <a:tab algn="l" pos="2792520"/>
                <a:tab algn="l" pos="3259080"/>
                <a:tab algn="l" pos="3724200"/>
                <a:tab algn="l" pos="4189320"/>
                <a:tab algn="l" pos="4656240"/>
                <a:tab algn="l" pos="5121360"/>
                <a:tab algn="l" pos="5587920"/>
                <a:tab algn="l" pos="6053040"/>
                <a:tab algn="l" pos="6519960"/>
                <a:tab algn="l" pos="6985080"/>
                <a:tab algn="l" pos="7451640"/>
                <a:tab algn="l" pos="7916760"/>
                <a:tab algn="l" pos="8381880"/>
                <a:tab algn="l" pos="884880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fld id="{2A0D0716-A526-4B6D-8A15-80A45ACABEB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897360" y="9223200"/>
            <a:ext cx="297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463680"/>
                <a:tab algn="l" pos="928800"/>
                <a:tab algn="l" pos="1395360"/>
                <a:tab algn="l" pos="1860480"/>
                <a:tab algn="l" pos="2327400"/>
                <a:tab algn="l" pos="2792520"/>
                <a:tab algn="l" pos="3259080"/>
                <a:tab algn="l" pos="3724200"/>
                <a:tab algn="l" pos="4189320"/>
                <a:tab algn="l" pos="4656240"/>
                <a:tab algn="l" pos="5121360"/>
                <a:tab algn="l" pos="5587920"/>
                <a:tab algn="l" pos="6053040"/>
                <a:tab algn="l" pos="6519960"/>
                <a:tab algn="l" pos="6985080"/>
                <a:tab algn="l" pos="7451640"/>
                <a:tab algn="l" pos="7916760"/>
                <a:tab algn="l" pos="8381880"/>
                <a:tab algn="l" pos="884880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fld id="{B9B891B1-8AF1-40D8-9954-7135587A3C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"/>
          <p:cNvSpPr/>
          <p:nvPr/>
        </p:nvSpPr>
        <p:spPr>
          <a:xfrm>
            <a:off x="3897360" y="9223200"/>
            <a:ext cx="297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463680"/>
                <a:tab algn="l" pos="928800"/>
                <a:tab algn="l" pos="1395360"/>
                <a:tab algn="l" pos="1860480"/>
                <a:tab algn="l" pos="2327400"/>
                <a:tab algn="l" pos="2792520"/>
                <a:tab algn="l" pos="3259080"/>
                <a:tab algn="l" pos="3724200"/>
                <a:tab algn="l" pos="4189320"/>
                <a:tab algn="l" pos="4656240"/>
                <a:tab algn="l" pos="5121360"/>
                <a:tab algn="l" pos="5587920"/>
                <a:tab algn="l" pos="6053040"/>
                <a:tab algn="l" pos="6519960"/>
                <a:tab algn="l" pos="6985080"/>
                <a:tab algn="l" pos="7451640"/>
                <a:tab algn="l" pos="7916760"/>
                <a:tab algn="l" pos="8381880"/>
                <a:tab algn="l" pos="884880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fld id="{5F52993D-954B-486C-A4DA-609136365D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"/>
          <p:cNvSpPr/>
          <p:nvPr/>
        </p:nvSpPr>
        <p:spPr>
          <a:xfrm>
            <a:off x="3897360" y="9223200"/>
            <a:ext cx="297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463680"/>
                <a:tab algn="l" pos="928800"/>
                <a:tab algn="l" pos="1395360"/>
                <a:tab algn="l" pos="1860480"/>
                <a:tab algn="l" pos="2327400"/>
                <a:tab algn="l" pos="2792520"/>
                <a:tab algn="l" pos="3259080"/>
                <a:tab algn="l" pos="3724200"/>
                <a:tab algn="l" pos="4189320"/>
                <a:tab algn="l" pos="4656240"/>
                <a:tab algn="l" pos="5121360"/>
                <a:tab algn="l" pos="5587920"/>
                <a:tab algn="l" pos="6053040"/>
                <a:tab algn="l" pos="6519960"/>
                <a:tab algn="l" pos="6985080"/>
                <a:tab algn="l" pos="7451640"/>
                <a:tab algn="l" pos="7916760"/>
                <a:tab algn="l" pos="8381880"/>
                <a:tab algn="l" pos="884880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fld id="{97C4FD74-F5A8-4DD6-A2F9-320917B43AD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897360" y="9223200"/>
            <a:ext cx="297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463680"/>
                <a:tab algn="l" pos="928800"/>
                <a:tab algn="l" pos="1395360"/>
                <a:tab algn="l" pos="1860480"/>
                <a:tab algn="l" pos="2327400"/>
                <a:tab algn="l" pos="2792520"/>
                <a:tab algn="l" pos="3259080"/>
                <a:tab algn="l" pos="3724200"/>
                <a:tab algn="l" pos="4189320"/>
                <a:tab algn="l" pos="4656240"/>
                <a:tab algn="l" pos="5121360"/>
                <a:tab algn="l" pos="5587920"/>
                <a:tab algn="l" pos="6053040"/>
                <a:tab algn="l" pos="6519960"/>
                <a:tab algn="l" pos="6985080"/>
                <a:tab algn="l" pos="7451640"/>
                <a:tab algn="l" pos="7916760"/>
                <a:tab algn="l" pos="8381880"/>
                <a:tab algn="l" pos="884880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fld id="{695E6696-341B-4243-9E35-CDEF8E108C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"/>
          <p:cNvSpPr/>
          <p:nvPr/>
        </p:nvSpPr>
        <p:spPr>
          <a:xfrm>
            <a:off x="3897360" y="9223200"/>
            <a:ext cx="297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463680"/>
                <a:tab algn="l" pos="928800"/>
                <a:tab algn="l" pos="1395360"/>
                <a:tab algn="l" pos="1860480"/>
                <a:tab algn="l" pos="2327400"/>
                <a:tab algn="l" pos="2792520"/>
                <a:tab algn="l" pos="3259080"/>
                <a:tab algn="l" pos="3724200"/>
                <a:tab algn="l" pos="4189320"/>
                <a:tab algn="l" pos="4656240"/>
                <a:tab algn="l" pos="5121360"/>
                <a:tab algn="l" pos="5587920"/>
                <a:tab algn="l" pos="6053040"/>
                <a:tab algn="l" pos="6519960"/>
                <a:tab algn="l" pos="6985080"/>
                <a:tab algn="l" pos="7451640"/>
                <a:tab algn="l" pos="7916760"/>
                <a:tab algn="l" pos="8381880"/>
                <a:tab algn="l" pos="884880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fld id="{AA3E4D9F-029A-44F1-80A1-965494705C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"/>
          <p:cNvSpPr/>
          <p:nvPr/>
        </p:nvSpPr>
        <p:spPr>
          <a:xfrm>
            <a:off x="3897360" y="9223200"/>
            <a:ext cx="297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463680"/>
                <a:tab algn="l" pos="928800"/>
                <a:tab algn="l" pos="1395360"/>
                <a:tab algn="l" pos="1860480"/>
                <a:tab algn="l" pos="2327400"/>
                <a:tab algn="l" pos="2792520"/>
                <a:tab algn="l" pos="3259080"/>
                <a:tab algn="l" pos="3724200"/>
                <a:tab algn="l" pos="4189320"/>
                <a:tab algn="l" pos="4656240"/>
                <a:tab algn="l" pos="5121360"/>
                <a:tab algn="l" pos="5587920"/>
                <a:tab algn="l" pos="6053040"/>
                <a:tab algn="l" pos="6519960"/>
                <a:tab algn="l" pos="6985080"/>
                <a:tab algn="l" pos="7451640"/>
                <a:tab algn="l" pos="7916760"/>
                <a:tab algn="l" pos="8381880"/>
                <a:tab algn="l" pos="884880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fld id="{37EFE90E-C2ED-4DD5-8AF7-EF0CE65B96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"/>
          <p:cNvSpPr/>
          <p:nvPr/>
        </p:nvSpPr>
        <p:spPr>
          <a:xfrm>
            <a:off x="3897360" y="9223200"/>
            <a:ext cx="297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tabLst>
                <a:tab algn="l" pos="0"/>
                <a:tab algn="l" pos="463680"/>
                <a:tab algn="l" pos="928800"/>
                <a:tab algn="l" pos="1395360"/>
                <a:tab algn="l" pos="1860480"/>
                <a:tab algn="l" pos="2327400"/>
                <a:tab algn="l" pos="2792520"/>
                <a:tab algn="l" pos="3259080"/>
                <a:tab algn="l" pos="3724200"/>
                <a:tab algn="l" pos="4189320"/>
                <a:tab algn="l" pos="4656240"/>
                <a:tab algn="l" pos="5121360"/>
                <a:tab algn="l" pos="5587920"/>
                <a:tab algn="l" pos="6053040"/>
                <a:tab algn="l" pos="6519960"/>
                <a:tab algn="l" pos="6985080"/>
                <a:tab algn="l" pos="7451640"/>
                <a:tab algn="l" pos="7916760"/>
                <a:tab algn="l" pos="8381880"/>
                <a:tab algn="l" pos="884880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fld id="{E46F193F-512D-49B7-96C3-D3B58CFA41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6D3-C4A7-4BA5-B7A0-7793997F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25A-11B3-4749-9C85-EFC6C9FF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9D3-523F-4695-9872-232A6A15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FD4-5716-4961-8ABD-73FD2E44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3493-842B-43D7-B370-C6C5516B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73E9-12A0-4338-B49C-BF71006F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8268-A469-419E-90B5-558F9FC0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6EBB-68C6-4441-9728-9FA1BE3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F4F1-B267-4720-A111-DE3EF727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8B6B-D623-446A-860F-0D6F6231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9945-2EC5-42B1-A636-03FA6A7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DA9-F77C-4C52-B28E-95A52475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3B19-7C11-4507-A7B0-A77933AA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119D-B080-455D-9787-8654FDE9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D431-8E2F-4902-8040-3884121D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492E-7108-494F-8957-124BEA72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F1D6-DDD7-45C7-810F-CD1E09A6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283E-1C60-47DD-9BAA-BE9BED58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4A9E-B5D1-4AFA-AB52-7147629B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7CA3-EBFE-46B2-9519-A7C110B7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09C6-4E70-4513-A38A-CD3ACB9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D380-E64B-46C8-A9A6-B7D287CD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174-79C1-4642-91FA-E06830D8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2525-13D0-49DB-8483-1681F04E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089D-D0EB-42A9-B762-CE91BD9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F60A-1B63-4EF8-9366-0F1EBF29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F0E3-5E12-467A-BF82-E900D304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0B5D-571F-495A-B8B4-CF542505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E14B-B2BF-45E6-8CAA-170C60D9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16DC-3BCF-41F3-9E8E-4788CDC4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E4D6-ACBF-4EA5-8E8C-D5177D0F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7866-88B3-43EA-A3E4-97707292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F4EA-58F7-4893-BE76-526D48A1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BC7-A1E1-41D6-8060-B664D87B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88F0-40B5-4ACB-8432-1F0E8E31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60F6-A553-448A-AE2C-5225D15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A440-5368-41DB-A702-F0FE403B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6FB22-7BA9-47E0-BC53-33F690D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7FE7-8C1A-478B-9421-DD08F0C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1720-001E-4EEB-BC59-EDD93F14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EFAF-1C1F-449A-89B8-DD211AD3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8545-313F-4C9D-A83B-D715D67B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52AA1-302E-43F7-8851-B46C3426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733FF-9538-4788-AF71-43C58438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B76-8B6A-45F4-8A79-C5CA849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F4263-60BB-44C6-B5D9-22DE18DC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A7EE1-CD1D-4C66-90CA-A9100342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ABE1-9870-4E9C-9FD2-3ED4649F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0CA05-07BB-49DD-AB15-D416EBC3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8A9D3-9DE8-481F-A643-DA33F7FD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982B4-263A-4442-8D27-5A6CC41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C0C3C-9576-4EBE-B129-BEAC70F7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0D7A-C5B0-4DF2-A804-62F6B99E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380D1-2828-48E5-998A-DA08C96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433FA-802F-4241-9C5A-BBA05F24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5A2-2152-4C81-B47E-24101E7F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229A-ECFF-4BD9-A548-31D2E0EF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D61-0E30-435F-A21A-E127C32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E4E-7CA4-4F40-8CD2-4E4E9DD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C57-B5BC-49D7-BCD5-997FD2F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A78E93-E295-460F-90D6-0893B955999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849759-A0E3-4664-9CC5-D77084349E5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AA60CF-3DA4-4131-BCD3-8C4899B4E7D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15258E-DD29-472B-BB25-E5927D421E9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BB6F5B-3117-48B9-A0DD-12F35AE110A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905120" y="54864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Verdana"/>
              </a:rPr>
              <a:t>Подготовила воспитатель: Кжахова Ольга Михайло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Verdana"/>
              </a:rPr>
              <a:t>МБДОУ Детский сад «Малыш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009800" y="380880"/>
            <a:ext cx="76006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d0da5"/>
                </a:solidFill>
                <a:latin typeface="Verdana"/>
              </a:rPr>
              <a:t>«Формирование элементарных математических представлений у дошкольников с помощью дидактических игр»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4" descr="DSCF5055.JPG"/>
          <p:cNvPicPr/>
          <p:nvPr/>
        </p:nvPicPr>
        <p:blipFill>
          <a:blip r:embed="rId1"/>
          <a:stretch/>
        </p:blipFill>
        <p:spPr>
          <a:xfrm>
            <a:off x="221472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304920" y="152280"/>
            <a:ext cx="85341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– одно из средств воспитания и обучения детей дошкольного возраста. Она может успешно использоваться и как форма обучения, и как самостоятельная игровая деятельность, и как средство воспитания различных сторон личности ребенка. Использование дидактических игр способствует повышению уровня сформированности элементарных математических представлений у дошкольников.</a:t>
            </a: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200400" cy="31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990720" y="304920"/>
            <a:ext cx="7124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дидактических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0" y="2362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66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017720" y="1060560"/>
            <a:ext cx="7493040" cy="541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009800" y="304920"/>
            <a:ext cx="712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Игры на количество и сч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52280" y="1371600"/>
            <a:ext cx="876312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7560" indent="-40464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Verdana"/>
                <a:ea typeface="Arial"/>
              </a:rPr>
              <a:t>           </a:t>
            </a:r>
            <a:r>
              <a:rPr b="1" lang="ru-RU" sz="1500" spc="-1" strike="noStrike">
                <a:solidFill>
                  <a:srgbClr val="404040"/>
                </a:solidFill>
                <a:latin typeface="Verdana"/>
                <a:ea typeface="Arial"/>
              </a:rPr>
              <a:t>Задачи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ь свободно оперировать числами в пределах 10 и сопровождать словами свои действ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мочь усвоить порядок следования чисел натурального ряда, упражнять в прямом и обратном сч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у детей внимание, память, мышл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Какой цифры не стало?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Сколько?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Путаница?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Исправь ошибку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Убираем цифры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Назови соседей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Считай, не ошибись!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Задумай число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Число, как тебя зовут?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Составь табличку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Составь цифру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Кто первый назовет, которой игрушки не стало?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click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click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click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click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Содержимое 3" descr="DSCF5049.JPG"/>
          <p:cNvPicPr/>
          <p:nvPr/>
        </p:nvPicPr>
        <p:blipFill>
          <a:blip r:embed="rId1"/>
          <a:stretch/>
        </p:blipFill>
        <p:spPr>
          <a:xfrm>
            <a:off x="39600" y="214200"/>
            <a:ext cx="91044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Содержимое 4" descr="DSCF5040.JPG"/>
          <p:cNvPicPr/>
          <p:nvPr/>
        </p:nvPicPr>
        <p:blipFill>
          <a:blip r:embed="rId1"/>
          <a:stretch/>
        </p:blipFill>
        <p:spPr>
          <a:xfrm>
            <a:off x="428760" y="214200"/>
            <a:ext cx="8501040" cy="6340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533520" y="676440"/>
            <a:ext cx="76006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ориентировку в простран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0492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и закрепить пространственные представления детей в процессе всех видов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детям овладеть пространственными представлениями: слева, справа, вверху, внизу, впереди, сзади, далеко, близк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ориентироваться в специально созданных пространственных ситуациях и определять свое место по заданному услов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ять детей в овладении умением определять словом положение того или иного предмета по отношению к друг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употреблять слова для обозначения положения предм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тань так, чтобы справа от тебя был шкаф, а сзади - стул. Сядь так, чтобы впереди тебя сидела Таня, а сзади - Дим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ава от куклы стоит заяц, слева от куклы - пирами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охожую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про свой уз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ская ковр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н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комнате» и многие другие иг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click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click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с геометрическими фигу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 знания о форме геометрических фигу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внимание, память, мышление и воображение у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анализируют свои фиг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сходства и различия в решении конструктивного замыс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акую геометрическую фигуру напоминает дно тарелки?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Лото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еометрическая мозаика« и другие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914400" y="152280"/>
            <a:ext cx="71247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609480" y="9144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7560" indent="-404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   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дактические игры необходимы в обучении и воспитании детей. Они повышают эффективность педагогического процесса,  способствуют развитию памяти, мышления у детей, оказывая огромное влияние на умственное развитие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0:56:51Z</dcterms:created>
  <dc:creator>ПК</dc:creator>
  <dc:description/>
  <dc:language>en-US</dc:language>
  <cp:lastModifiedBy>ольга</cp:lastModifiedBy>
  <dcterms:modified xsi:type="dcterms:W3CDTF">2019-12-21T21:35:04Z</dcterms:modified>
  <cp:revision>218</cp:revision>
  <dc:subject/>
  <dc:title>Слайд 1</dc:title>
</cp:coreProperties>
</file>