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7E1D-14E7-4CDE-8811-815CC810C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C709F-71BC-4173-8D44-2B6810E5A26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A0DDF-97D0-4394-8FFA-D9F5D12BF0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D029-2DBE-4317-900C-2033C17CF0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ED8-0F8A-4AB4-9DA8-6DB8CA64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61D-2E67-44C9-83FF-E80619B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5D5-EF9F-4BBD-A63C-4D3B4266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DBEA-ABCC-49FF-9ADE-601C69BDB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C13C-F5F4-429A-88E0-016167905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1CDD6-444F-47A2-82C7-A28A35A57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8CE18-AD3C-4B79-8B47-0E5C6F37B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DDC-F348-4D6E-AD53-1CD3F6DD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2FF27-3C1D-4955-94C9-13C1DC03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37880"/>
            <a:ext cx="7772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2F6E-C1E0-4CFA-A4CA-338650D7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85C5-ECBA-4BDC-85E8-77754990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0FFF-034B-4585-9D72-E7282B2A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1A6FB-AC69-4E97-A991-D22B4344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D0A-4D16-4F64-82CC-BF407257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BC490-66F4-45E4-A1F0-4361565E7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9924B-2040-4D1F-9E37-2D76DE377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10124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710160"/>
            <a:ext cx="250236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D7412-E6A5-4CBC-82DE-1FC84D368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CE2-1A51-437E-B2AE-BAEFA764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7538-431D-4A42-B02D-3313A17B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FC6-EB12-416C-8E13-C6049948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37880"/>
            <a:ext cx="777240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C693-E191-46BE-AD02-AE5C896B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2574-8178-4215-8602-4AED077C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71016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CEAE-D5F8-4CFD-B12D-56CA87C4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01240"/>
            <a:ext cx="37926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10160"/>
            <a:ext cx="7772400" cy="238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8086-7F44-46F9-AA97-74DECCF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6CC0-1AA7-4826-8177-C22BC31BC2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1560" indent="-227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90240" y="6248520"/>
            <a:ext cx="1903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2852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56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3046-EFEE-4A29-B8AA-CBA0A537EB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89160" y="4200120"/>
            <a:ext cx="58341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следовательская работа на тему «Роль Левокумья в экономике страны»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103560" y="543888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Автор: Краснобородько Ксения 7 класс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 ОСНОВНЫХ ВИДОВ СЕЛЬХОЗПРОДУКЦИИ В ХОЗЯЙСТВАХ ВСЕХ КАТЕГОРИЙ НА ДУШУ НАСЕЛЕНИЯ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43000" y="1447920"/>
          <a:ext cx="6620040" cy="1541520"/>
        </p:xfrm>
        <a:graphic>
          <a:graphicData uri="http://schemas.openxmlformats.org/drawingml/2006/table">
            <a:tbl>
              <a:tblPr/>
              <a:tblGrid>
                <a:gridCol w="2143080"/>
                <a:gridCol w="512640"/>
                <a:gridCol w="511200"/>
                <a:gridCol w="511200"/>
                <a:gridCol w="511200"/>
                <a:gridCol w="509760"/>
                <a:gridCol w="507960"/>
                <a:gridCol w="509400"/>
                <a:gridCol w="903600"/>
              </a:tblGrid>
              <a:tr h="4381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/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4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вые и зернобобовые, 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ясо в живом весе, 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86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локо,кг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3" name="Рисунок 6" descr=""/>
          <p:cNvPicPr/>
          <p:nvPr/>
        </p:nvPicPr>
        <p:blipFill>
          <a:blip r:embed="rId1"/>
          <a:stretch/>
        </p:blipFill>
        <p:spPr>
          <a:xfrm>
            <a:off x="689040" y="3468600"/>
            <a:ext cx="769284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ПОГОЛОВЬЕ СЕЛЬСКОХОЗЯЙСТВЕННЫХ ЖИВОТНЫХ (В ХОЗЯЙСТВАХ ВСЕХ КАТЕГОРИЙ, НА КОНЕЦ ГОДА)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52280" y="762120"/>
          <a:ext cx="8839440" cy="4230720"/>
        </p:xfrm>
        <a:graphic>
          <a:graphicData uri="http://schemas.openxmlformats.org/drawingml/2006/table">
            <a:tbl>
              <a:tblPr/>
              <a:tblGrid>
                <a:gridCol w="486000"/>
                <a:gridCol w="485640"/>
                <a:gridCol w="668520"/>
                <a:gridCol w="365040"/>
                <a:gridCol w="669960"/>
                <a:gridCol w="668160"/>
                <a:gridCol w="459000"/>
                <a:gridCol w="307800"/>
                <a:gridCol w="668520"/>
                <a:gridCol w="669960"/>
                <a:gridCol w="365040"/>
                <a:gridCol w="668160"/>
                <a:gridCol w="669960"/>
                <a:gridCol w="352440"/>
                <a:gridCol w="669960"/>
                <a:gridCol w="353880"/>
                <a:gridCol w="311400"/>
              </a:tblGrid>
              <a:tr h="299880">
                <a:tc rowSpan="4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 кор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инь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вцы и коз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иц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, 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2"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0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С райо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rowSpan="2"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ыс. голов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от кра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0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7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4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79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30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7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6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3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1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1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8,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28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8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2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05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272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3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,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8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7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,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76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7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1640"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1,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ДЕЛ/0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2,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52,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48600" rIns="486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8600" marR="486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6" name="Рисунок 6" descr=""/>
          <p:cNvPicPr/>
          <p:nvPr/>
        </p:nvPicPr>
        <p:blipFill>
          <a:blip r:embed="rId1"/>
          <a:stretch/>
        </p:blipFill>
        <p:spPr>
          <a:xfrm>
            <a:off x="285840" y="5194440"/>
            <a:ext cx="857232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13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7631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43200" y="762120"/>
            <a:ext cx="5834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ель работы: выявить рентабельность занятия сельским хозяйством и животноводством в условиях засушливого климата на примере ОООТурксад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103560" y="5438880"/>
            <a:ext cx="5834160" cy="52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2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Актуальность работы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101240"/>
            <a:ext cx="77724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 период с 1950-х  до 2000-х годов средняя урожайность зерновых культур составляла в среднем 10ц с гектара, что позволяло сделать вывод о том, что занятие сельским хозяйством является нерентабельным для нашей зем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днако за период 2012-2014 годов валовый сбор зерновых культур составил 32 тысячи тонн зерна при средней урожайности 33,2 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, что на 10,7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 выше, чем в среднем по Левокумскому району за тот же период (22,5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ОО Турксад является многоотраслевым хозяйством, специализируется на разведении овец и КРС, оптовой торговле зерном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Объект 1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817800" cy="4121280"/>
          </a:xfrm>
          <a:prstGeom prst="rect">
            <a:avLst/>
          </a:prstGeom>
          <a:ln w="0">
            <a:noFill/>
          </a:ln>
        </p:spPr>
      </p:pic>
      <p:pic>
        <p:nvPicPr>
          <p:cNvPr id="97" name="Объект 1" descr=""/>
          <p:cNvPicPr/>
          <p:nvPr/>
        </p:nvPicPr>
        <p:blipFill>
          <a:blip r:embed="rId2"/>
          <a:stretch/>
        </p:blipFill>
        <p:spPr>
          <a:xfrm>
            <a:off x="4267080" y="1905120"/>
            <a:ext cx="4721400" cy="35384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Объект 11"/>
          <p:cNvGraphicFramePr/>
          <p:nvPr/>
        </p:nvGraphicFramePr>
        <p:xfrm>
          <a:off x="635040" y="1050840"/>
          <a:ext cx="7873920" cy="53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" name="Объект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1050840"/>
                    <a:ext cx="7873920" cy="53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Растениевод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101240"/>
            <a:ext cx="815328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хозяйстве проводится весь комплекс агротехнических, мелиоративных и организационных мероприятий, направленных на эффективное использование земли, сохранение и повышение плодородия почвы, получение высоких и устойчивых урожаев зерновых культур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тениеводство в ООО «Турксад» формирует основную часть прибыл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16-2018 годы она составила 258042 тысяч рублей при рентабельности в среднем за три года 51 процент. Валовый сбор озимой пшеницы составил 64 тысячи тонн, при средней урожайности 32,7 ц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а. А в 2017 году выручка от продажи продукции зерновых культур составила 44972 тысяч рублей. В 2018 году выручка составила 113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вцеводство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10124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Целенаправленная работа по развитию животноводства, улучшению условий кормления животноводства и совершенствованию селекционно-племенной работы, технологий выращивания сельскохозяйственных животных позволили существенно увеличить производство и продажу животноводческой проду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риод за 2016-2018 годы среднее годовое поголовье в хозяйстве составило 20268 голов овец, из них 14250 голов овцематки, получено ягнят 95 голов от каждой сотни овцематок, фактический настриг шерсти 4,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 2018 год среднее поголовье составило 28281 голов овец, из них 14268 голов овцематки, получено ягнят 95 голов от каждой сотни голов овцематок, настриг шерсти 4,5 к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PresentationPr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47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РС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период за 2016-2018 годы в хозяйстве имеется 2664 головы крупного рогатого скота, в том числе 1214 коров. За 2016-2018 годы получено 85 голов телят на 100 голов. Сохранность поголовья 85,6 %. За 2018 год в хозяйстве имеется 3065 головы крупного рогатого скота, в том числе 1304 коровы, получено 85 голов телят на 100 голов. Животные, выращенные а ООО «Турксад» являются постоянными участниками краевых сельскохозяйственных выставок, занимают призовые мес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жегодно хозяйство производит и реализует свыше 300 тонн мяса. В 2016-2018 годы было реализовано 395 тонн мяса. Выручка от продажи животноводческой продукции составила 55713 тысяч рублей. За 2018 год выручка от продажи составила 19973 тысяч рубл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балансе хозяйства имеются 28 тракторов и 40 автомобилей, механизированный ток, мастерские по ремонту сельскохозяйственной техники, на всех животноводческих точках построены кошары для содержания овцепоголовья и жилые дома для проживания чабанов. В хозяйстве работает 160 челов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380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РОДУКЦИЯ СЕЛЬСКОГО ХОЗЯЙСТВА В ХОЗЯЙСТВАХ ВСЕХ КАТЕГОРИЙ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(В ФАКТИЧЕСКИ ДЕЙСТВОВАВШИХ ЦЕНАХ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990720"/>
          <a:ext cx="8458200" cy="3817800"/>
        </p:xfrm>
        <a:graphic>
          <a:graphicData uri="http://schemas.openxmlformats.org/drawingml/2006/table">
            <a:tbl>
              <a:tblPr/>
              <a:tblGrid>
                <a:gridCol w="657360"/>
                <a:gridCol w="657000"/>
                <a:gridCol w="743040"/>
                <a:gridCol w="744480"/>
                <a:gridCol w="655560"/>
                <a:gridCol w="657360"/>
                <a:gridCol w="582480"/>
                <a:gridCol w="581040"/>
                <a:gridCol w="633600"/>
                <a:gridCol w="633240"/>
                <a:gridCol w="704880"/>
                <a:gridCol w="704880"/>
                <a:gridCol w="503280"/>
              </a:tblGrid>
              <a:tr h="315720">
                <a:tc rowSpan="4"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вропольский край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вокумский район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0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том числе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растение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животно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растение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ция животноводств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н. руб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42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82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76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8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5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160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981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79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86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9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32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370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15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55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1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,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024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03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0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73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393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16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229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2998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159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337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2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6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4,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0168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686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678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36,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2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34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824040"/>
                          <a:tab algn="l" pos="1647720"/>
                          <a:tab algn="l" pos="2471760"/>
                          <a:tab algn="l" pos="3295800"/>
                          <a:tab algn="l" pos="4119480"/>
                          <a:tab algn="l" pos="4943520"/>
                          <a:tab algn="l" pos="5767560"/>
                          <a:tab algn="l" pos="6591240"/>
                          <a:tab algn="l" pos="7415280"/>
                          <a:tab algn="l" pos="8238960"/>
                          <a:tab algn="l" pos="9063000"/>
                          <a:tab algn="l" pos="9887040"/>
                          <a:tab algn="l" pos="1071072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,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68760" marR="6876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7f6ef"/>
                    </a:solidFill>
                  </a:tcPr>
                </a:tc>
              </a:tr>
            </a:tbl>
          </a:graphicData>
        </a:graphic>
      </p:graphicFrame>
      <p:pic>
        <p:nvPicPr>
          <p:cNvPr id="110" name="Рисунок 8" descr=""/>
          <p:cNvPicPr/>
          <p:nvPr/>
        </p:nvPicPr>
        <p:blipFill>
          <a:blip r:embed="rId1"/>
          <a:stretch/>
        </p:blipFill>
        <p:spPr>
          <a:xfrm>
            <a:off x="457200" y="4956120"/>
            <a:ext cx="80042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1T14:41:34Z</dcterms:created>
  <dc:creator/>
  <dc:description/>
  <dc:language>en-US</dc:language>
  <cp:lastModifiedBy>Елена</cp:lastModifiedBy>
  <dcterms:modified xsi:type="dcterms:W3CDTF">2019-03-25T21:17:18Z</dcterms:modified>
  <cp:revision>130</cp:revision>
  <dc:subject/>
  <dc:title>Исследовательская работа на тему «Роль Левокумья в экономике страны»</dc:title>
</cp:coreProperties>
</file>