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B281-A1EA-434D-B8D1-36F6FB964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3ED1-BB8D-449C-90AF-0B622289A0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35D5-3C02-4681-8526-8DD4092D8B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89F7-FCF4-494C-BD05-5C6E0D252A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6A2-3758-406E-9377-51A9B99E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77724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10160"/>
            <a:ext cx="77724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1EF-9085-41AB-AEE5-473A0043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EEC-D001-4F41-93DB-3E27A1E7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10124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10124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1016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1016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1016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C20B-CF1F-4142-8C4C-B21A42EC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BC14-329D-4EE9-B98B-18E28579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12F1-7B70-401A-8ADE-EDC9F013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6094-65D3-4573-83C2-8CAB0BB4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A5F5-5392-4AF4-9455-8D9BAA09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A796-319F-4630-A530-D575E8FB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880"/>
            <a:ext cx="7772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DE45-B074-4B8A-9917-EE5BAB07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410C-E3DF-498F-AF03-74042BC2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792-0EF3-47BC-B5EA-973C7911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F8E8-ED64-41B6-AC13-7CD4B891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77724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84BD-CDDE-45D0-B324-D3583ED5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77724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10160"/>
            <a:ext cx="77724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5225-73BB-4E17-B513-BDA3CC6B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5573-99BA-4FAF-A0B1-DF0294E8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10124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10124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1016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1016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1016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ACB0-7BFE-4EE1-B456-4C1A997F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110-3312-42D1-9F51-A8EC1C24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5AD-8F00-4CAA-A09A-C57A9648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8B8-1991-42C5-957C-31244D7A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880"/>
            <a:ext cx="7772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F23-AD8B-4F81-95DC-A1FFB64A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1F7-6C49-4A06-A74F-ACFCFEE1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901-9C34-49BF-BB0F-AD4EAA52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77724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264A-9B99-4E37-AB19-943987C9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7923-8F3B-4443-B977-A08AE8005A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290240" y="6248520"/>
            <a:ext cx="1903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2852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56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19F2-0455-4882-8C9E-2D909D78BD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89160" y="4200120"/>
            <a:ext cx="58341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следовательская работа на тему «Роль Левокумья в экономике страны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03560" y="5438880"/>
            <a:ext cx="583416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втор: Краснобородько Ксения 7 класс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 ОСНОВНЫХ ВИДОВ СЕЛЬХОЗПРОДУКЦИИ В ХОЗЯЙСТВАХ ВСЕХ КАТЕГОРИЙ НА ДУШУ НАСЕЛЕНИЯ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43000" y="1447920"/>
          <a:ext cx="6620040" cy="1541520"/>
        </p:xfrm>
        <a:graphic>
          <a:graphicData uri="http://schemas.openxmlformats.org/drawingml/2006/table">
            <a:tbl>
              <a:tblPr/>
              <a:tblGrid>
                <a:gridCol w="2143080"/>
                <a:gridCol w="512640"/>
                <a:gridCol w="511200"/>
                <a:gridCol w="511200"/>
                <a:gridCol w="511200"/>
                <a:gridCol w="509760"/>
                <a:gridCol w="507960"/>
                <a:gridCol w="509400"/>
                <a:gridCol w="903600"/>
              </a:tblGrid>
              <a:tr h="438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/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овые и зернобобовые, к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 в живом весе, к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,к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113" name="Рисунок 6" descr=""/>
          <p:cNvPicPr/>
          <p:nvPr/>
        </p:nvPicPr>
        <p:blipFill>
          <a:blip r:embed="rId1"/>
          <a:stretch/>
        </p:blipFill>
        <p:spPr>
          <a:xfrm>
            <a:off x="689040" y="3468600"/>
            <a:ext cx="76928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ПОГОЛОВЬЕ СЕЛЬСКОХОЗЯЙСТВЕННЫХ ЖИВОТНЫХ (В ХОЗЯЙСТВАХ ВСЕХ КАТЕГОРИЙ, НА КОНЕЦ ГОДА)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280" y="762120"/>
          <a:ext cx="8839440" cy="4230720"/>
        </p:xfrm>
        <a:graphic>
          <a:graphicData uri="http://schemas.openxmlformats.org/drawingml/2006/table">
            <a:tbl>
              <a:tblPr/>
              <a:tblGrid>
                <a:gridCol w="486000"/>
                <a:gridCol w="485640"/>
                <a:gridCol w="668520"/>
                <a:gridCol w="365040"/>
                <a:gridCol w="669960"/>
                <a:gridCol w="668160"/>
                <a:gridCol w="459000"/>
                <a:gridCol w="307800"/>
                <a:gridCol w="668520"/>
                <a:gridCol w="669960"/>
                <a:gridCol w="365040"/>
                <a:gridCol w="668160"/>
                <a:gridCol w="669960"/>
                <a:gridCol w="352440"/>
                <a:gridCol w="669960"/>
                <a:gridCol w="353880"/>
                <a:gridCol w="311400"/>
              </a:tblGrid>
              <a:tr h="299880">
                <a:tc rowSpan="4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ко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нь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цы и ко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, 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2"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кум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, 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кум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, 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2"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кум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, 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2"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кум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, 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2"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кум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КРС рай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кр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кр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кр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кр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кр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308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272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7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64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ДЕЛ/0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5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116" name="Рисунок 6" descr=""/>
          <p:cNvPicPr/>
          <p:nvPr/>
        </p:nvPicPr>
        <p:blipFill>
          <a:blip r:embed="rId1"/>
          <a:stretch/>
        </p:blipFill>
        <p:spPr>
          <a:xfrm>
            <a:off x="285840" y="5194440"/>
            <a:ext cx="85723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Объект 13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3200" y="762120"/>
            <a:ext cx="5834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 работы: выявить рентабельность занятия сельским хозяйством и животноводством в условиях засушливого климата на примере ОООТурксад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103560" y="5438880"/>
            <a:ext cx="58341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ктуальность работ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 период с 1950-х  до 2000-х годов средняя урожайность зерновых культур составляла в среднем 10ц с гектара, что позволяло сделать вывод о том, что занятие сельским хозяйством является нерентабельным для нашей зем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ако за период 2012-2014 годов валовый сбор зерновых культур составил 32 тысячи тонн зерна при средней урожайности 33,2 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, что на 10,7 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 выше, чем в среднем по Левокумскому району за тот же период (22,5 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ОО Турксад является многоотраслевым хозяйством, специализируется на разведении овец и КРС, оптовой торговле зерно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Объект 1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817800" cy="4121280"/>
          </a:xfrm>
          <a:prstGeom prst="rect">
            <a:avLst/>
          </a:prstGeom>
          <a:ln w="0">
            <a:noFill/>
          </a:ln>
        </p:spPr>
      </p:pic>
      <p:pic>
        <p:nvPicPr>
          <p:cNvPr id="97" name="Объект 1" descr=""/>
          <p:cNvPicPr/>
          <p:nvPr/>
        </p:nvPicPr>
        <p:blipFill>
          <a:blip r:embed="rId2"/>
          <a:stretch/>
        </p:blipFill>
        <p:spPr>
          <a:xfrm>
            <a:off x="4267080" y="1905120"/>
            <a:ext cx="4721400" cy="353844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Объект 11"/>
          <p:cNvGraphicFramePr/>
          <p:nvPr/>
        </p:nvGraphicFramePr>
        <p:xfrm>
          <a:off x="635040" y="1050840"/>
          <a:ext cx="7873920" cy="53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Объект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050840"/>
                    <a:ext cx="787392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стениеводство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101240"/>
            <a:ext cx="815328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хозяйстве проводится весь комплекс агротехнических, мелиоративных и организационных мероприятий, направленных на эффективное использование земли, сохранение и повышение плодородия почвы, получение высоких и устойчивых урожаев зерновых культу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ениеводство в ООО «Турксад» формирует основную часть прибы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2016-2018 годы она составила 258042 тысяч рублей при рентабельности в среднем за три года 51 процент. Валовый сбор озимой пшеницы составил 64 тысячи тонн, при средней урожайности 32,7 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. А в 2017 году выручка от продажи продукции зерновых культур составила 44972 тысяч рублей. В 2018 году выручка составила 113 тысяч руб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вцеводство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10124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енаправленная работа по развитию животноводства, улучшению условий кормления животноводства и совершенствованию селекционно-племенной работы, технологий выращивания сельскохозяйственных животных позволили существенно увеличить производство и продажу животноводческой про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ериод за 2016-2018 годы среднее годовое поголовье в хозяйстве составило 20268 голов овец, из них 14250 голов овцематки, получено ягнят 95 голов от каждой сотни овцематок, фактический настриг шерсти 4,5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2018 год среднее поголовье составило 28281 голов овец, из них 14268 голов овцематки, получено ягнят 95 голов от каждой сотни голов овцематок, настриг шерсти 4,5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4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РС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ериод за 2016-2018 годы в хозяйстве имеется 2664 головы крупного рогатого скота, в том числе 1214 коров. За 2016-2018 годы получено 85 голов телят на 100 голов. Сохранность поголовья 85,6 %. За 2018 год в хозяйстве имеется 3065 головы крупного рогатого скота, в том числе 1304 коровы, получено 85 голов телят на 100 голов. Животные, выращенные а ООО «Турксад» являются постоянными участниками краевых сельскохозяйственных выставок, занимают призовые ме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жегодно хозяйство производит и реализует свыше 300 тонн мяса. В 2016-2018 годы было реализовано 395 тонн мяса. Выручка от продажи животноводческой продукции составила 55713 тысяч рублей. За 2018 год выручка от продажи составила 19973 тысяч руб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балансе хозяйства имеются 28 тракторов и 40 автомобилей, механизированный ток, мастерские по ремонту сельскохозяйственной техники, на всех животноводческих точках построены кошары для содержания овцепоголовья и жилые дома для проживания чабанов. В хозяйстве работает 16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380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ДУКЦИЯ СЕЛЬСКОГО ХОЗЯЙСТВА В ХОЗЯЙСТВАХ ВСЕХ КАТЕГОР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В ФАКТИЧЕСКИ ДЕЙСТВОВАВШИХ ЦЕНАХ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990720"/>
          <a:ext cx="8458200" cy="3817800"/>
        </p:xfrm>
        <a:graphic>
          <a:graphicData uri="http://schemas.openxmlformats.org/drawingml/2006/table">
            <a:tbl>
              <a:tblPr/>
              <a:tblGrid>
                <a:gridCol w="657360"/>
                <a:gridCol w="657000"/>
                <a:gridCol w="743040"/>
                <a:gridCol w="744480"/>
                <a:gridCol w="655560"/>
                <a:gridCol w="657360"/>
                <a:gridCol w="582480"/>
                <a:gridCol w="581040"/>
                <a:gridCol w="633600"/>
                <a:gridCol w="633240"/>
                <a:gridCol w="704880"/>
                <a:gridCol w="704880"/>
                <a:gridCol w="503280"/>
              </a:tblGrid>
              <a:tr h="315720">
                <a:tc rowSpan="4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ский кр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кумский райо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ция растениевод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ция животновод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ция растениевод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ция животновод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4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25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76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48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6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6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981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95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86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9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01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7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15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55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2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00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34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02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32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9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01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93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63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29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99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59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337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2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6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4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01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686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78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6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2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4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110" name="Рисунок 8" descr=""/>
          <p:cNvPicPr/>
          <p:nvPr/>
        </p:nvPicPr>
        <p:blipFill>
          <a:blip r:embed="rId1"/>
          <a:stretch/>
        </p:blipFill>
        <p:spPr>
          <a:xfrm>
            <a:off x="457200" y="4956120"/>
            <a:ext cx="80042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4:41:34Z</dcterms:created>
  <dc:creator/>
  <dc:description/>
  <dc:language>en-US</dc:language>
  <cp:lastModifiedBy>Елена</cp:lastModifiedBy>
  <dcterms:modified xsi:type="dcterms:W3CDTF">2019-03-25T21:17:18Z</dcterms:modified>
  <cp:revision>130</cp:revision>
  <dc:subject/>
  <dc:title>Исследовательская работа на тему «Роль Левокумья в экономике страны»</dc:title>
</cp:coreProperties>
</file>