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969F-35A4-4534-A688-C3ACB2E3C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FE4D-3C30-4834-AC29-D8B5CEBD87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1F8E-EB00-4525-A779-EAE53FB0F3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00DF-8C49-4A8A-9905-05D74A4FB0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5D0A-0B89-4042-BB13-32ABBBF9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77724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10160"/>
            <a:ext cx="77724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DA4E-1768-489B-8064-C4E6130B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1016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1016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1C1-1184-4961-94C3-442A5839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10124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10124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1016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1016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1016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2581-123B-4161-A1C4-664A1E8C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8EBE-1110-49B6-BD07-6060E7FD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101240"/>
            <a:ext cx="77724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3598-C026-43DE-8983-7B758226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77724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13F0-5214-41CB-AF63-23505EA5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58FF-C2C2-423D-9BDC-E3D86C8E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83D3-73DE-423F-A2DA-8E1AF9C2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880"/>
            <a:ext cx="7772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C3EC-B344-4C30-97C4-87CDAAFF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1016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F450-7B18-4B7F-A993-86E67409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101240"/>
            <a:ext cx="77724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7BBB-D71A-414F-B6F2-86FF5911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71016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EAF4-A0E1-4D41-9AE1-536F9F72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10160"/>
            <a:ext cx="77724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CD8A-43C4-428D-942F-349BF9A6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77724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10160"/>
            <a:ext cx="77724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221F-31BC-436A-A85D-A03ACDA4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1016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71016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E3DF-EFB3-4ACC-B4DD-A2304C58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10124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10124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1016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71016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71016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2EC4-A54E-4354-AE8B-CDA46D2D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77724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3EA3-93C4-4807-939D-836F3FA1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076D-2FDC-44BA-9F7D-47C62C8B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7316-A9FB-4E87-B15E-DDE46EDA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880"/>
            <a:ext cx="7772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F140-5982-4176-8581-F53900CB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1016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E640-0A36-49A4-BD8F-4500FCE8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1016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5AE-4357-4737-9515-0EBB314A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10160"/>
            <a:ext cx="77724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258A-EB17-434E-AA0D-D0922F92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01240"/>
            <a:ext cx="77724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PresentationPro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0278-47E4-4717-96BF-E491C8A3EA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101240"/>
            <a:ext cx="77724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290240" y="6248520"/>
            <a:ext cx="1903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2852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PresentationPr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156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1A64-9AED-4E95-A855-EAD6A05864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89160" y="4200120"/>
            <a:ext cx="583416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следовательская работа на тему «Роль Левокумья в экономике страны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103560" y="5438880"/>
            <a:ext cx="5834160" cy="5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втор: Краснобородько Ксения 7 класс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ОДСТВО ОСНОВНЫХ ВИДОВ СЕЛЬХОЗПРОДУКЦИИ В ХОЗЯЙСТВАХ ВСЕХ КАТЕГОРИЙ НА ДУШУ НАСЕЛЕНИЯ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43000" y="1447920"/>
          <a:ext cx="6620040" cy="1541520"/>
        </p:xfrm>
        <a:graphic>
          <a:graphicData uri="http://schemas.openxmlformats.org/drawingml/2006/table">
            <a:tbl>
              <a:tblPr/>
              <a:tblGrid>
                <a:gridCol w="2143080"/>
                <a:gridCol w="512640"/>
                <a:gridCol w="511200"/>
                <a:gridCol w="511200"/>
                <a:gridCol w="511200"/>
                <a:gridCol w="509760"/>
                <a:gridCol w="507960"/>
                <a:gridCol w="509400"/>
                <a:gridCol w="903600"/>
              </a:tblGrid>
              <a:tr h="438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/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6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рновые и зернобобовые, к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со в живом весе, к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8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ко,к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pic>
        <p:nvPicPr>
          <p:cNvPr id="113" name="Рисунок 6" descr=""/>
          <p:cNvPicPr/>
          <p:nvPr/>
        </p:nvPicPr>
        <p:blipFill>
          <a:blip r:embed="rId1"/>
          <a:stretch/>
        </p:blipFill>
        <p:spPr>
          <a:xfrm>
            <a:off x="689040" y="3468600"/>
            <a:ext cx="769284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ПОГОЛОВЬЕ СЕЛЬСКОХОЗЯЙСТВЕННЫХ ЖИВОТНЫХ (В ХОЗЯЙСТВАХ ВСЕХ КАТЕГОРИЙ, НА КОНЕЦ ГОДА)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52280" y="762120"/>
          <a:ext cx="8839440" cy="4230720"/>
        </p:xfrm>
        <a:graphic>
          <a:graphicData uri="http://schemas.openxmlformats.org/drawingml/2006/table">
            <a:tbl>
              <a:tblPr/>
              <a:tblGrid>
                <a:gridCol w="486000"/>
                <a:gridCol w="485640"/>
                <a:gridCol w="668520"/>
                <a:gridCol w="365040"/>
                <a:gridCol w="669960"/>
                <a:gridCol w="668160"/>
                <a:gridCol w="459000"/>
                <a:gridCol w="307800"/>
                <a:gridCol w="668520"/>
                <a:gridCol w="669960"/>
                <a:gridCol w="365040"/>
                <a:gridCol w="668160"/>
                <a:gridCol w="669960"/>
                <a:gridCol w="352440"/>
                <a:gridCol w="669960"/>
                <a:gridCol w="353880"/>
                <a:gridCol w="311400"/>
              </a:tblGrid>
              <a:tr h="299880">
                <a:tc rowSpan="4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grid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 ко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инь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цы и ко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рополь, 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gridSpan="2" rowSpan="2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окум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рополь, 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grid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окум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рополь, 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gridSpan="2" rowSpan="2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окум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рополь, 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gridSpan="2" rowSpan="2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окум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рополь, 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gridSpan="2" rowSpan="2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окум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от КРС райо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от кр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от кр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от кр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от кр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от кр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1280"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1280"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3080"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1280"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1280"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1280"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0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2720"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7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1640"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ДЕЛ/0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5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pic>
        <p:nvPicPr>
          <p:cNvPr id="116" name="Рисунок 6" descr=""/>
          <p:cNvPicPr/>
          <p:nvPr/>
        </p:nvPicPr>
        <p:blipFill>
          <a:blip r:embed="rId1"/>
          <a:stretch/>
        </p:blipFill>
        <p:spPr>
          <a:xfrm>
            <a:off x="285840" y="5194440"/>
            <a:ext cx="85723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Объект 13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43200" y="762120"/>
            <a:ext cx="5834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 работы: выявить рентабельность занятия сельским хозяйством и животноводством в условиях засушливого климата на примере ОООТурксад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103560" y="5438880"/>
            <a:ext cx="58341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ктуальность работ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101240"/>
            <a:ext cx="77724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 период с 1950-х  до 2000-х годов средняя урожайность зерновых культур составляла в среднем 10ц с гектара, что позволяло сделать вывод о том, что занятие сельским хозяйством является нерентабельным для нашей зем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ако за период 2012-2014 годов валовый сбор зерновых культур составил 32 тысячи тонн зерна при средней урожайности 33,2 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, что на 10,7 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 выше, чем в среднем по Левокумскому району за тот же период (22,5 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ОО Турксад является многоотраслевым хозяйством, специализируется на разведении овец и КРС, оптовой торговле зерном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Объект 1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817800" cy="4121280"/>
          </a:xfrm>
          <a:prstGeom prst="rect">
            <a:avLst/>
          </a:prstGeom>
          <a:ln w="0">
            <a:noFill/>
          </a:ln>
        </p:spPr>
      </p:pic>
      <p:pic>
        <p:nvPicPr>
          <p:cNvPr id="97" name="Объект 1" descr=""/>
          <p:cNvPicPr/>
          <p:nvPr/>
        </p:nvPicPr>
        <p:blipFill>
          <a:blip r:embed="rId2"/>
          <a:stretch/>
        </p:blipFill>
        <p:spPr>
          <a:xfrm>
            <a:off x="4267080" y="1905120"/>
            <a:ext cx="4721400" cy="353844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Объект 11"/>
          <p:cNvGraphicFramePr/>
          <p:nvPr/>
        </p:nvGraphicFramePr>
        <p:xfrm>
          <a:off x="635040" y="1050840"/>
          <a:ext cx="7873920" cy="53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Объект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1050840"/>
                    <a:ext cx="787392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стениеводство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101240"/>
            <a:ext cx="815328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хозяйстве проводится весь комплекс агротехнических, мелиоративных и организационных мероприятий, направленных на эффективное использование земли, сохранение и повышение плодородия почвы, получение высоких и устойчивых урожаев зерновых культу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тениеводство в ООО «Турксад» формирует основную часть прибы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2016-2018 годы она составила 258042 тысяч рублей при рентабельности в среднем за три года 51 процент. Валовый сбор озимой пшеницы составил 64 тысячи тонн, при средней урожайности 32,7 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. А в 2017 году выручка от продажи продукции зерновых культур составила 44972 тысяч рублей. В 2018 году выручка составила 113 тысяч руб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PresentationPr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вцеводство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10124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ленаправленная работа по развитию животноводства, улучшению условий кормления животноводства и совершенствованию селекционно-племенной работы, технологий выращивания сельскохозяйственных животных позволили существенно увеличить производство и продажу животноводческой проду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ериод за 2016-2018 годы среднее годовое поголовье в хозяйстве составило 20268 голов овец, из них 14250 голов овцематки, получено ягнят 95 голов от каждой сотни овцематок, фактический настриг шерсти 4,5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2018 год среднее поголовье составило 28281 голов овец, из них 14268 голов овцематки, получено ягнят 95 голов от каждой сотни голов овцематок, настриг шерсти 4,5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PresentationPr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4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РС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ериод за 2016-2018 годы в хозяйстве имеется 2664 головы крупного рогатого скота, в том числе 1214 коров. За 2016-2018 годы получено 85 голов телят на 100 голов. Сохранность поголовья 85,6 %. За 2018 год в хозяйстве имеется 3065 головы крупного рогатого скота, в том числе 1304 коровы, получено 85 голов телят на 100 голов. Животные, выращенные а ООО «Турксад» являются постоянными участниками краевых сельскохозяйственных выставок, занимают призовые мес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жегодно хозяйство производит и реализует свыше 300 тонн мяса. В 2016-2018 годы было реализовано 395 тонн мяса. Выручка от продажи животноводческой продукции составила 55713 тысяч рублей. За 2018 год выручка от продажи составила 19973 тысяч руб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балансе хозяйства имеются 28 тракторов и 40 автомобилей, механизированный ток, мастерские по ремонту сельскохозяйственной техники, на всех животноводческих точках построены кошары для содержания овцепоголовья и жилые дома для проживания чабанов. В хозяйстве работает 160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380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ДУКЦИЯ СЕЛЬСКОГО ХОЗЯЙСТВА В ХОЗЯЙСТВАХ ВСЕХ КАТЕГОР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В ФАКТИЧЕСКИ ДЕЙСТВОВАВШИХ ЦЕНАХ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990720"/>
          <a:ext cx="8458200" cy="3817800"/>
        </p:xfrm>
        <a:graphic>
          <a:graphicData uri="http://schemas.openxmlformats.org/drawingml/2006/table">
            <a:tbl>
              <a:tblPr/>
              <a:tblGrid>
                <a:gridCol w="657360"/>
                <a:gridCol w="657000"/>
                <a:gridCol w="743040"/>
                <a:gridCol w="744480"/>
                <a:gridCol w="655560"/>
                <a:gridCol w="657360"/>
                <a:gridCol w="582480"/>
                <a:gridCol w="581040"/>
                <a:gridCol w="633600"/>
                <a:gridCol w="633240"/>
                <a:gridCol w="704880"/>
                <a:gridCol w="704880"/>
                <a:gridCol w="503280"/>
              </a:tblGrid>
              <a:tr h="315720">
                <a:tc rowSpan="4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ропольский кра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окумский райо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ция растениеводст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ция животноводст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ция растениеводст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ция животноводст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4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25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76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48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6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6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981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95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86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4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9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01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7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15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55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2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00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034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02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32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9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01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393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63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29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99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59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337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21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1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6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4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01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686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678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6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2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4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pic>
        <p:nvPicPr>
          <p:cNvPr id="110" name="Рисунок 8" descr=""/>
          <p:cNvPicPr/>
          <p:nvPr/>
        </p:nvPicPr>
        <p:blipFill>
          <a:blip r:embed="rId1"/>
          <a:stretch/>
        </p:blipFill>
        <p:spPr>
          <a:xfrm>
            <a:off x="457200" y="4956120"/>
            <a:ext cx="80042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4:41:34Z</dcterms:created>
  <dc:creator/>
  <dc:description/>
  <dc:language>en-US</dc:language>
  <cp:lastModifiedBy>Елена</cp:lastModifiedBy>
  <dcterms:modified xsi:type="dcterms:W3CDTF">2019-03-25T21:17:18Z</dcterms:modified>
  <cp:revision>130</cp:revision>
  <dc:subject/>
  <dc:title>Исследовательская работа на тему «Роль Левокумья в экономике страны»</dc:title>
</cp:coreProperties>
</file>