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A44A-4C8B-4DF5-A001-D4F1AA42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DA1B-D415-4B20-A6D5-C825D16C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EF8-9C6F-47B1-84EB-F45F689C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87CB-A876-4E2A-B3BA-2EA14406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9F0F-23E9-4AC2-A2BD-AEC133DD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73C9-29B2-4C65-9023-F2B372B6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789A-40D8-4936-A52D-07673E73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C89E-0C61-469F-9680-B70CCD96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2452-BBE5-42E5-8DA3-6591D6D6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5186-E590-4DC2-B941-8506A1EF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2EB8-EF4F-41C0-BCE6-8EC4B5D1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C1C-0FC9-4396-B068-F56AE7E8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AE6F-BA68-4060-8B54-AFD43008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B492-74A9-47BC-8429-A6767758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FDCA-76F6-455B-97D2-63958012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BEAA-67DD-457D-96A5-7DB77926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931E-CE91-45C4-840F-174F5B65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61CCD-3F39-41F5-BB4A-D4130C06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E70FD-1AD6-49A7-AB6D-0FAB03F4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A81F-848A-4305-AA02-B861F79E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8ED49-0234-491E-A624-169F9ECF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B38FD-209D-4624-BE28-2A06808B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7162-0E3F-440A-8D46-4687D466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29717-0164-47BC-A92F-B1EDADF7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F4675-C0B8-4306-A785-858C4A02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F312C-A760-4D9B-82A2-108CCC45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2755C-579C-41F6-AAE9-F03D1202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B85EE-ABDB-4588-93C0-72A4C159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6948A-9322-4C45-9B36-D2E7F489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9CFC7-6E01-4FBD-B1F5-EBDFBA33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5CB53-614F-4DC7-80FA-0716A0AA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D7F26-7812-431E-9A76-7358E329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E94DB-CD6B-4987-8E57-2778C74A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6208-D493-431A-9E40-8E3E0926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C2D20-55CD-4C7C-9FD9-7A8CD43F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0696E-500E-4CFA-A6B7-B08AAD7E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45E4F-2D75-40D3-87DC-A07DF30D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EE41D-CB9D-46C8-95E7-F7966258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3885C-6C80-4200-BE8F-DEECDCA1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F3675-318E-43BE-B506-EED58A71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9A39E-B133-49C7-81D7-5A2C90A6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920AE-91FB-4529-B0ED-0CE6CF3E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BEE36-B030-4752-AA5B-6F95AF57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C3D-0A8D-4B13-A899-380B1DCA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A3A-E235-49DE-A3DE-26B2F0B2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E1F-DF41-43BA-AD80-DD6B31F5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154-6D74-4CD7-AFA6-AB11DF3E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8A8-427A-460E-B628-BC426AAE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BA9F-B3DB-4ACC-8A01-4FF71EC1DAC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C78D-7698-4BA8-9CA9-490EA949A241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6A56-19FE-4220-8814-0B0901D054D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6297-E825-44DA-ACFF-5071DFDA96BA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Объект 3" descr=""/>
          <p:cNvPicPr/>
          <p:nvPr/>
        </p:nvPicPr>
        <p:blipFill>
          <a:blip r:embed="rId1"/>
          <a:stretch/>
        </p:blipFill>
        <p:spPr>
          <a:xfrm>
            <a:off x="-252360" y="-11160"/>
            <a:ext cx="9745560" cy="73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Объект 3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914040" cy="74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1395360" y="5651640"/>
            <a:ext cx="6529320" cy="1803240"/>
          </a:xfrm>
          <a:prstGeom prst="rect">
            <a:avLst/>
          </a:prstGeom>
          <a:ln w="0">
            <a:noFill/>
          </a:ln>
        </p:spPr>
      </p:pic>
      <p:pic>
        <p:nvPicPr>
          <p:cNvPr id="217" name="Объект 3" descr=""/>
          <p:cNvPicPr/>
          <p:nvPr/>
        </p:nvPicPr>
        <p:blipFill>
          <a:blip r:embed="rId2"/>
          <a:stretch/>
        </p:blipFill>
        <p:spPr>
          <a:xfrm>
            <a:off x="2484360" y="0"/>
            <a:ext cx="403560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1755720" y="5510160"/>
            <a:ext cx="6529320" cy="1805040"/>
          </a:xfrm>
          <a:prstGeom prst="rect">
            <a:avLst/>
          </a:prstGeom>
          <a:ln w="0">
            <a:noFill/>
          </a:ln>
        </p:spPr>
      </p:pic>
      <p:pic>
        <p:nvPicPr>
          <p:cNvPr id="219" name="Объект 3" descr=""/>
          <p:cNvPicPr/>
          <p:nvPr/>
        </p:nvPicPr>
        <p:blipFill>
          <a:blip r:embed="rId2"/>
          <a:stretch/>
        </p:blipFill>
        <p:spPr>
          <a:xfrm>
            <a:off x="0" y="-237960"/>
            <a:ext cx="925200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1542960" y="5797440"/>
            <a:ext cx="6521400" cy="1803600"/>
          </a:xfrm>
          <a:prstGeom prst="rect">
            <a:avLst/>
          </a:prstGeom>
          <a:ln w="0">
            <a:noFill/>
          </a:ln>
        </p:spPr>
      </p:pic>
      <p:pic>
        <p:nvPicPr>
          <p:cNvPr id="221" name="Объект 3" descr=""/>
          <p:cNvPicPr/>
          <p:nvPr/>
        </p:nvPicPr>
        <p:blipFill>
          <a:blip r:embed="rId2"/>
          <a:stretch/>
        </p:blipFill>
        <p:spPr>
          <a:xfrm>
            <a:off x="2627280" y="-27000"/>
            <a:ext cx="357840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-128520" y="5681520"/>
            <a:ext cx="9327960" cy="1646280"/>
          </a:xfrm>
          <a:prstGeom prst="rect">
            <a:avLst/>
          </a:prstGeom>
          <a:ln w="0">
            <a:noFill/>
          </a:ln>
        </p:spPr>
      </p:pic>
      <p:pic>
        <p:nvPicPr>
          <p:cNvPr id="223" name="Объект 3" descr=""/>
          <p:cNvPicPr/>
          <p:nvPr/>
        </p:nvPicPr>
        <p:blipFill>
          <a:blip r:embed="rId2"/>
          <a:stretch/>
        </p:blipFill>
        <p:spPr>
          <a:xfrm>
            <a:off x="2556000" y="0"/>
            <a:ext cx="36972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04:39:45Z</dcterms:created>
  <dc:creator>учитель</dc:creator>
  <dc:description/>
  <dc:language>en-US</dc:language>
  <cp:lastModifiedBy>dns</cp:lastModifiedBy>
  <dcterms:modified xsi:type="dcterms:W3CDTF">2019-12-22T10:18:12Z</dcterms:modified>
  <cp:revision>9</cp:revision>
  <dc:subject/>
  <dc:title>Презентация PowerPoint</dc:title>
</cp:coreProperties>
</file>