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3A4-9198-44EA-89B0-A06B6712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83F-09F5-4091-A942-C7FE378C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220-CA5B-486A-B279-38EFF07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2D4-4B25-4BEB-8F49-031B2AE7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FF2D-5EA1-4B3E-AF86-A15713F8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0A6C-887C-4952-B53E-942001A6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BAD8-D42D-4B14-9AC9-3544AE81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F0B1-B724-4612-88DE-023C1421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6B71-E91C-48C4-BD60-6299252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8F7-316F-418A-856D-AA80191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3B3-695A-4A69-8555-FB0C1C9C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E0E-419C-419B-82BC-ED3EE69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4CE-4305-4BB9-94BF-F39409ED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EBE-BA36-42F9-9526-9C52B29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CA53-6059-44BB-991E-6554ACE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A22-448B-4423-9B74-346EADDD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376-D4A1-4A32-B50D-0A3CAED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8032-00C1-45D9-979C-B04F0373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BC06-23D6-40C3-9E52-C220A13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0B0F-77F9-4598-932F-808FE5F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4BEE-B19A-4B46-A363-2F1A0F4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C317-65E6-4759-9B80-1BA4776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FB3-8BF3-47FC-B30D-00C8304E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6E81-BBBE-4F50-B07B-B4FD172F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CBB9-90E5-4A1D-8A68-2FC2153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0566-1763-40F6-A31C-D0CFA88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093C-199F-4723-AA7D-D2B4BC5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18FA-76FC-44D7-B1AA-CABB7D03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C368-DFF5-4EF1-96AF-9CF0E790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CA3B-355C-4382-BB1A-9699853B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5FE4-B399-4E11-B8D5-AD2FF18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E8B7-F079-4D92-AE8C-B945C1E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11E7-47A4-41EA-B26C-9F6A359A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DB6-EA72-4204-8826-21F8DB5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3C3B-429F-423D-8853-08C741C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DB6F-B7E5-48D8-AB0E-3B2A6B5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A31F-EFD3-4C9B-80AC-FFD4CF0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6357-7BB7-49E8-B946-B2F6480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AD3B-417E-4392-B26A-C47E377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5063-35AD-44ED-80C9-04E5578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DDF6-F51A-4137-A388-C8878CA2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8FDE-3B2A-4BA8-8B6F-98A00189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C863-7563-41A6-93D2-EAEEC0EF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E75-1DDC-467A-83A8-1AEA5C7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A5B-FBF8-47EF-BF55-76D028C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82E-6E48-4D7E-9787-22C31C7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A84-AAFE-4ECD-8734-B58398F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79C-EA88-492E-8B2C-471E200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F27-DCE3-4995-A34B-21FA47AD6A6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8DA-FA73-4B38-B7A8-95563763BBD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8BF-E896-492E-81E7-2BB14E27EF6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0B9-52B6-493F-A6E4-D4469933711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4" descr=""/>
          <p:cNvPicPr/>
          <p:nvPr/>
        </p:nvPicPr>
        <p:blipFill>
          <a:blip r:embed="rId1"/>
          <a:stretch/>
        </p:blipFill>
        <p:spPr>
          <a:xfrm>
            <a:off x="1395360" y="5430960"/>
            <a:ext cx="6529320" cy="180504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3" descr=""/>
          <p:cNvPicPr/>
          <p:nvPr/>
        </p:nvPicPr>
        <p:blipFill>
          <a:blip r:embed="rId2"/>
          <a:stretch/>
        </p:blipFill>
        <p:spPr>
          <a:xfrm>
            <a:off x="0" y="12600"/>
            <a:ext cx="3643200" cy="485640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6" descr=""/>
          <p:cNvPicPr/>
          <p:nvPr/>
        </p:nvPicPr>
        <p:blipFill>
          <a:blip r:embed="rId3"/>
          <a:stretch/>
        </p:blipFill>
        <p:spPr>
          <a:xfrm>
            <a:off x="3695760" y="1700280"/>
            <a:ext cx="54482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44440" y="-469800"/>
            <a:ext cx="8906040" cy="180504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4" descr=""/>
          <p:cNvPicPr/>
          <p:nvPr/>
        </p:nvPicPr>
        <p:blipFill>
          <a:blip r:embed="rId2"/>
          <a:stretch/>
        </p:blipFill>
        <p:spPr>
          <a:xfrm>
            <a:off x="0" y="476280"/>
            <a:ext cx="5092560" cy="432108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5" descr=""/>
          <p:cNvPicPr/>
          <p:nvPr/>
        </p:nvPicPr>
        <p:blipFill>
          <a:blip r:embed="rId3"/>
          <a:stretch/>
        </p:blipFill>
        <p:spPr>
          <a:xfrm>
            <a:off x="5086440" y="141300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4" descr=""/>
          <p:cNvPicPr/>
          <p:nvPr/>
        </p:nvPicPr>
        <p:blipFill>
          <a:blip r:embed="rId1"/>
          <a:stretch/>
        </p:blipFill>
        <p:spPr>
          <a:xfrm>
            <a:off x="3724200" y="-1440"/>
            <a:ext cx="5426280" cy="3646440"/>
          </a:xfrm>
          <a:prstGeom prst="rect">
            <a:avLst/>
          </a:prstGeom>
          <a:ln w="0">
            <a:noFill/>
          </a:ln>
        </p:spPr>
      </p:pic>
      <p:pic>
        <p:nvPicPr>
          <p:cNvPr id="221" name="Объект 10" descr=""/>
          <p:cNvPicPr/>
          <p:nvPr/>
        </p:nvPicPr>
        <p:blipFill>
          <a:blip r:embed="rId2"/>
          <a:stretch/>
        </p:blipFill>
        <p:spPr>
          <a:xfrm>
            <a:off x="-108000" y="3084480"/>
            <a:ext cx="56577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4:39:45Z</dcterms:created>
  <dc:creator>учитель</dc:creator>
  <dc:description/>
  <dc:language>en-US</dc:language>
  <cp:lastModifiedBy>dns</cp:lastModifiedBy>
  <dcterms:modified xsi:type="dcterms:W3CDTF">2019-12-22T10:22:07Z</dcterms:modified>
  <cp:revision>10</cp:revision>
  <dc:subject/>
  <dc:title>Презентация PowerPoint</dc:title>
</cp:coreProperties>
</file>