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F185-C8DE-4142-8929-800578E97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FAAE-82C6-43CE-9F68-C0D203E6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7893-3381-48CA-9AB6-BF5098EF0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A056-1EAA-450F-AB1C-79BD23792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DE25-0EAE-4DEF-AB9D-608AF8E36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DC20-CC9A-4861-8F4A-6B0848B4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03A9-4C4B-421B-867F-6EE9D602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9881D-50FA-41E9-A31D-4C9D1ACB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A44A-A067-4CAD-BB93-8D1DC079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AB8F-C8D1-4525-BB9E-7EBF8A9C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A1B9-63C1-44BF-AB7C-CB4C6268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486D-ED38-4C57-A1E5-4809E54F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82C3-3D79-4C5A-8EA7-05BD5EA5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88C1-FF22-4BAE-B2C1-BBE73279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49EC-94A8-4AE6-BCE9-5FE64457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6D188-E38B-40ED-93EB-FFEC83A3B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355B-BC32-4EB3-8AA3-C3B88804C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D0EE3-E1B0-4D00-ACA1-C7F6931B0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B4DCD-74C5-48F3-9797-79F73342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7D717-E9B2-4A7E-B39F-724363AF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B5602-28FC-43A7-B99A-D71930B7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D9ADE-4C0F-43FC-ADD2-8C1EE8CC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E622-FCC3-4891-9731-09B89C27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4EA29-16A0-4541-95DB-44DD8122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EA2CB-99B7-490F-81B3-A9716022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FEA5D-BE92-4137-8823-75D1285D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9376F-4FC6-4671-8929-C862AE06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AB9B7-6425-413D-A31A-E94C7898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72308-2015-4FB8-8F05-B7E244F3F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EF06D-9C42-45D3-9C0A-F157C77FF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78FD8-D949-4DFE-88F9-2D4446A18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071C3-1824-4712-BBA6-C016B6BE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C2B38-E6DF-4782-8F92-B5E58A3C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302E-FE68-4711-B9F0-027FA67B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A3CFB-EA4F-4C04-A6A6-BD9A22F7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DE584-DBC2-4C06-8C2F-E9EFC3F7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C8F41-A240-4B19-A580-10B41DC7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D8C11-68A2-4C8C-8897-4FEBBFC4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CB502-A7D7-45A8-804F-9EB54BE8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7BB09-942B-4524-B1F1-FA203608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D4A86-FE8B-4151-924E-3B3933F7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AD8EC-1A0F-42A1-B074-6156B1CA0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8CEC9-9497-4DC8-A778-2AE54E51D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4441-71B1-4A5D-B359-9DDAE949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FD83-0444-4AA6-AD01-902CB664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DE36-7CF1-44EC-9EB7-4167383A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A0CB-8A8D-45F4-805C-C91488A8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D368-F9FF-482D-989C-54F5D6B6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AAFD-004D-4F83-80A5-BDBFC563065F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85FA-4A64-4ABE-8D13-77B5C517C5E1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8B5A-5D8F-4344-86C0-8346C7CCD2DA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E302-FEC3-4B64-818F-A7DBD044AC43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122400" y="5151600"/>
            <a:ext cx="9435960" cy="2388960"/>
          </a:xfrm>
          <a:prstGeom prst="rect">
            <a:avLst/>
          </a:prstGeom>
          <a:ln w="0">
            <a:noFill/>
          </a:ln>
        </p:spPr>
      </p:pic>
      <p:pic>
        <p:nvPicPr>
          <p:cNvPr id="215" name="Объект 4" descr=""/>
          <p:cNvPicPr/>
          <p:nvPr/>
        </p:nvPicPr>
        <p:blipFill>
          <a:blip r:embed="rId2"/>
          <a:stretch/>
        </p:blipFill>
        <p:spPr>
          <a:xfrm>
            <a:off x="0" y="0"/>
            <a:ext cx="4476600" cy="3357720"/>
          </a:xfrm>
          <a:prstGeom prst="rect">
            <a:avLst/>
          </a:prstGeom>
          <a:ln w="0">
            <a:noFill/>
          </a:ln>
        </p:spPr>
      </p:pic>
      <p:pic>
        <p:nvPicPr>
          <p:cNvPr id="216" name="Объект 5" descr=""/>
          <p:cNvPicPr/>
          <p:nvPr/>
        </p:nvPicPr>
        <p:blipFill>
          <a:blip r:embed="rId3"/>
          <a:stretch/>
        </p:blipFill>
        <p:spPr>
          <a:xfrm>
            <a:off x="4500720" y="2060640"/>
            <a:ext cx="4497120" cy="33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Объект 4" descr=""/>
          <p:cNvPicPr/>
          <p:nvPr/>
        </p:nvPicPr>
        <p:blipFill>
          <a:blip r:embed="rId1"/>
          <a:stretch/>
        </p:blipFill>
        <p:spPr>
          <a:xfrm>
            <a:off x="-396720" y="-243000"/>
            <a:ext cx="5319720" cy="3989520"/>
          </a:xfrm>
          <a:prstGeom prst="rect">
            <a:avLst/>
          </a:prstGeom>
          <a:ln w="0">
            <a:noFill/>
          </a:ln>
        </p:spPr>
      </p:pic>
      <p:pic>
        <p:nvPicPr>
          <p:cNvPr id="218" name="Объект 5" descr=""/>
          <p:cNvPicPr/>
          <p:nvPr/>
        </p:nvPicPr>
        <p:blipFill>
          <a:blip r:embed="rId2"/>
          <a:stretch/>
        </p:blipFill>
        <p:spPr>
          <a:xfrm>
            <a:off x="3900600" y="2924280"/>
            <a:ext cx="52434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Объект 4" descr=""/>
          <p:cNvPicPr/>
          <p:nvPr/>
        </p:nvPicPr>
        <p:blipFill>
          <a:blip r:embed="rId1"/>
          <a:stretch/>
        </p:blipFill>
        <p:spPr>
          <a:xfrm>
            <a:off x="179280" y="-171360"/>
            <a:ext cx="5569200" cy="4176720"/>
          </a:xfrm>
          <a:prstGeom prst="rect">
            <a:avLst/>
          </a:prstGeom>
          <a:ln w="0">
            <a:noFill/>
          </a:ln>
        </p:spPr>
      </p:pic>
      <p:pic>
        <p:nvPicPr>
          <p:cNvPr id="220" name="Объект 5" descr=""/>
          <p:cNvPicPr/>
          <p:nvPr/>
        </p:nvPicPr>
        <p:blipFill>
          <a:blip r:embed="rId2"/>
          <a:stretch/>
        </p:blipFill>
        <p:spPr>
          <a:xfrm>
            <a:off x="4122720" y="3068640"/>
            <a:ext cx="502128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04:39:45Z</dcterms:created>
  <dc:creator>учитель</dc:creator>
  <dc:description/>
  <dc:language>en-US</dc:language>
  <cp:lastModifiedBy>dns</cp:lastModifiedBy>
  <dcterms:modified xsi:type="dcterms:W3CDTF">2019-12-22T10:24:48Z</dcterms:modified>
  <cp:revision>11</cp:revision>
  <dc:subject/>
  <dc:title>Презентация PowerPoint</dc:title>
</cp:coreProperties>
</file>