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9A2-961A-437D-9D1B-9D68A1C8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30B-57F4-45E5-B393-45584134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DF1-0866-47A1-A7A5-B268F1B9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EB7-FF1D-4FA7-AC34-5B3D5A8E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151-3241-4743-9088-7EFE66C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CC8-054E-4965-81DF-2670F398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043F-681B-4359-96BA-618840B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EE7-69CF-4AD0-9C98-0291B45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82A6-A247-48BE-B24D-32A4665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774-71FB-4E2D-AEFC-59C46331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196-468B-438F-AF1E-2C3237B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BFE-1F39-4359-AE90-ACC7E2D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123-4D50-4BB4-BFE2-4E8F228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A72C-4BF0-4198-981A-F4EC56F7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3A27-525A-466D-8311-DA91E78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8C78-585D-4A4D-B97A-13D110A7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B782-70A5-4F62-BEB3-22A515B3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B5C7-C234-4CB2-9A65-5B74909C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21E0-F2DF-49A2-A03D-7704388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D81D-4467-4BF5-BA98-06DE25F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5EA9-93D4-4D5A-ABFD-4DBC919D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416B-2813-45BB-816E-530BA613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D61-103B-4CC5-9A4E-07B78EF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50F8-8061-4A44-A515-0907201A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42D3-2E8A-4499-8220-8AEEBB5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20CF-23F8-4A39-BD08-B5A5AF8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55D2-412E-420B-9E54-2F94EC2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36D5-EC6F-4562-840D-2022E78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2C7A-6217-4991-9C81-52B64D9A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E3F0-1997-4817-AD4E-86222E20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F0CF-A51A-4853-8990-B1E340C8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EFBD-B470-48EF-94A4-8D1F46A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4AD4-392A-4CAE-9A4B-D461FBA5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9EE-4B14-4238-A8C2-7D5D40BA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01F3-C1CF-487A-91C6-BA12797F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DE90-5D83-472B-B6AC-BEBD13BB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1BDB-5368-4C0A-B91A-2934B64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5227-0DA0-4089-9273-EB42FFF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A0AA-A3A4-4649-9873-95B6D0F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00A6-0A52-4D76-B2A7-B1937B7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3565-97AC-45D9-B37C-D3BF21B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EA9A-C178-4D08-8281-F3BA3E18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82AA-8DA8-4C7F-98B6-F4A3409C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8CD-8CB1-450F-B140-387D9FC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06D-FB78-48D6-BCF0-68210A3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161-228B-459B-8D4D-14C2AA6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E02-D73F-4A92-A6D9-C29D6B3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C58-DA58-4FE6-9E05-C52486D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70DC-B894-4A5E-90C7-0CA6BFA3D62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11C-3442-4BD3-909E-0458A6D13C2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EA2-923D-4B80-964E-9B279246724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6E5-1127-40A7-B150-51BC8DF8D6E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-835200" y="4138560"/>
            <a:ext cx="6523200" cy="180504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4" descr=""/>
          <p:cNvPicPr/>
          <p:nvPr/>
        </p:nvPicPr>
        <p:blipFill>
          <a:blip r:embed="rId2"/>
          <a:stretch/>
        </p:blipFill>
        <p:spPr>
          <a:xfrm>
            <a:off x="23760" y="27000"/>
            <a:ext cx="5792760" cy="325764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5" descr=""/>
          <p:cNvPicPr/>
          <p:nvPr/>
        </p:nvPicPr>
        <p:blipFill>
          <a:blip r:embed="rId3"/>
          <a:stretch/>
        </p:blipFill>
        <p:spPr>
          <a:xfrm>
            <a:off x="5133960" y="1511280"/>
            <a:ext cx="40100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0" y="4680"/>
            <a:ext cx="4284720" cy="571176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5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6040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4:39:45Z</dcterms:created>
  <dc:creator>учитель</dc:creator>
  <dc:description/>
  <dc:language>en-US</dc:language>
  <cp:lastModifiedBy>dns</cp:lastModifiedBy>
  <dcterms:modified xsi:type="dcterms:W3CDTF">2019-12-22T10:25:08Z</dcterms:modified>
  <cp:revision>11</cp:revision>
  <dc:subject/>
  <dc:title>Презентация PowerPoint</dc:title>
</cp:coreProperties>
</file>