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46AD-1C75-4248-B7C7-321573AB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4629-8222-4D31-A795-8A4E703B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3EB2-1F8B-48EE-962F-39D611889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8B74-7BB2-4169-9177-B9672F31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123C-E919-490B-81F6-6E34B8A9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F70A-3697-452D-A6E3-974596DD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8814-BD27-44E1-8664-16849022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76E8-C343-4FBC-BBCB-4C6E0944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895B-D7B1-4B24-A692-1E36D225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F521-B76E-40A0-BA74-4AE4EF56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3B9F-406D-4BD4-848B-9841CC02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6617-9FD9-446F-A317-AA724F6E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81B8-771B-4AC8-824E-8A94E99BE6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Труд\картинки\шут.jpg"/>
          <p:cNvPicPr/>
          <p:nvPr/>
        </p:nvPicPr>
        <p:blipFill>
          <a:blip r:embed="rId1"/>
          <a:stretch/>
        </p:blipFill>
        <p:spPr>
          <a:xfrm>
            <a:off x="457200" y="380880"/>
            <a:ext cx="4648320" cy="619776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5562720" y="1066680"/>
            <a:ext cx="312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Шу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6183720" y="3048120"/>
            <a:ext cx="214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ред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6329520" y="4724280"/>
            <a:ext cx="197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садь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еод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E:\Труд\Копия img864.jpg"/>
          <p:cNvPicPr/>
          <p:nvPr/>
        </p:nvPicPr>
        <p:blipFill>
          <a:blip r:embed="rId1"/>
          <a:stretch/>
        </p:blipFill>
        <p:spPr>
          <a:xfrm>
            <a:off x="4332240" y="380880"/>
            <a:ext cx="4484880" cy="5715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14400" y="2286000"/>
            <a:ext cx="430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ранспарант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ырез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E:\Труд\картинки\Stanczyk_Matejko.jpg"/>
          <p:cNvPicPr/>
          <p:nvPr/>
        </p:nvPicPr>
        <p:blipFill>
          <a:blip r:embed="rId1"/>
          <a:stretch/>
        </p:blipFill>
        <p:spPr>
          <a:xfrm>
            <a:off x="533520" y="380880"/>
            <a:ext cx="8076960" cy="600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E:\Труд\картинки\Арлекин.jpg"/>
          <p:cNvPicPr/>
          <p:nvPr/>
        </p:nvPicPr>
        <p:blipFill>
          <a:blip r:embed="rId1"/>
          <a:stretch/>
        </p:blipFill>
        <p:spPr>
          <a:xfrm>
            <a:off x="5334120" y="152280"/>
            <a:ext cx="3589200" cy="639936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4680" y="1371600"/>
            <a:ext cx="520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Полишинел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1459800" y="3733920"/>
            <a:ext cx="266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ран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E:\Труд\картинки\арлекин-1.jpg"/>
          <p:cNvPicPr/>
          <p:nvPr/>
        </p:nvPicPr>
        <p:blipFill>
          <a:blip r:embed="rId1"/>
          <a:stretch/>
        </p:blipFill>
        <p:spPr>
          <a:xfrm>
            <a:off x="1371600" y="228600"/>
            <a:ext cx="6667560" cy="5000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540000" y="5334120"/>
            <a:ext cx="387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Арлекин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4521600" y="5943600"/>
            <a:ext cx="443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Испания, Итал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E:\Труд\картинки\1000023869.jpg"/>
          <p:cNvPicPr/>
          <p:nvPr/>
        </p:nvPicPr>
        <p:blipFill>
          <a:blip r:embed="rId1"/>
          <a:stretch/>
        </p:blipFill>
        <p:spPr>
          <a:xfrm>
            <a:off x="3352680" y="1219320"/>
            <a:ext cx="4343400" cy="5341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E:\Труд\картинки\petrushka.jpg"/>
          <p:cNvPicPr/>
          <p:nvPr/>
        </p:nvPicPr>
        <p:blipFill>
          <a:blip r:embed="rId2"/>
          <a:stretch/>
        </p:blipFill>
        <p:spPr>
          <a:xfrm>
            <a:off x="609480" y="380880"/>
            <a:ext cx="2819520" cy="351792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3591360" y="228600"/>
            <a:ext cx="38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Петруш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457200" y="4876920"/>
            <a:ext cx="218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ос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E:\Труд\картинки\skomoroh2_s.jpg"/>
          <p:cNvPicPr/>
          <p:nvPr/>
        </p:nvPicPr>
        <p:blipFill>
          <a:blip r:embed="rId1"/>
          <a:stretch/>
        </p:blipFill>
        <p:spPr>
          <a:xfrm>
            <a:off x="4800600" y="304920"/>
            <a:ext cx="3962520" cy="604332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0" y="114300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Скоморо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773640" y="2590920"/>
            <a:ext cx="30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арод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улян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и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E:\Труд\картинки\k2.jpg"/>
          <p:cNvPicPr/>
          <p:nvPr/>
        </p:nvPicPr>
        <p:blipFill>
          <a:blip r:embed="rId1"/>
          <a:stretch/>
        </p:blipFill>
        <p:spPr>
          <a:xfrm>
            <a:off x="3962520" y="1066680"/>
            <a:ext cx="4114800" cy="5500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E:\Труд\картинки\1227795378_petrushka1.jpg"/>
          <p:cNvPicPr/>
          <p:nvPr/>
        </p:nvPicPr>
        <p:blipFill>
          <a:blip r:embed="rId2"/>
          <a:stretch/>
        </p:blipFill>
        <p:spPr>
          <a:xfrm>
            <a:off x="1143000" y="228600"/>
            <a:ext cx="3200400" cy="449748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5185080" y="0"/>
            <a:ext cx="247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Клоу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1302840" y="5257800"/>
            <a:ext cx="155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Цир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:\Труд\картинки\3468.jpg"/>
          <p:cNvPicPr/>
          <p:nvPr/>
        </p:nvPicPr>
        <p:blipFill>
          <a:blip r:embed="rId1"/>
          <a:stretch/>
        </p:blipFill>
        <p:spPr>
          <a:xfrm>
            <a:off x="4722840" y="152280"/>
            <a:ext cx="3678120" cy="6324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E:\Труд\картинки\untitled.bmp"/>
          <p:cNvPicPr/>
          <p:nvPr/>
        </p:nvPicPr>
        <p:blipFill>
          <a:blip r:embed="rId2"/>
          <a:stretch/>
        </p:blipFill>
        <p:spPr>
          <a:xfrm>
            <a:off x="838080" y="2335320"/>
            <a:ext cx="3162600" cy="422748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1233720" y="762120"/>
            <a:ext cx="2549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Пьер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313560" y="1752480"/>
            <a:ext cx="16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еа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НАДЯ\Desktop\0302173.jpg"/>
          <p:cNvPicPr/>
          <p:nvPr/>
        </p:nvPicPr>
        <p:blipFill>
          <a:blip r:embed="rId1"/>
          <a:srcRect l="7327" t="8826" r="23329" b="7353"/>
          <a:stretch/>
        </p:blipFill>
        <p:spPr>
          <a:xfrm>
            <a:off x="0" y="152280"/>
            <a:ext cx="8991720" cy="61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ДЯ</cp:lastModifiedBy>
  <dcterms:modified xsi:type="dcterms:W3CDTF">2018-11-30T06:07:43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