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3549-B43C-4B0B-96D2-E74D2C54C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B2F7-5E31-4590-B67E-3CB1C5867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5110-46F1-427D-B46B-AD7F0297E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B57E-CC72-4A0E-9186-88C8336A3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96C96-DDE4-4A38-A790-567C857AE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7E7EA-B465-464D-8290-4B7BFA2A4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E6AEF-B831-40C2-80A6-B164A2742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A69A3-B76B-4975-AE5F-129CD77C9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B45C2-234C-44E6-A059-2878D3576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5FB32-85A1-4261-946B-7E5165BC4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E76FE-DF76-4ECB-9E52-331EFD10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3EF5-836A-4C6B-9EE8-9D8885102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DE333-3049-4DB5-BE6D-BFAD99F6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D29FF-B6FD-498E-933B-829D3402C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10B80-2963-4832-BEF9-7684678F3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36EA1-3985-474D-93FC-77E64EF16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CD33C-BD3B-497F-A99D-98F5ECF43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035C2-5770-4B7F-B504-273B67DB8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75E3F-CFC7-4087-834F-87A7FE03A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B0415-7EF8-46D2-8003-766741171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6860B-76AE-4118-AEB6-0B200AA07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7E1BE-3337-480C-979A-8F4F0E8BC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B5DD-2A60-491C-81BC-D6636495B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3C0C8-9AAD-4E21-BDEC-EDC3A79BE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430DC-3B51-4F1A-AD3A-A35B5263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05551-9367-4F38-8386-E28D04F2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ACB84-F665-49D6-9EE1-2AF28214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8FF44-C05C-4A57-899C-384C96E6F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17A83-3C47-48A6-910D-227C0C1C1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DBC53-8ACB-4E2A-8B0A-84847A4F3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44ECB-87A5-4994-85E4-62C5AAFFC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1B9A5-BB13-41CF-B1EA-8D66D962B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23C2F-5C41-4107-B9B1-3DAB016E4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1209-2695-4CF5-AC71-7F2C6A677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E587E-3CE1-4DFB-8146-070385883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DDB62-4CF9-4A0F-BF11-6489B13C4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1C6DC-4C9A-4215-8A60-2B6D897A7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8D102-03E1-4EA8-8BF6-FB56C6C40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AFC33-5B05-4667-82CF-A4B6B1ED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C7CB8-CA30-474F-8A4F-9CD46192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53E73-8EFA-4D13-ACA7-5511CB328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DD9EC-33D8-4749-AAB1-6CBFD0E1F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3E805-9E04-4928-B69B-7A71B3C21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5C291E-09C5-4530-8C31-47B2E6005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8AD5-5BD3-4FD5-91FA-D3EE55F6A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015EE-427A-43A6-91B7-5DDD96F26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B30C8-B5A0-47E4-A130-B35A3DBAC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23C9D-B53E-4E27-B6F7-370E002BC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4E8DDC-A0C5-4D18-907C-E72F8C335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A18B6-9D0B-466F-A5CB-34479CDEC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F30326-318F-4903-BE01-92B6955FE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5C7003-696E-4AB5-A651-3F9C1FFA9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00B403-77DE-4447-B65C-C220F194F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93AD86-8E0A-4DCA-8B2D-69394A182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06B82A-161F-4228-9D35-E8707C6FE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D0F2-A08B-4EA9-99C4-03694E2EB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E0264-B27A-4033-9430-38CAC4BC3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8BD1-BD47-4524-B7B3-D1411E53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35DE-F035-4F8C-9DB6-720A7274B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91FF-AF20-4507-BFFC-681667ACD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D6044-9399-43F8-AC07-C02D7D071FA3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58479-6A82-44AB-A815-4B93E0FC48C5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33DCA-C3C5-4FB0-9928-649B6C6A68F7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CE20E-1DAA-4702-8DBC-F0AD126E193F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84E04-E17E-4E7D-8FD0-A17F80B01EA6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680" y="1428840"/>
            <a:ext cx="8215200" cy="164304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Трудности 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«трудного» ребенка</a:t>
            </a:r>
            <a:endParaRPr b="0" lang="en-US" sz="48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56800" y="285840"/>
            <a:ext cx="7643880" cy="1071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принципы конструктивного взаимодействия 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214200" y="1642680"/>
            <a:ext cx="8715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575"/>
              </a:spcBef>
              <a:buClr>
                <a:srgbClr val="4f81bd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Научитесь акцентировать внимание на поступках (поведении), а не на личности ученика.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buClr>
                <a:srgbClr val="4f81bd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Займитесь своими негативными эмоциями.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buClr>
                <a:srgbClr val="4f81bd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Обсудите проступок позже.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buClr>
                <a:srgbClr val="4f81bd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Позвольте ученику "сохранить лицо".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buClr>
                <a:srgbClr val="4f81bd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Демонстрируйте модели неагрессивного поведения.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buClr>
                <a:srgbClr val="4f81bd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33"/>
                </a:solidFill>
                <a:latin typeface="Calibri"/>
              </a:rPr>
              <a:t>Золотые правила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285480" y="856800"/>
            <a:ext cx="864396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Arial"/>
              </a:rPr>
              <a:t>если ребенка критикуют, он учиться осуждать;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Arial"/>
              </a:rPr>
              <a:t>если ребенка высмеивают, он учиться быть робким;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Arial"/>
              </a:rPr>
              <a:t>если ребенка хвалят, он учится оценивать;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Arial"/>
              </a:rPr>
              <a:t>если ребенка часто позорят, он учится чувствовать себя виноватым;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Arial"/>
              </a:rPr>
              <a:t>если ребенка часто одобряют, он учиться хорошо к себе относиться;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Arial"/>
              </a:rPr>
              <a:t>если ребенка часто подбадривают, он учится уверенности в себе;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Arial"/>
              </a:rPr>
              <a:t>если к ребенку часто бывают снисходительны, он учится быть терпеливым;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Arial"/>
              </a:rPr>
              <a:t>если ребенку часто демонстрируют враждебность, он учится драться;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Arial"/>
              </a:rPr>
              <a:t>если ребенок живет в атмосфере дружбы, он чувствует себя нужным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43960" cy="8571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b050"/>
                </a:solidFill>
                <a:latin typeface="Calibri"/>
              </a:rPr>
              <a:t>ДЕТИ ПЛОХО ВЕДУТ СЕБЯ, </a:t>
            </a:r>
            <a:br>
              <a:rPr sz="2900"/>
            </a:br>
            <a:r>
              <a:rPr b="1" lang="ru-RU" sz="2900" spc="-1" strike="noStrike">
                <a:solidFill>
                  <a:srgbClr val="00b050"/>
                </a:solidFill>
                <a:latin typeface="Calibri"/>
              </a:rPr>
              <a:t>ПОТОМУ ЧТО</a:t>
            </a:r>
            <a:endParaRPr b="0" lang="en-US" sz="29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213840" y="1143000"/>
            <a:ext cx="4281480" cy="550080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Book Antiqua"/>
              </a:rPr>
              <a:t>они просто хотят внимания,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Book Antiqua"/>
              </a:rPr>
              <a:t>они упрямы,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Book Antiqua"/>
              </a:rPr>
              <a:t>они избалованы,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Book Antiqua"/>
              </a:rPr>
              <a:t>они эгоистичны,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Book Antiqua"/>
              </a:rPr>
              <a:t>они несобранны,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Book Antiqua"/>
              </a:rPr>
              <a:t>они похожи на своих родителей, у них плохая наследственность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mbria"/>
              </a:rPr>
              <a:t>ПОЭТОМУ, ЕСЛИ РЕБЕНОК ПЛОХО СЕБЯ ВЕДЕТ – ЭТО ПЛОХОЙ РЕБЕНОК!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1640" y="1143000"/>
            <a:ext cx="4357800" cy="550080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они хотят чувствовать себя сильными, значимыми,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они хотят исследовать окружающий мир и экспериментировать.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c00000"/>
                </a:solidFill>
                <a:latin typeface="Cambria"/>
              </a:rPr>
              <a:t>ПОЭТОМУ РЕБЕНОК, У КОТОРОГО НЕУДОВЛЕТВОРЕНА КАКАЯ-ТО ПОТРЕБНОСТЬ СВОИМ ПОВЕДЕНИЕМ СООБЩАЕТ НАМ ОБ ЭТОМ.</a:t>
            </a:r>
            <a:endParaRPr b="0" lang="en-US" sz="21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2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2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6000"/>
                            </p:stCondLst>
                            <p:childTnLst>
                              <p:par>
                                <p:cTn id="2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8000"/>
                            </p:stCondLst>
                            <p:childTnLst>
                              <p:par>
                                <p:cTn id="2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20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20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4000"/>
                            </p:stCondLst>
                            <p:childTnLst>
                              <p:par>
                                <p:cTn id="2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2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2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2000" fill="hold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2000" fill="hold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285840" y="3071520"/>
            <a:ext cx="8400960" cy="29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504d"/>
                </a:solidFill>
                <a:latin typeface="Cambria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4200" y="0"/>
            <a:ext cx="8715600" cy="5716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Calibri"/>
              </a:rPr>
              <a:t>«Трудный учащийся – это…»</a:t>
            </a:r>
            <a:r>
              <a:rPr b="1" i="1" lang="ru-RU" sz="3200" spc="-1" strike="noStrike">
                <a:solidFill>
                  <a:srgbClr val="e46c0a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e46c0a"/>
                </a:solidFill>
                <a:latin typeface="Calibri"/>
              </a:rPr>
              <a:t>(</a:t>
            </a:r>
            <a:r>
              <a:rPr b="0" i="1" lang="ru-RU" sz="2800" spc="-1" strike="noStrike">
                <a:solidFill>
                  <a:srgbClr val="e46c0a"/>
                </a:solidFill>
                <a:latin typeface="Calibri"/>
              </a:rPr>
              <a:t>мнение учащихся)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357720" y="642960"/>
            <a:ext cx="557208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omic Sans MS"/>
                <a:ea typeface="Arial"/>
              </a:rPr>
              <a:t>Человек, которому сейчас тяжело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omic Sans MS"/>
                <a:ea typeface="Arial"/>
              </a:rPr>
              <a:t>Нет мотивации к изменению себя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omic Sans MS"/>
                <a:ea typeface="Arial"/>
              </a:rPr>
              <a:t>Недооценивают учителя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omic Sans MS"/>
                <a:ea typeface="Arial"/>
              </a:rPr>
              <a:t>Нервный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omic Sans MS"/>
                <a:ea typeface="Arial"/>
              </a:rPr>
              <a:t>Нет учебной мотивации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omic Sans MS"/>
                <a:ea typeface="Arial"/>
              </a:rPr>
              <a:t>Проблемы с учебой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omic Sans MS"/>
                <a:ea typeface="Arial"/>
              </a:rPr>
              <a:t>Хочет привлечь внимание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omic Sans MS"/>
                <a:ea typeface="Arial"/>
              </a:rPr>
              <a:t>Не умеет контролировать себя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omic Sans MS"/>
                <a:ea typeface="Arial"/>
              </a:rPr>
              <a:t>Проблемы внутри себя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omic Sans MS"/>
                <a:ea typeface="Arial"/>
              </a:rPr>
              <a:t>Озлобленный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omic Sans MS"/>
                <a:ea typeface="Arial"/>
              </a:rPr>
              <a:t>Тихий, необщительный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omic Sans MS"/>
                <a:ea typeface="Arial"/>
              </a:rPr>
              <a:t>Нарушитель дисциплины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omic Sans MS"/>
                <a:ea typeface="Arial"/>
              </a:rPr>
              <a:t>Курильщик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omic Sans MS"/>
                <a:ea typeface="Arial"/>
              </a:rPr>
              <a:t>Агрессивный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omic Sans MS"/>
                <a:ea typeface="Arial"/>
              </a:rPr>
              <a:t>Не ответственный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omic Sans MS"/>
                <a:ea typeface="Arial"/>
              </a:rPr>
              <a:t>Нехватка любви родителей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omic Sans MS"/>
                <a:ea typeface="Arial"/>
              </a:rPr>
              <a:t>Особые черты характера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omic Sans MS"/>
                <a:ea typeface="Arial"/>
              </a:rPr>
              <a:t>Самоуверенный, бездушный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omic Sans MS"/>
                <a:ea typeface="Arial"/>
              </a:rPr>
              <a:t>«Трудных» нет, есть трудные ситуации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31" name="Рисунок 3" descr="10.htm18.jpg"/>
          <p:cNvPicPr/>
          <p:nvPr/>
        </p:nvPicPr>
        <p:blipFill>
          <a:blip r:embed="rId1"/>
          <a:stretch/>
        </p:blipFill>
        <p:spPr>
          <a:xfrm>
            <a:off x="214200" y="2714760"/>
            <a:ext cx="3016440" cy="39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400960" cy="7142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Трудности «трудного ребенка»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0" y="642960"/>
            <a:ext cx="91440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17375e"/>
                </a:solidFill>
                <a:latin typeface="Arial Black"/>
              </a:rPr>
              <a:t>Вызывающее поведение и вседозволенность, стремление избежать требований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17375e"/>
                </a:solidFill>
                <a:latin typeface="Arial Black"/>
              </a:rPr>
              <a:t>Отсутствие волевого контроля, способности к самообладанию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17375e"/>
                </a:solidFill>
                <a:latin typeface="Arial Black"/>
              </a:rPr>
              <a:t>Лживость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17375e"/>
                </a:solidFill>
                <a:latin typeface="Arial Black"/>
              </a:rPr>
              <a:t>Обидчивость, агрессивность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17375e"/>
                </a:solidFill>
                <a:latin typeface="Arial Black"/>
              </a:rPr>
              <a:t>Тревожность и низкая самооценка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17375e"/>
                </a:solidFill>
                <a:latin typeface="Arial Black"/>
              </a:rPr>
              <a:t>Нарушение взаимопонимания с родителями, педагогами, другими взрослыми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17375e"/>
                </a:solidFill>
                <a:latin typeface="Arial Black"/>
              </a:rPr>
              <a:t>Проблемные взаимоотношения со сверстниками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17375e"/>
                </a:solidFill>
                <a:latin typeface="Arial Black"/>
              </a:rPr>
              <a:t>Трудности в обучении, неуспеваемость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17375e"/>
                </a:solidFill>
                <a:latin typeface="Arial Black"/>
              </a:rPr>
              <a:t>Невыполнение домашних заданий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17375e"/>
                </a:solidFill>
                <a:latin typeface="Arial Black"/>
              </a:rPr>
              <a:t>Трудности в формировании жизненных ориентиров, ценностей, идеалов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17375e"/>
                </a:solidFill>
                <a:latin typeface="Arial Black"/>
              </a:rPr>
              <a:t>Отсутствие позитивных жизненных целей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push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Содержимое 5" descr=""/>
          <p:cNvPicPr/>
          <p:nvPr/>
        </p:nvPicPr>
        <p:blipFill>
          <a:blip r:embed="rId1"/>
          <a:stretch/>
        </p:blipFill>
        <p:spPr>
          <a:xfrm>
            <a:off x="281160" y="208080"/>
            <a:ext cx="8375400" cy="63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Привлечение внимания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79280" y="714240"/>
          <a:ext cx="8607600" cy="5943600"/>
        </p:xfrm>
        <a:graphic>
          <a:graphicData uri="http://schemas.openxmlformats.org/drawingml/2006/table">
            <a:tbl>
              <a:tblPr/>
              <a:tblGrid>
                <a:gridCol w="2535480"/>
                <a:gridCol w="6072120"/>
              </a:tblGrid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Arial Narrow"/>
                          <a:ea typeface="Times New Roman"/>
                        </a:rPr>
                        <a:t>Социальные причи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Эмоциональная холодность родителей, внимание уделяется плохому, а не хорошему поведению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Arial Narrow"/>
                          <a:ea typeface="Times New Roman"/>
                        </a:rPr>
                        <a:t>Сущность повед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Получать особое вниман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Arial Narrow"/>
                          <a:ea typeface="Times New Roman"/>
                        </a:rPr>
                        <a:t>Сильные стороны повед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Потребность в контакте с учителем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Arial Narrow"/>
                          <a:ea typeface="Times New Roman"/>
                        </a:rPr>
                        <a:t>Реакция учителя: эмо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Раздражение, негодован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Arial Narrow"/>
                          <a:ea typeface="Times New Roman"/>
                        </a:rPr>
                        <a:t>Реакция учителя: импуль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Сделать замечан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Arial Narrow"/>
                          <a:ea typeface="Times New Roman"/>
                        </a:rPr>
                        <a:t>Реакция учен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Временно прекращае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Arial Narrow"/>
                          <a:ea typeface="Times New Roman"/>
                        </a:rPr>
                        <a:t>Способы предотвращ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Учить детей привлекать к себе внимание приемлемыми способами; оказывать внимание за хорошее поведен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Власть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79280" y="571680"/>
          <a:ext cx="8678880" cy="6189480"/>
        </p:xfrm>
        <a:graphic>
          <a:graphicData uri="http://schemas.openxmlformats.org/drawingml/2006/table">
            <a:tbl>
              <a:tblPr/>
              <a:tblGrid>
                <a:gridCol w="2535480"/>
                <a:gridCol w="61434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03152"/>
                          </a:solidFill>
                          <a:latin typeface="Arial Narrow"/>
                          <a:ea typeface="Times New Roman"/>
                        </a:rPr>
                        <a:t>Социальные причи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Мода на сильную личность, отсутствие примеров конструктивного подчинения в окружении ребен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03152"/>
                          </a:solidFill>
                          <a:latin typeface="Arial Narrow"/>
                          <a:ea typeface="Times New Roman"/>
                        </a:rPr>
                        <a:t>Сущность повед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«Ты мне ничего не сделаешь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03152"/>
                          </a:solidFill>
                          <a:latin typeface="Arial Narrow"/>
                          <a:ea typeface="Times New Roman"/>
                        </a:rPr>
                        <a:t>Сильные стороны повед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Смелость, сопротивление влияния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03152"/>
                          </a:solidFill>
                          <a:latin typeface="Arial Narrow"/>
                          <a:ea typeface="Times New Roman"/>
                        </a:rPr>
                        <a:t>Реакция учителя: эмо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Гнев, негодование, может быть стра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03152"/>
                          </a:solidFill>
                          <a:latin typeface="Arial Narrow"/>
                          <a:ea typeface="Times New Roman"/>
                        </a:rPr>
                        <a:t>Реакция учителя: импуль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Прекратить выходку с помощью физического действ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03152"/>
                          </a:solidFill>
                          <a:latin typeface="Arial Narrow"/>
                          <a:ea typeface="Times New Roman"/>
                        </a:rPr>
                        <a:t>Реакция учен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Прекращает выходку, когда сам реши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03152"/>
                          </a:solidFill>
                          <a:latin typeface="Arial Narrow"/>
                          <a:ea typeface="Times New Roman"/>
                        </a:rPr>
                        <a:t>Способы предотвращ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Уходить от конфронтации; отдавать часть своих организационных функц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Месть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179280" y="785880"/>
          <a:ext cx="8750520" cy="5857920"/>
        </p:xfrm>
        <a:graphic>
          <a:graphicData uri="http://schemas.openxmlformats.org/drawingml/2006/table">
            <a:tbl>
              <a:tblPr/>
              <a:tblGrid>
                <a:gridCol w="2578320"/>
                <a:gridCol w="6172200"/>
              </a:tblGrid>
              <a:tr h="83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03152"/>
                          </a:solidFill>
                          <a:latin typeface="Arial Narrow"/>
                          <a:ea typeface="Times New Roman"/>
                        </a:rPr>
                        <a:t>Социальные причи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Рост насилия в обществ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03152"/>
                          </a:solidFill>
                          <a:latin typeface="Arial Narrow"/>
                          <a:ea typeface="Times New Roman"/>
                        </a:rPr>
                        <a:t>Сущность повед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Вредить в ответ на обид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03152"/>
                          </a:solidFill>
                          <a:latin typeface="Arial Narrow"/>
                          <a:ea typeface="Times New Roman"/>
                        </a:rPr>
                        <a:t>Сильные стороны повед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Способность защищать себя от боли и оби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03152"/>
                          </a:solidFill>
                          <a:latin typeface="Arial Narrow"/>
                          <a:ea typeface="Times New Roman"/>
                        </a:rPr>
                        <a:t>Реакция учителя: эмо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Обида, боль, опустошение в дополнение к негодованию и страх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03152"/>
                          </a:solidFill>
                          <a:latin typeface="Arial Narrow"/>
                          <a:ea typeface="Times New Roman"/>
                        </a:rPr>
                        <a:t>Реакция учителя: импуль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Немедленно ответить силой или уйти из ситуа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03152"/>
                          </a:solidFill>
                          <a:latin typeface="Arial Narrow"/>
                          <a:ea typeface="Times New Roman"/>
                        </a:rPr>
                        <a:t>Реакция учен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Прекращает выходку, когда сам реши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03152"/>
                          </a:solidFill>
                          <a:latin typeface="Arial Narrow"/>
                          <a:ea typeface="Times New Roman"/>
                        </a:rPr>
                        <a:t>Способы предотвращ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Строить отношения с учеником по принципу заботы о не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Избегание неудачи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179280" y="785880"/>
          <a:ext cx="8750520" cy="6048360"/>
        </p:xfrm>
        <a:graphic>
          <a:graphicData uri="http://schemas.openxmlformats.org/drawingml/2006/table">
            <a:tbl>
              <a:tblPr/>
              <a:tblGrid>
                <a:gridCol w="2535480"/>
                <a:gridCol w="62150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03152"/>
                          </a:solidFill>
                          <a:latin typeface="Arial Narrow"/>
                          <a:ea typeface="Times New Roman"/>
                        </a:rPr>
                        <a:t>Социальные причи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Слишком высокие требования родителей и учителе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03152"/>
                          </a:solidFill>
                          <a:latin typeface="Arial Narrow"/>
                          <a:ea typeface="Times New Roman"/>
                        </a:rPr>
                        <a:t>Сущность повед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«Не буду и пробовать, все равно не получится»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03152"/>
                          </a:solidFill>
                          <a:latin typeface="Arial Narrow"/>
                          <a:ea typeface="Times New Roman"/>
                        </a:rPr>
                        <a:t>Сильные стороны повед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Не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03152"/>
                          </a:solidFill>
                          <a:latin typeface="Arial Narrow"/>
                          <a:ea typeface="Times New Roman"/>
                        </a:rPr>
                        <a:t>Реакция учителя: эмо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Профессиональная беспомощност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03152"/>
                          </a:solidFill>
                          <a:latin typeface="Arial Narrow"/>
                          <a:ea typeface="Times New Roman"/>
                        </a:rPr>
                        <a:t>Реакция учителя: импуль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Оправдаться и объяснить неудачу с помощью специалист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03152"/>
                          </a:solidFill>
                          <a:latin typeface="Arial Narrow"/>
                          <a:ea typeface="Times New Roman"/>
                        </a:rPr>
                        <a:t>Реакция учен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Попадает в зависимость от учителя; продолжает ничего не делат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03152"/>
                          </a:solidFill>
                          <a:latin typeface="Arial Narrow"/>
                          <a:ea typeface="Times New Roman"/>
                        </a:rPr>
                        <a:t>Способы предотвращ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Поддержка ученика, чтобы его установка «Я не могу» сменилась </a:t>
                      </a:r>
                      <a:br>
                        <a:rPr sz="2200"/>
                      </a:b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на установку «Я могу»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Calibri"/>
              </a:rPr>
              <a:t>Помощь детям с отклоняющимся, трудным поведением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213840" y="1500120"/>
            <a:ext cx="89298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изучение социального окружения ребенка и проведение социально-психологической работы с ключевыми фигурами из значимого ближайшего окружения (с родителями, друзьями)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корректировка тех ценностей, поведения, черт характера, эмоций, которые нарушают адекватную самореализацию и социальную адаптацию ребенка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создание оптимальной модели взаимодействия с ребенком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push dir="r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5T04:26:57Z</dcterms:created>
  <dc:creator>dok</dc:creator>
  <dc:description/>
  <dc:language>en-US</dc:language>
  <cp:lastModifiedBy>учитель</cp:lastModifiedBy>
  <dcterms:modified xsi:type="dcterms:W3CDTF">2014-11-13T13:32:32Z</dcterms:modified>
  <cp:revision>30</cp:revision>
  <dc:subject/>
  <dc:title>Мотивы плохого поведения учащихся</dc:title>
</cp:coreProperties>
</file>