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72D-2FD2-47CF-9710-49ABBAA7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033-C020-42A8-96DD-E65F625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1F36E-815F-417F-A2F0-A8F5EDA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221C2-C55E-4EBE-878B-59C1811E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92073D-1A89-4D52-8268-453ABFED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8876E-E7AD-4364-AC78-DC26182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12422-D6E1-44AF-A71C-CDEC2C2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CB9AEB-4BBE-42F5-A0E7-15A2EC88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6DB388-CCC0-4620-841B-849E18D9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241471-2298-4606-B955-EDD2EC1F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53B83-E904-440E-B2DB-2B35DC64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4FB2C-C2E9-40A3-800E-CFA78832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E8D-1CF1-4C17-9D0F-561F0A3F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F415B-D818-4CB1-8447-2ED3192B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71F19-E8E9-48B4-AA58-D8F813C1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F3941-89FE-4339-97C4-F3C35524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EE425-6D2D-4D2C-91D7-600EF7E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4B061-FE83-46D6-82A4-7CAF293A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B70AB-4E5E-4210-AD8C-F6D0232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1C62D-4F03-469A-BE8D-D7909690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441F9-9BAB-427D-AD15-1C483436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B8F37-7BE1-48DC-BB45-27CB3BD7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8BDD6-34C1-4017-AB76-2A6FA36F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31A-84A0-401E-A5D4-77E455E6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E3DAD-A326-4BB5-8B69-40CBE2EC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038D21-299C-491C-B45C-341A070C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47BA60-F548-4A3B-8E31-7AEA869D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B5065A-5469-43D1-A184-D90B9443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BD425E-C490-44B8-9E28-8C1999B5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2859F7-35AC-4384-B715-B07AC0DD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4506A1-7BC6-4378-9037-7510860B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63D3C6-578B-4E63-80BD-51F59F1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BB3054-8CBF-4D55-BECF-6BB60B4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346D71-D311-400B-AD23-737BC954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25E0-8A8C-451A-AE6A-A28D479A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80E3C2-5F09-4AB7-A1C1-FE2C0563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FBF443-B729-4F76-B537-D1820D4D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E8865B-7A3A-48BC-983B-06B9656F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1489-5B04-4673-A7CF-B8900C93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71D5-50BC-495C-B489-766A8599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FF6C-AB36-4E30-B837-EAA9AE29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22E2-83E2-4393-8114-DEE0776E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B44B-DC74-4D55-B787-C0814CDC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C544-D7E9-4270-B950-0EE45B7F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085-72D2-4AD6-A8BD-CF26B1D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BA01-A17A-4CE6-9DBA-B62D793A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0A96-8879-4B73-A201-DDCDF25C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C9F2-364B-4F3D-994A-EB76A45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0134-A034-459D-8CFB-629A6A8C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9B7C-82A4-4551-8B6A-0797F96E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82A4-D423-479D-AE9A-C17D8693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5D1C-DA7B-449F-95FF-DF406D8F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46CF-24CE-4156-B414-461345F0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29C2-005A-4BF6-975F-3DC2803C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AAF7-7975-46F2-AF4B-683B9550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8C3-9EA0-453A-B086-50AA96D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31A5-4C8B-4FCF-BC56-9182FA35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1AA1-D0D2-4794-9C70-4B9109E7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0B36-700B-4574-98C6-79E6BDB3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EE52-CE12-4706-AD55-19E6841B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170A-EF21-4AD1-9291-49442C87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D8A2-598E-4CE9-AD38-E5BCF0EA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5ED8-5671-43A1-90A6-8FC3E394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8F5A6-39B0-48FD-8DA8-722F437F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FA4EB-1245-4287-BAF8-718C9737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2FF2C-14B6-4D9B-B6F3-945A9710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158-C501-4F83-A55B-424AE774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5BA4C-9C83-4DE0-BF84-07652CB1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6478FA-904A-497C-8649-B69648F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18528-8DDD-4DD7-9275-A757BB69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728AB-6882-46FF-BEEC-83C358AF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F1416-091B-48CA-93F7-EF2F34C7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59B8B-CE32-4036-AE38-3E370D49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A0313-4349-4377-965D-59155EA1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41673-A0D6-4087-A33A-2211E54C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DDECA-682C-4CCA-95C5-FDE60E50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83495-A513-4B78-AA0D-1627257C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66D-2550-488E-994C-18E9965E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5AD3E-376C-4E42-8DED-692ECEEE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7CB6F-E2EC-403E-B9FF-94A5909B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1492C-7350-4CA2-B5F9-3A5963A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29CA9-0284-40F9-AE4C-C11440F1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C1CB9-9DAD-4FA5-B06A-01ED1003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CA9B8-527C-416F-9445-FCEB942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AFFE4-1AB3-4CA2-8498-DA04809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84B74-31A2-4332-A8A3-C0D7AF9F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A7A30-8265-49D2-BBC7-B6DA5382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E90E-6873-49F2-A3CA-B6662240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7FF-7E8D-4FC5-A80B-7FCDF3E7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AA36D-B1B0-413A-9122-33EF4B1D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7F870-757B-4E32-80AD-0292732F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A4C28-4FB7-4D35-B6C6-594F07D8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4E1E-8AC3-4B72-B296-3BD06A1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EF0C6-E952-4F16-BF22-B6D6BB6F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0B868-19A0-4AEC-A5B2-E0590D4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9005-DB9D-491D-83EB-8E3168ED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12C21-22FA-4F7C-84B6-3A853D41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AAD5C-2822-4C26-B185-03239F08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9573D-1ECD-48F8-B1F1-804786F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20B-45F1-4708-90ED-56E81C3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3DBB2-EBB7-4CA6-BC26-B31E2245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13D6-B6EC-4232-8514-BA1BED27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F9D4-9CCD-4D5C-8EC4-E2BDE7E9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BAF5A-31E1-4C99-8C85-5E793C71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3D31D-D10C-4DFF-A03A-F928F0BD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F084B-A2D7-4C77-8DE2-78E65D4B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2FCE-0E0E-491B-9D49-920EE96F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62C48-5C39-47A1-A562-36FB3703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9402E-2A57-4672-99C2-FC49D5DD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FE38-11A2-40C6-A9C1-E1772411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86F-3F82-4F70-B127-64A64E7B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F8DA-FBA5-47E5-8768-C886F80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A2406-E0D5-459D-B98E-CAA4151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B740F-DE64-40F9-9CF0-BB658AF5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90B93-B229-408D-B1F7-3B010C23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87F8C-1D5C-48CE-85D5-8D9C4E2E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38CF0-02FA-413D-A5DC-A1F5ABE5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9F227-100F-4BF3-B760-7DFA76D2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04381-87AE-4BEB-927E-DBAB3ADF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131DC-A2D9-4DC1-A10A-44808A47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5F4A9-3D0E-4E9E-98C6-3F25686A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95B-1AD1-4EC9-87D7-91F61E8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F4C35-F4FB-4791-9899-BFC4DC61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756FB-B5B7-491B-B074-C0C45EA7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72873-FAFA-4728-8872-7237244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F76C1-510E-4E4D-9BDA-87A9CCED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2B5FE-B798-4BEC-9D63-80FDE5F4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4FB4C-3363-45C7-BDAE-00087A08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81E9B-DBCB-4398-8EC0-2FE796D3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3B5920-648B-4FAC-B16A-F64086DF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EBC8B-0850-4D4E-9B4A-62DE75D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22B286-3C81-4FDD-ADD2-F9F17E16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4A29-BB09-4CE6-A07A-CAE681887BD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81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8"/>
            <p:cNvSpPr/>
            <p:nvPr/>
          </p:nvSpPr>
          <p:spPr>
            <a:xfrm flipH="1" flipV="1" rot="18391200">
              <a:off x="853344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0101-87A1-4435-AC16-3E32492250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67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1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73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8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8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AC86-4AA5-4565-8653-FFA0907750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0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2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4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3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1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9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3E07-0108-44F9-B2E2-C2ADFCB64D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E1D1-626D-4F64-8E32-E3ADF1006A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22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61E3-A935-4BD3-B217-3F0F7A4886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EE5F-3425-4F42-A971-592F48A0EA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4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8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3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5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D75B-52C9-41B3-A8BE-0B022DAC2D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85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89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2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1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EFD-EDBC-4FC6-9A8E-244A98A1352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6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6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9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1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2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F948-EBC8-4A5E-A6C2-75E116E63E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BC81-2AF6-4382-B055-D2F4C6F72D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астительный и животный мир Арктики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28" name="Рисунок 7" descr="карта.jpg"/>
          <p:cNvPicPr/>
          <p:nvPr/>
        </p:nvPicPr>
        <p:blipFill>
          <a:blip r:embed="rId1"/>
          <a:stretch/>
        </p:blipFill>
        <p:spPr>
          <a:xfrm>
            <a:off x="1332000" y="1546200"/>
            <a:ext cx="6265800" cy="531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9"/>
          <p:cNvSpPr/>
          <p:nvPr/>
        </p:nvSpPr>
        <p:spPr>
          <a:xfrm>
            <a:off x="3276720" y="5373720"/>
            <a:ext cx="21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Comic Sans MS"/>
              </a:rPr>
              <a:t>Тюл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Picture 8" descr="https://meha.biz/image/catalog/blog/07.jpg"/>
          <p:cNvPicPr/>
          <p:nvPr/>
        </p:nvPicPr>
        <p:blipFill>
          <a:blip r:embed="rId1"/>
          <a:stretch/>
        </p:blipFill>
        <p:spPr>
          <a:xfrm>
            <a:off x="611280" y="620640"/>
            <a:ext cx="7027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7"/>
          <p:cNvSpPr/>
          <p:nvPr/>
        </p:nvSpPr>
        <p:spPr>
          <a:xfrm>
            <a:off x="2843280" y="551664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Comic Sans MS"/>
              </a:rPr>
              <a:t>Морж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9" name="Picture 2" descr="https://avatars.mds.yandex.net/get-pdb/471286/261867d9-7fb7-487f-8a7d-c44120b0ae44/s1200?webp=false"/>
          <p:cNvPicPr/>
          <p:nvPr/>
        </p:nvPicPr>
        <p:blipFill>
          <a:blip r:embed="rId1"/>
          <a:stretch/>
        </p:blipFill>
        <p:spPr>
          <a:xfrm>
            <a:off x="1547640" y="549360"/>
            <a:ext cx="6240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6"/>
          <p:cNvSpPr/>
          <p:nvPr/>
        </p:nvSpPr>
        <p:spPr>
          <a:xfrm>
            <a:off x="2124000" y="573264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Comic Sans MS"/>
              </a:rPr>
              <a:t>Белые медве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1" name="Picture 7" descr="https://avatars.mds.yandex.net/get-pdb/805160/ee051bbf-2c56-4d16-aaf8-acc124fd62f3/s1200?webp=false"/>
          <p:cNvPicPr/>
          <p:nvPr/>
        </p:nvPicPr>
        <p:blipFill>
          <a:blip r:embed="rId1"/>
          <a:stretch/>
        </p:blipFill>
        <p:spPr>
          <a:xfrm>
            <a:off x="0" y="189000"/>
            <a:ext cx="87184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Picture 6" descr="https://www.nastol.com.ua/pic/201112/2560x1600/nastol.com.ua-12436.jpg"/>
          <p:cNvPicPr/>
          <p:nvPr/>
        </p:nvPicPr>
        <p:blipFill>
          <a:blip r:embed="rId1"/>
          <a:stretch/>
        </p:blipFill>
        <p:spPr>
          <a:xfrm>
            <a:off x="0" y="0"/>
            <a:ext cx="8871120" cy="5545080"/>
          </a:xfrm>
          <a:prstGeom prst="rect">
            <a:avLst/>
          </a:prstGeom>
          <a:ln w="0">
            <a:noFill/>
          </a:ln>
        </p:spPr>
      </p:pic>
      <p:pic>
        <p:nvPicPr>
          <p:cNvPr id="1153" name="Прямоугольник 5" descr=""/>
          <p:cNvPicPr/>
          <p:nvPr/>
        </p:nvPicPr>
        <p:blipFill>
          <a:blip r:embed="rId2"/>
          <a:stretch/>
        </p:blipFill>
        <p:spPr>
          <a:xfrm>
            <a:off x="2462040" y="5291280"/>
            <a:ext cx="33721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Прямоугольник 6" descr=""/>
          <p:cNvPicPr/>
          <p:nvPr/>
        </p:nvPicPr>
        <p:blipFill>
          <a:blip r:embed="rId1"/>
          <a:stretch/>
        </p:blipFill>
        <p:spPr>
          <a:xfrm>
            <a:off x="1968480" y="5291280"/>
            <a:ext cx="4376880" cy="115884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9" descr="https://avatars.mds.yandex.net/get-pdb/1004346/02d59536-258d-43bf-b9dc-85bc7f5bf1f8/s1200?webp=false"/>
          <p:cNvPicPr/>
          <p:nvPr/>
        </p:nvPicPr>
        <p:blipFill>
          <a:blip r:embed="rId2"/>
          <a:stretch/>
        </p:blipFill>
        <p:spPr>
          <a:xfrm>
            <a:off x="971640" y="333360"/>
            <a:ext cx="6769080" cy="50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8"/>
          <p:cNvSpPr/>
          <p:nvPr/>
        </p:nvSpPr>
        <p:spPr>
          <a:xfrm>
            <a:off x="1619280" y="522936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ЛИШАЙ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9" descr="https://gjlh1249.files.wordpress.com/2010/07/lichen.jpg"/>
          <p:cNvPicPr/>
          <p:nvPr/>
        </p:nvPicPr>
        <p:blipFill>
          <a:blip r:embed="rId1"/>
          <a:stretch/>
        </p:blipFill>
        <p:spPr>
          <a:xfrm>
            <a:off x="1403280" y="765000"/>
            <a:ext cx="65311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7"/>
          <p:cNvSpPr/>
          <p:nvPr/>
        </p:nvSpPr>
        <p:spPr>
          <a:xfrm>
            <a:off x="1116000" y="4581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Мо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2" name="Picture 5" descr="https://avatars.mds.yandex.net/get-pdb/1044853/1b78f838-cd61-4861-8408-e17414f2ff27/s1200?webp=false"/>
          <p:cNvPicPr/>
          <p:nvPr/>
        </p:nvPicPr>
        <p:blipFill>
          <a:blip r:embed="rId1"/>
          <a:stretch/>
        </p:blipFill>
        <p:spPr>
          <a:xfrm>
            <a:off x="1187280" y="333360"/>
            <a:ext cx="6377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7"/>
          <p:cNvSpPr/>
          <p:nvPr/>
        </p:nvSpPr>
        <p:spPr>
          <a:xfrm>
            <a:off x="1619280" y="5445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ярный    м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4" name="Picture 8" descr="https://avatars.mds.yandex.net/get-pdb/777813/62f8c690-2af6-4992-91b6-f1c57217269a/s1200?webp=false"/>
          <p:cNvPicPr/>
          <p:nvPr/>
        </p:nvPicPr>
        <p:blipFill>
          <a:blip r:embed="rId1"/>
          <a:stretch/>
        </p:blipFill>
        <p:spPr>
          <a:xfrm>
            <a:off x="539640" y="404640"/>
            <a:ext cx="786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10"/>
          <p:cNvSpPr/>
          <p:nvPr/>
        </p:nvSpPr>
        <p:spPr>
          <a:xfrm>
            <a:off x="2627280" y="5661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одоросл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6" name="Picture 10" descr="https://pbs.twimg.com/media/CB7sI8BVEAAwTdm.jpg"/>
          <p:cNvPicPr/>
          <p:nvPr/>
        </p:nvPicPr>
        <p:blipFill>
          <a:blip r:embed="rId1"/>
          <a:stretch/>
        </p:blipFill>
        <p:spPr>
          <a:xfrm>
            <a:off x="826920" y="333360"/>
            <a:ext cx="64818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10" descr="https://ds02.infourok.ru/uploads/ex/05dd/0002b174-22dab2de/1/img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4"/>
          <p:cNvSpPr/>
          <p:nvPr/>
        </p:nvSpPr>
        <p:spPr>
          <a:xfrm>
            <a:off x="1547640" y="508464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Морская чай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9" name="Picture 2" descr="https://avatars.mds.yandex.net/get-pdb/1679619/b6898453-d319-4d33-86d8-4af54fab2865/s1200?webp=false"/>
          <p:cNvPicPr/>
          <p:nvPr/>
        </p:nvPicPr>
        <p:blipFill>
          <a:blip r:embed="rId1"/>
          <a:stretch/>
        </p:blipFill>
        <p:spPr>
          <a:xfrm>
            <a:off x="826920" y="18900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13"/>
          <p:cNvSpPr/>
          <p:nvPr/>
        </p:nvSpPr>
        <p:spPr>
          <a:xfrm>
            <a:off x="2771640" y="530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Гагар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1" name="Picture 12" descr="https://vitcoins.ru/image/cache/catalog/dopolneniya/evropa/gagarka-800x800.jpg"/>
          <p:cNvPicPr/>
          <p:nvPr/>
        </p:nvPicPr>
        <p:blipFill>
          <a:blip r:embed="rId1"/>
          <a:stretch/>
        </p:blipFill>
        <p:spPr>
          <a:xfrm>
            <a:off x="1187280" y="620640"/>
            <a:ext cx="6583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10"/>
          <p:cNvSpPr/>
          <p:nvPr/>
        </p:nvSpPr>
        <p:spPr>
          <a:xfrm>
            <a:off x="6516720" y="378936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12"/>
          <p:cNvSpPr/>
          <p:nvPr/>
        </p:nvSpPr>
        <p:spPr>
          <a:xfrm>
            <a:off x="2124000" y="5877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ездование кай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4" name="Picture 10" descr="https://avatars.mds.yandex.net/get-pdb/985791/d13c4dff-c5b3-41ca-81b2-89f390f239c5/s1200"/>
          <p:cNvPicPr/>
          <p:nvPr/>
        </p:nvPicPr>
        <p:blipFill>
          <a:blip r:embed="rId1"/>
          <a:stretch/>
        </p:blipFill>
        <p:spPr>
          <a:xfrm>
            <a:off x="250920" y="476280"/>
            <a:ext cx="3492360" cy="46814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2" descr="https://autogear.ru/misc/i/gallery/44459/2702675.jpg"/>
          <p:cNvPicPr/>
          <p:nvPr/>
        </p:nvPicPr>
        <p:blipFill>
          <a:blip r:embed="rId2"/>
          <a:stretch/>
        </p:blipFill>
        <p:spPr>
          <a:xfrm>
            <a:off x="3851280" y="692280"/>
            <a:ext cx="5292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6:26:19Z</dcterms:created>
  <dc:creator>Admin</dc:creator>
  <dc:description/>
  <dc:language>en-US</dc:language>
  <cp:lastModifiedBy>НАДЯ</cp:lastModifiedBy>
  <dcterms:modified xsi:type="dcterms:W3CDTF">2019-12-22T04:50:50Z</dcterms:modified>
  <cp:revision>103</cp:revision>
  <dc:subject/>
  <dc:title>Слайд 1</dc:title>
</cp:coreProperties>
</file>