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CD6-6F16-4A3E-9467-F767F197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F9C-78C9-4BF2-B74D-BDA608C5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25D-130B-43AD-B1B3-0EF35223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AAC-F918-421A-86AB-3DF5329B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725-B725-4DA4-A568-DEBC76C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4EC-22D9-444F-BA09-4DDD6F2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09A-D729-4F04-8FDD-1D63C56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B97-3B1C-4B42-9402-EBFE75F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341-CFDB-456C-83C2-955B320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CA2-AF83-435D-9337-E3D0BEF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137-7B26-4B01-B356-3D8B91B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887-F0BE-49A9-AF02-1E241C0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7B9-D783-4563-AC22-62E3CE163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40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ОБЩЕН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ПРЕОД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2" descr="11.jpeg"/>
          <p:cNvPicPr/>
          <p:nvPr/>
        </p:nvPicPr>
        <p:blipFill>
          <a:blip r:embed="rId1"/>
          <a:stretch/>
        </p:blipFill>
        <p:spPr>
          <a:xfrm>
            <a:off x="1042920" y="1484280"/>
            <a:ext cx="7270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18920" y="259920"/>
            <a:ext cx="6265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ребё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1597680" y="1484280"/>
            <a:ext cx="166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6211440" y="1519200"/>
            <a:ext cx="182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28019002.jpg"/>
          <p:cNvPicPr/>
          <p:nvPr/>
        </p:nvPicPr>
        <p:blipFill>
          <a:blip r:embed="rId1"/>
          <a:stretch/>
        </p:blipFill>
        <p:spPr>
          <a:xfrm>
            <a:off x="324000" y="2276640"/>
            <a:ext cx="452268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9" descr="Picture1 for Thinking Thursdays.png"/>
          <p:cNvPicPr/>
          <p:nvPr/>
        </p:nvPicPr>
        <p:blipFill>
          <a:blip r:embed="rId2"/>
          <a:stretch/>
        </p:blipFill>
        <p:spPr>
          <a:xfrm>
            <a:off x="1908000" y="5013360"/>
            <a:ext cx="1727280" cy="1674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hello_html_b133e91.jpg"/>
          <p:cNvPicPr/>
          <p:nvPr/>
        </p:nvPicPr>
        <p:blipFill>
          <a:blip r:embed="rId3"/>
          <a:stretch/>
        </p:blipFill>
        <p:spPr>
          <a:xfrm>
            <a:off x="5364000" y="2276640"/>
            <a:ext cx="3240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281240"/>
            <a:ext cx="846144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ими бы прекрасными ни были наши школьные учителя, самым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«мастерам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рмирующими разум, мысли детей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отец и м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этому нам, учителям, прежде всего, необходимо заботиться о повышении педагогической культуры родителей, разъяснять им смысл воспитания и работать с ними в одном направле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Сухомлин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3"/>
          <p:cNvSpPr/>
          <p:nvPr/>
        </p:nvSpPr>
        <p:spPr>
          <a:xfrm>
            <a:off x="3276720" y="2732040"/>
            <a:ext cx="6335640" cy="36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4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имеют преимущественное право на воспитание дете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ы заложить основы развития л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рганизации оказывают помощь родителям     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0" descr="390543.jpg"/>
          <p:cNvPicPr/>
          <p:nvPr/>
        </p:nvPicPr>
        <p:blipFill>
          <a:blip r:embed="rId1"/>
          <a:stretch/>
        </p:blipFill>
        <p:spPr>
          <a:xfrm>
            <a:off x="563400" y="260280"/>
            <a:ext cx="199260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fz-273.gif"/>
          <p:cNvPicPr/>
          <p:nvPr/>
        </p:nvPicPr>
        <p:blipFill>
          <a:blip r:embed="rId2"/>
          <a:stretch/>
        </p:blipFill>
        <p:spPr>
          <a:xfrm>
            <a:off x="108000" y="2976480"/>
            <a:ext cx="2879640" cy="376560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3276720" y="333360"/>
            <a:ext cx="57592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детях, их воспитание - равное право и 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1281240"/>
            <a:ext cx="846144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ими бы прекрасными ни были наши школьные учителя, самым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«мастерам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рмирующими разум, мысли детей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отец и м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этому нам, учителям, прежде всего, необходимо заботиться о повышении педагогической культуры родителей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ять им смысл воспита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ботать с ними в одном направле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Сухомлин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348000" y="4149360"/>
            <a:ext cx="561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основывается на контактах, взаимодействиях,  эмоциональных отношениях между детьми и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reb-obsh-s-mamoi.jpg"/>
          <p:cNvPicPr/>
          <p:nvPr/>
        </p:nvPicPr>
        <p:blipFill>
          <a:blip r:embed="rId1"/>
          <a:stretch/>
        </p:blipFill>
        <p:spPr>
          <a:xfrm>
            <a:off x="250920" y="542880"/>
            <a:ext cx="3833640" cy="1949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Три этапа отношений между родителями и детьми.jpg"/>
          <p:cNvPicPr/>
          <p:nvPr/>
        </p:nvPicPr>
        <p:blipFill>
          <a:blip r:embed="rId2"/>
          <a:stretch/>
        </p:blipFill>
        <p:spPr>
          <a:xfrm>
            <a:off x="4226040" y="333360"/>
            <a:ext cx="4636800" cy="3311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igry-300x238.jpg"/>
          <p:cNvPicPr/>
          <p:nvPr/>
        </p:nvPicPr>
        <p:blipFill>
          <a:blip r:embed="rId3"/>
          <a:stretch/>
        </p:blipFill>
        <p:spPr>
          <a:xfrm>
            <a:off x="317520" y="2984400"/>
            <a:ext cx="3102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0" descr="1394228119_1394212046_004-cucek_net1.jpg"/>
          <p:cNvPicPr/>
          <p:nvPr/>
        </p:nvPicPr>
        <p:blipFill>
          <a:blip r:embed="rId1"/>
          <a:stretch/>
        </p:blipFill>
        <p:spPr>
          <a:xfrm>
            <a:off x="2509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156360" y="404640"/>
            <a:ext cx="25192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очевиден дефицит общения родителей с детьм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5589360"/>
            <a:ext cx="8677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ернуть родителей лицом к своим детя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2543346765.jpg"/>
          <p:cNvPicPr/>
          <p:nvPr/>
        </p:nvPicPr>
        <p:blipFill>
          <a:blip r:embed="rId1"/>
          <a:stretch/>
        </p:blipFill>
        <p:spPr>
          <a:xfrm>
            <a:off x="4592520" y="692280"/>
            <a:ext cx="4267440" cy="3457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117402039_large_1.jpg"/>
          <p:cNvPicPr/>
          <p:nvPr/>
        </p:nvPicPr>
        <p:blipFill>
          <a:blip r:embed="rId2"/>
          <a:stretch/>
        </p:blipFill>
        <p:spPr>
          <a:xfrm>
            <a:off x="277920" y="2133720"/>
            <a:ext cx="3979800" cy="3024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4920" y="40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ая задача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159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шаг – испы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эмоциональное пере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98137828_22.jpg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52e14cddf0.jpg"/>
          <p:cNvPicPr/>
          <p:nvPr/>
        </p:nvPicPr>
        <p:blipFill>
          <a:blip r:embed="rId2"/>
          <a:stretch/>
        </p:blipFill>
        <p:spPr>
          <a:xfrm>
            <a:off x="4788000" y="1484280"/>
            <a:ext cx="4154400" cy="2762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image002_128.jpg"/>
          <p:cNvPicPr/>
          <p:nvPr/>
        </p:nvPicPr>
        <p:blipFill>
          <a:blip r:embed="rId3"/>
          <a:stretch/>
        </p:blipFill>
        <p:spPr>
          <a:xfrm>
            <a:off x="4572000" y="436572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velelyj-risunok.jpg"/>
          <p:cNvPicPr/>
          <p:nvPr/>
        </p:nvPicPr>
        <p:blipFill>
          <a:blip r:embed="rId4"/>
          <a:stretch/>
        </p:blipFill>
        <p:spPr>
          <a:xfrm>
            <a:off x="684360" y="4365720"/>
            <a:ext cx="3616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5:06:37Z</dcterms:created>
  <dc:creator>C77</dc:creator>
  <dc:description/>
  <dc:language>en-US</dc:language>
  <cp:lastModifiedBy>Эллочка</cp:lastModifiedBy>
  <dcterms:modified xsi:type="dcterms:W3CDTF">2019-12-24T17:30:28Z</dcterms:modified>
  <cp:revision>266</cp:revision>
  <dc:subject/>
  <dc:title>Мама в доме, что солнышко на небе</dc:title>
</cp:coreProperties>
</file>