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F31-C74E-4630-9C73-026403DC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482-A10D-4681-9369-278C886B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D2B-74F7-4B06-BBFE-59AB13EF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A18-F722-44A7-B4FA-5EC3184B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1A11-BE00-4A75-86F2-E0495FD5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2FCD-1C8D-424B-8C89-E9DB88AC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B195-DE63-4CD1-A661-E8944995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1586-FBEB-4107-B9EE-288427BD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396A-4CD6-4D68-97FF-AA9F60D0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7359-28F1-4D5C-80CD-B7B8F22A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69E0-9E52-40E2-99F4-A6580F0C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F31-D46F-4581-A85C-99628D40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E8AB-62F5-4931-ABF7-AD0EB3F1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FD04-CF93-4128-ADFD-703F049E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C952-22EF-4D64-AFB6-8470005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4663-003F-4F96-A0B7-18946E5F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530E-0A50-433A-BA1E-C22A8DA9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0F38-47C2-4FF1-A647-722B26B5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2536-189A-42B5-9320-59C1CA28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BE08-A522-4700-A2CA-0BB999D0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492A-E319-45A0-8302-0959418F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01BD-75B8-41F5-A154-23927F32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9BB-0718-4B91-91E5-686DC1AE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96B7-A1BA-4BA7-BA16-B5CDC12E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C196-EEBF-497E-BD78-542FA52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A0C0-8F8D-4669-9F8E-89649963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DCFE-BADA-4CE2-A971-FC1BC3BC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C2DB-9075-49C8-9920-73E0FE5F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C42B-7002-4D7E-993A-BB9857A3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E783-B45D-4934-B94C-0E518360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0FF2-9E9A-4502-B206-483E6BE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ACB8D-50C7-47B3-A0D5-A12F4301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D94F-3B34-4B27-A0CF-346DFB6F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D9C-69BA-4681-A039-F3629219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4D001-776E-4209-8691-2CBE1D19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51CF-C0CA-4005-9DFB-12D4CC77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F3F1D-7E4D-441C-8444-7F9FAAE0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CD0A6-A31E-4CBA-9889-6A4D755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692A-3371-4434-B28F-7463A53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3A505-F3C4-453C-BA04-BD054D1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6923-A716-4282-AB8C-FD1D9540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1CA1E-E436-474B-B980-49B41E22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3814-FFE7-4132-887D-23194D8B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744-781A-481E-A8C2-1B180840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3A0-C6B5-4197-8160-F50A0868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26B-1FAB-45CD-A9A8-97F8AD3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512-8CAA-4D55-BD0A-E6885B5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BE5-ACDB-4139-A326-5FE1B60D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6B6A-1905-4F61-BC03-418E5A19FE2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F7F1-6CBC-4038-87A1-151894529A1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9388-3956-49C0-BA1C-CAC65D16191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1873-9634-454E-8278-D8D96BD8A4F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5614920" cy="7286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«Центр образования посёлка Беринговского»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Анадырского района Чукотского автономного округа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казка о волшебном цветочке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гиональный конкурс «Сохраним и приумножим»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оминация «Обитатели заповедных земель»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ыполнила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чаш Ярина Илькеровна,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ченица 2 класса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БОУ «Центр образования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 посёлка Беринговского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уководитель работы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лтухова Алёна Васильевна,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читель начальных классов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                                         2016 г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</a:t>
            </a:r>
            <a:br>
              <a:rPr sz="45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5" descr="Ярина.png"/>
          <p:cNvPicPr/>
          <p:nvPr/>
        </p:nvPicPr>
        <p:blipFill>
          <a:blip r:embed="rId1"/>
          <a:stretch/>
        </p:blipFill>
        <p:spPr>
          <a:xfrm>
            <a:off x="6143760" y="1785960"/>
            <a:ext cx="2597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71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леко – далеко в королевстве Беринговском…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одержимое 4" descr="2.jpg"/>
          <p:cNvPicPr/>
          <p:nvPr/>
        </p:nvPicPr>
        <p:blipFill>
          <a:blip r:embed="rId1"/>
          <a:stretch/>
        </p:blipFill>
        <p:spPr>
          <a:xfrm>
            <a:off x="357120" y="642960"/>
            <a:ext cx="84978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-42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нц Пепелино нашёл волшебный цветочек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5" descr="3.jpg"/>
          <p:cNvPicPr/>
          <p:nvPr/>
        </p:nvPicPr>
        <p:blipFill>
          <a:blip r:embed="rId1"/>
          <a:stretch/>
        </p:blipFill>
        <p:spPr>
          <a:xfrm>
            <a:off x="326880" y="785880"/>
            <a:ext cx="8285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 стали они жить – поживать, да добра наживать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5" descr="1.jpg"/>
          <p:cNvPicPr/>
          <p:nvPr/>
        </p:nvPicPr>
        <p:blipFill>
          <a:blip r:embed="rId1"/>
          <a:stretch/>
        </p:blipFill>
        <p:spPr>
          <a:xfrm>
            <a:off x="500040" y="1050840"/>
            <a:ext cx="82123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ная книга Чукотского автономного округа.  Том 2.  растения. И.А. Черешнев и др.- Издательство  «Дикий Север», 2008 г . с. 28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2:54:59Z</dcterms:created>
  <dc:creator>Завуч</dc:creator>
  <dc:description/>
  <dc:language>en-US</dc:language>
  <cp:lastModifiedBy>dns</cp:lastModifiedBy>
  <dcterms:modified xsi:type="dcterms:W3CDTF">2019-12-23T15:38:37Z</dcterms:modified>
  <cp:revision>5</cp:revision>
  <dc:subject/>
  <dc:title>Слайд 1</dc:title>
</cp:coreProperties>
</file>