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4E7-F9AF-424D-900F-C6C7973A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A07-2E6A-41AE-8EA7-EA07F3A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255-5082-4A48-8DA6-7618BDE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9E8-8BD0-481C-8E34-46D860CF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E4A-62AB-481D-B47E-4ABC0E3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50C-6FE3-4C26-95D8-E12742B3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09D-43A6-4A14-BF7E-53E3DC8B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911-1356-4109-98C3-388E449A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307-1A96-4DB4-BBDF-28A5EA5D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7A9-22C9-4B38-8EB6-14DF2D6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15D-6E10-40B4-BD14-30FFA8A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3AB-D2F1-43A3-98AC-53473B4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512-D076-452C-9FA8-7D28D1304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2T16:00:22Z</dcterms:created>
  <dc:creator>Дом</dc:creator>
  <dc:description/>
  <dc:language>en-US</dc:language>
  <cp:lastModifiedBy>Дом</cp:lastModifiedBy>
  <dcterms:modified xsi:type="dcterms:W3CDTF">2019-12-23T11:58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