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3.wmf" ContentType="image/x-wm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2E1F-928E-4406-ACE9-B6227E6B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9F4E-B6E5-42C6-97E6-05C2A60F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0204-65B9-41C2-A7AF-12DAC7FAE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7EC1-9059-4F7F-938A-F4F9B22A9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67E4-8886-4CD6-8DA3-383262AF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4459-59FB-49B7-8ABC-F784A97E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7C2B-9504-4A20-B0D1-0287BD85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E597-4672-481E-8E8B-AF563C78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13EB-C9C6-46DC-AB34-B1B7B38A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D087-6C8F-4B59-BEE0-B1A06CAF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E9DA-2584-4725-B049-158730AD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0410-D9F6-4BF2-AC57-611ACD95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C7C1-852C-4456-83C3-40F8BEE11C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Закирова Регина\Desktop\images (1).jpg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0" y="0"/>
            <a:ext cx="478800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хар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мила Анатолье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технолог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СОШ №17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ЕР – КЛАС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нтерактивные методы обучения»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мпетентностно-ориентированные задания и их роль в формировании компетенци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3" descr=""/>
          <p:cNvPicPr/>
          <p:nvPr/>
        </p:nvPicPr>
        <p:blipFill>
          <a:blip r:embed="rId2"/>
          <a:stretch/>
        </p:blipFill>
        <p:spPr>
          <a:xfrm>
            <a:off x="4788000" y="-22320"/>
            <a:ext cx="43560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C:\Users\Закирова Регина\Desktop\images (1).jpg"/>
          <p:cNvPicPr/>
          <p:nvPr/>
        </p:nvPicPr>
        <p:blipFill>
          <a:blip r:embed="rId1"/>
          <a:stretch/>
        </p:blipFill>
        <p:spPr>
          <a:xfrm>
            <a:off x="14400" y="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8"/>
          <p:cNvSpPr/>
          <p:nvPr/>
        </p:nvSpPr>
        <p:spPr>
          <a:xfrm>
            <a:off x="601560" y="38412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ционная переработка тек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"/>
          <p:cNvSpPr/>
          <p:nvPr/>
        </p:nvSpPr>
        <p:spPr>
          <a:xfrm>
            <a:off x="900000" y="1692360"/>
            <a:ext cx="7632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мер применения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екц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442800" y="1413000"/>
            <a:ext cx="1656000" cy="13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Users\Закирова Регина\Desktop\images (1).jpg"/>
          <p:cNvPicPr/>
          <p:nvPr/>
        </p:nvPicPr>
        <p:blipFill>
          <a:blip r:embed="rId1"/>
          <a:stretch/>
        </p:blipFill>
        <p:spPr>
          <a:xfrm>
            <a:off x="14400" y="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1"/>
          <p:cNvSpPr/>
          <p:nvPr/>
        </p:nvSpPr>
        <p:spPr>
          <a:xfrm>
            <a:off x="900000" y="1692360"/>
            <a:ext cx="76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C:\Documents and Settings\USER\Мои документы\Загрузки\spasibo-za-vnimanie-kartinki-dlya-prezentacii-3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Users\Закирова Регина\Desktop\images (1).jpg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Заголовок 1"/>
          <p:cNvSpPr/>
          <p:nvPr/>
        </p:nvSpPr>
        <p:spPr>
          <a:xfrm>
            <a:off x="457200" y="272880"/>
            <a:ext cx="30081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льберт Хаббард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мериканский писатель, филосо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457200" y="1635120"/>
            <a:ext cx="3716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Цель обучения ребёнка состоит в том, чтобы сделать его способным развиваться дальше без помощи учителя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Объект 4" descr=""/>
          <p:cNvPicPr/>
          <p:nvPr/>
        </p:nvPicPr>
        <p:blipFill>
          <a:blip r:embed="rId2"/>
          <a:stretch/>
        </p:blipFill>
        <p:spPr>
          <a:xfrm>
            <a:off x="4487760" y="272880"/>
            <a:ext cx="4513320" cy="578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5" name="Picture 2" descr="C:\Users\Закирова Регина\Desktop\images (1).jpg"/>
          <p:cNvPicPr/>
          <p:nvPr/>
        </p:nvPicPr>
        <p:blipFill>
          <a:blip r:embed="rId1"/>
          <a:stretch/>
        </p:blipFill>
        <p:spPr>
          <a:xfrm>
            <a:off x="0" y="-17460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3"/>
          <p:cNvSpPr/>
          <p:nvPr/>
        </p:nvSpPr>
        <p:spPr>
          <a:xfrm>
            <a:off x="250920" y="115920"/>
            <a:ext cx="842472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тивный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ает способность взаимодействовать или находится в режиме беседы, диалога с кем-либо (человеком) или чем-либо (например, компьютером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тивное обучение это, прежде всего, диалоговое обучение, в ходе которого осуществляется взаимодействие преподавателя и обучающего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4" descr=""/>
          <p:cNvPicPr/>
          <p:nvPr/>
        </p:nvPicPr>
        <p:blipFill>
          <a:blip r:embed="rId2"/>
          <a:stretch/>
        </p:blipFill>
        <p:spPr>
          <a:xfrm>
            <a:off x="468360" y="4272120"/>
            <a:ext cx="3608280" cy="22525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5" descr=""/>
          <p:cNvPicPr/>
          <p:nvPr/>
        </p:nvPicPr>
        <p:blipFill>
          <a:blip r:embed="rId3"/>
          <a:stretch/>
        </p:blipFill>
        <p:spPr>
          <a:xfrm>
            <a:off x="4981680" y="3886200"/>
            <a:ext cx="32623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1" name="Picture 2" descr="C:\Users\Закирова Регина\Desktop\images (1).jpg"/>
          <p:cNvPicPr/>
          <p:nvPr/>
        </p:nvPicPr>
        <p:blipFill>
          <a:blip r:embed="rId1"/>
          <a:stretch/>
        </p:blipFill>
        <p:spPr>
          <a:xfrm>
            <a:off x="28440" y="0"/>
            <a:ext cx="89298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250920" y="187200"/>
            <a:ext cx="82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ДЕЛИ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4"/>
          <p:cNvSpPr/>
          <p:nvPr/>
        </p:nvSpPr>
        <p:spPr>
          <a:xfrm flipV="1" rot="10800000">
            <a:off x="826560" y="3798720"/>
            <a:ext cx="792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  использоват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ки,   слова,   словосочетания,   знаки,   символы, лозун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C:\Documents and Settings\USER\Мои документы\Загрузки\материалы для учителя года черновики\img4аее66.jpg"/>
          <p:cNvPicPr/>
          <p:nvPr/>
        </p:nvPicPr>
        <p:blipFill>
          <a:blip r:embed="rId2"/>
          <a:stretch/>
        </p:blipFill>
        <p:spPr>
          <a:xfrm>
            <a:off x="106200" y="1203480"/>
            <a:ext cx="893160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7" name="Picture 2" descr="C:\Users\Закирова Регина\Desktop\images (1).jpg"/>
          <p:cNvPicPr/>
          <p:nvPr/>
        </p:nvPicPr>
        <p:blipFill>
          <a:blip r:embed="rId1"/>
          <a:stretch/>
        </p:blipFill>
        <p:spPr>
          <a:xfrm>
            <a:off x="-10800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826920" y="620640"/>
            <a:ext cx="777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терактивные методические приемы обучения в формировании ключевых компетенций средствами КО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4"/>
          <p:cNvSpPr/>
          <p:nvPr/>
        </p:nvSpPr>
        <p:spPr>
          <a:xfrm flipV="1" rot="10800000">
            <a:off x="826560" y="3044880"/>
            <a:ext cx="7921800" cy="28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9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З - КОМПЕТЕНТНОСТНО-ОРИЕНТИРОВАННЫЕ ЗАД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9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094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-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ния для формирования ключевых компетенций. Это деятельные задания, моделируют жизненную ситуацию, строятся на актуальном материал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2" name="Picture 2" descr="C:\Users\Закирова Регина\Desktop\images (1).jpg"/>
          <p:cNvPicPr/>
          <p:nvPr/>
        </p:nvPicPr>
        <p:blipFill>
          <a:blip r:embed="rId1"/>
          <a:stretch/>
        </p:blipFill>
        <p:spPr>
          <a:xfrm>
            <a:off x="-108000" y="0"/>
            <a:ext cx="939636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5" descr=""/>
          <p:cNvPicPr/>
          <p:nvPr/>
        </p:nvPicPr>
        <p:blipFill>
          <a:blip r:embed="rId2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6" name="Picture 2" descr="C:\Users\Закирова Регина\Desktop\images (1).jpg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"/>
          <p:cNvPicPr/>
          <p:nvPr/>
        </p:nvPicPr>
        <p:blipFill>
          <a:blip r:embed="rId2"/>
          <a:stretch/>
        </p:blipFill>
        <p:spPr>
          <a:xfrm>
            <a:off x="826920" y="1844640"/>
            <a:ext cx="7554960" cy="50133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"/>
          <p:cNvPicPr/>
          <p:nvPr/>
        </p:nvPicPr>
        <p:blipFill>
          <a:blip r:embed="rId3"/>
          <a:stretch/>
        </p:blipFill>
        <p:spPr>
          <a:xfrm>
            <a:off x="3059280" y="109440"/>
            <a:ext cx="50418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Users\Закирова Регина\Desktop\images (1).jpg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4" descr=""/>
          <p:cNvPicPr/>
          <p:nvPr/>
        </p:nvPicPr>
        <p:blipFill>
          <a:blip r:embed="rId2"/>
          <a:stretch/>
        </p:blipFill>
        <p:spPr>
          <a:xfrm>
            <a:off x="47520" y="2816280"/>
            <a:ext cx="4218120" cy="40780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5" descr=""/>
          <p:cNvPicPr/>
          <p:nvPr/>
        </p:nvPicPr>
        <p:blipFill>
          <a:blip r:embed="rId3"/>
          <a:stretch/>
        </p:blipFill>
        <p:spPr>
          <a:xfrm>
            <a:off x="4313160" y="76320"/>
            <a:ext cx="4784760" cy="31906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6" descr=""/>
          <p:cNvPicPr/>
          <p:nvPr/>
        </p:nvPicPr>
        <p:blipFill>
          <a:blip r:embed="rId4"/>
          <a:stretch/>
        </p:blipFill>
        <p:spPr>
          <a:xfrm>
            <a:off x="4475160" y="3322800"/>
            <a:ext cx="4460760" cy="3458880"/>
          </a:xfrm>
          <a:prstGeom prst="rect">
            <a:avLst/>
          </a:prstGeom>
          <a:ln w="0">
            <a:noFill/>
          </a:ln>
        </p:spPr>
      </p:pic>
      <p:sp>
        <p:nvSpPr>
          <p:cNvPr id="84" name="TextBox 8"/>
          <p:cNvSpPr/>
          <p:nvPr/>
        </p:nvSpPr>
        <p:spPr>
          <a:xfrm>
            <a:off x="457200" y="487440"/>
            <a:ext cx="325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лдатск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ш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C:\Users\Закирова Регина\Desktop\images (1).jpg"/>
          <p:cNvPicPr/>
          <p:nvPr/>
        </p:nvPicPr>
        <p:blipFill>
          <a:blip r:embed="rId1"/>
          <a:stretch/>
        </p:blipFill>
        <p:spPr>
          <a:xfrm>
            <a:off x="14400" y="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457200" y="48744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ционная переработка текс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611280" y="1692360"/>
            <a:ext cx="792144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опрос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означает слово «каша»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м она полезн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чему кашу называли «Солдатской»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то варил кашу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чего её варил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ыла ли она вкусной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16T05:13:15Z</dcterms:created>
  <dc:creator>Закирова Регина</dc:creator>
  <dc:description/>
  <dc:language>en-US</dc:language>
  <cp:lastModifiedBy>Бухарина Людмила</cp:lastModifiedBy>
  <dcterms:modified xsi:type="dcterms:W3CDTF">2019-12-08T18:21:56Z</dcterms:modified>
  <cp:revision>25</cp:revision>
  <dc:subject/>
  <dc:title>Презентация PowerPoint</dc:title>
</cp:coreProperties>
</file>