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D637-EB9F-41CC-BD87-AEF209DF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B14F-36EB-4457-A5A0-8E878269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EFDF-72D2-4237-BE35-86BC9C14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3AB0-6DC5-4ADA-BDF5-1D2955AC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546D-0735-4210-BD95-1295BD69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81A0-A70D-40F8-A709-45BD27B8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ACF5-BF18-45C7-BC87-3698656C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8C7D-8710-4620-98BC-AEC28211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83CD-14C5-4E17-8955-A8DDF227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9D5E-E95E-4447-9090-D0F04817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11ED-C2CD-4CEA-821F-F5595196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BED1-7257-4321-9E0A-29F4B264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6083-3296-40C5-BFDB-CE88ED84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E1CC-7DD6-4082-A289-BC0B198E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7F97-5CE1-4B16-B190-B54FE18D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4839-5CA5-4F1C-B849-A5DEE0A4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540A-6ADE-4CC8-B682-ACC0B6D5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BF1A-2D92-480F-B18E-3AA85326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C98D-9812-4CD5-906B-909FE073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42D8-3CC1-4685-992B-214996FB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D41F-7FDB-4B78-AFC2-B5557A8F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298F-2EF7-4083-9876-FF77EBAA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6E52-DDE4-4453-A01C-F395511A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4DA1-B07E-431A-9240-ADA14738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C1E8-06A2-4383-BC09-83441BF941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/>
                  <a:ahLst/>
                  <a:rect l="l" t="t" r="r" b="b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lnTo>
                        <a:pt x="-22537" y="0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C826-705C-4269-8511-43FD5D42FE76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4978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66"/>
                </a:solidFill>
                <a:latin typeface="Times New Roman"/>
              </a:rPr>
              <a:t>НЕТРАДИЦИОННЫЙ УРОК   ИСТОРИИ</a:t>
            </a:r>
            <a:endParaRPr b="0" lang="en-US" sz="6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7991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Из опыта работы                                        Серяковой Елены Владимировны,   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учителя истории и обществознания             МКОУ СОШ №12 с.Турксад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ИЗ  ОПЫТА  РАБОТЫ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1905120"/>
            <a:ext cx="8024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Урок истории по теме                                      </a:t>
            </a:r>
            <a:r>
              <a:rPr b="0" i="1" lang="ru-RU" sz="3200" spc="-1" strike="noStrike">
                <a:solidFill>
                  <a:srgbClr val="ffff66"/>
                </a:solidFill>
                <a:latin typeface="Times New Roman"/>
              </a:rPr>
              <a:t>« Древнейшая Греция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                 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(5 класс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116000" y="378720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Урок проводится в форме </a:t>
            </a:r>
            <a:r>
              <a:rPr b="0" i="1" lang="ru-RU" sz="2800" spc="-1" strike="noStrike" u="sng">
                <a:solidFill>
                  <a:srgbClr val="ffff66"/>
                </a:solidFill>
                <a:uFillTx/>
                <a:latin typeface="Times New Roman"/>
              </a:rPr>
              <a:t>устного журнала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 и требует предварительной подготовки: составление кроссвордов, а также подготовки отдельными учащимися сообщений по теме, изготовления наглядного материал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99640" y="228240"/>
            <a:ext cx="80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Times New Roman"/>
              </a:rPr>
              <a:t>ГЕОГРАФИЧЕСКАЯ  СТРАНИЧКА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66"/>
                </a:solidFill>
                <a:uFillTx/>
                <a:latin typeface="Times New Roman"/>
              </a:rPr>
              <a:t>Откроем географическую страницу.                    </a:t>
            </a: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Ученик работает у карты и прикрепляет заранее подготовленные условные знаки к тем городам, которые входили в состав Греции. Затем комментирует свои действи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8" name="Picture 5" descr="C:\Users\Елена\Desktop\DSCN2493.JPG"/>
          <p:cNvPicPr/>
          <p:nvPr/>
        </p:nvPicPr>
        <p:blipFill>
          <a:blip r:embed="rId1"/>
          <a:stretch/>
        </p:blipFill>
        <p:spPr>
          <a:xfrm>
            <a:off x="4788000" y="2421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ИНТЕРВЬЮ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66"/>
                </a:solidFill>
                <a:uFillTx/>
                <a:latin typeface="Times New Roman"/>
              </a:rPr>
              <a:t>Интервью с жителе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66"/>
                </a:solidFill>
                <a:uFillTx/>
                <a:latin typeface="Times New Roman"/>
              </a:rPr>
              <a:t>Древней Греции.</a:t>
            </a:r>
            <a:r>
              <a:rPr b="0" i="1" lang="ru-RU" sz="24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Bookman Old Style"/>
              </a:rPr>
              <a:t>Опишете природные условия Древней Греци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Bookman Old Style"/>
              </a:rPr>
              <a:t>Природа Греции очень живописна. Обилие солнца и мягкий климат создают благоприятные условия для жизни и деятельности человек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624640" y="4292640"/>
            <a:ext cx="1734840" cy="2149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Users\Елена\Desktop\DSCN2487.JPG"/>
          <p:cNvPicPr/>
          <p:nvPr/>
        </p:nvPicPr>
        <p:blipFill>
          <a:blip r:embed="rId2"/>
          <a:stretch/>
        </p:blipFill>
        <p:spPr>
          <a:xfrm>
            <a:off x="4500720" y="1197000"/>
            <a:ext cx="39830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Times New Roman"/>
              </a:rPr>
              <a:t>УЧЕНИЧЕСКАЯ  СТРАНИЧКА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5640" y="1699920"/>
            <a:ext cx="3809880" cy="55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В древности греки плавали главным образом вдоль берегов и избегали выходить в открытое море. Почему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99"/>
                </a:solidFill>
                <a:latin typeface="Arial"/>
              </a:rPr>
              <a:t>Штормы и бури были опасны маленьким деревянным судам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99"/>
                </a:solidFill>
                <a:latin typeface="Arial"/>
              </a:rPr>
              <a:t>Без компаса, который в древности был известен одним китайцам легко заблудиться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99"/>
                </a:solidFill>
                <a:latin typeface="Arial"/>
              </a:rPr>
              <a:t>Запасы воды и продовольствия часто приходилось пополнять: корабль имел небольшие размеры и довольно много гребцов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5292720" y="1989000"/>
            <a:ext cx="3298680" cy="1871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2"/>
          <a:stretch/>
        </p:blipFill>
        <p:spPr>
          <a:xfrm>
            <a:off x="5335560" y="4076640"/>
            <a:ext cx="325584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Ученическая страничка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9" name="Picture 2" descr="C:\Users\Елена\Desktop\DSCN2491.JPG"/>
          <p:cNvPicPr/>
          <p:nvPr/>
        </p:nvPicPr>
        <p:blipFill>
          <a:blip r:embed="rId1"/>
          <a:stretch/>
        </p:blipFill>
        <p:spPr>
          <a:xfrm>
            <a:off x="1258920" y="1989000"/>
            <a:ext cx="3744720" cy="3527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Елена\Desktop\DSCN2492.JPG"/>
          <p:cNvPicPr/>
          <p:nvPr/>
        </p:nvPicPr>
        <p:blipFill>
          <a:blip r:embed="rId2"/>
          <a:stretch/>
        </p:blipFill>
        <p:spPr>
          <a:xfrm>
            <a:off x="5257800" y="2205000"/>
            <a:ext cx="380988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РЕКЛАМА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Times New Roman"/>
              </a:rPr>
              <a:t>Следующая страница –рекламная.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 Ученики представляют рекламу изготовления вина в любой форме, а также рекламируют оливковое масло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3" name="Picture 7" descr=""/>
          <p:cNvPicPr/>
          <p:nvPr/>
        </p:nvPicPr>
        <p:blipFill>
          <a:blip r:embed="rId1"/>
          <a:stretch/>
        </p:blipFill>
        <p:spPr>
          <a:xfrm>
            <a:off x="2666880" y="1297080"/>
            <a:ext cx="3810240" cy="411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C:\Users\Елена\Desktop\DSCN2486.JPG"/>
          <p:cNvPicPr/>
          <p:nvPr/>
        </p:nvPicPr>
        <p:blipFill>
          <a:blip r:embed="rId2"/>
          <a:stretch/>
        </p:blipFill>
        <p:spPr>
          <a:xfrm>
            <a:off x="5076720" y="1700280"/>
            <a:ext cx="33829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НА   ДОСУГЕ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Times New Roman"/>
              </a:rPr>
              <a:t>Заключительная страница –               На досуге.                     </a:t>
            </a: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На этом этапе урока подводятся итоги конкурса кроссвордов и чтение мифов Древней Греции. 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Миф о Тесее и минотавр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5148360" y="2133720"/>
            <a:ext cx="380988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900000" y="1844640"/>
            <a:ext cx="80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66"/>
                </a:solidFill>
                <a:latin typeface="Times New Roman"/>
              </a:rPr>
              <a:t>СПАСИБО                                ЗА  ВНИМАНИЕ !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Times New Roman"/>
              </a:rPr>
              <a:t>НЕТРАДИЦИОННЫЙ  УРОК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197000"/>
            <a:ext cx="81010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Способствует развитию инициативы и коммуникативных навыков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Приближает школьное обучение к жизни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Предполагает самостоятельный поиск средств и способов решения задач, связанных с реальными ситуациями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Искореняет негативные явления традиционного обучени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Times New Roman"/>
              </a:rPr>
              <a:t>НЕТРАДИЦИОННЫЙ  УРОК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971640" y="1989000"/>
            <a:ext cx="7956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Times New Roman"/>
              </a:rPr>
              <a:t>В литературе характеризуется как форма специально организованного общения, психологическое воздействие которого основано на активных методах обучения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Times New Roman"/>
              </a:rPr>
              <a:t>КЛАССИФИКАЦИЯ НЕТРАДИЦИОННЫХ   УРОКОВ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16000" y="2349360"/>
          <a:ext cx="7597800" cy="3962520"/>
        </p:xfrm>
        <a:graphic>
          <a:graphicData uri="http://schemas.openxmlformats.org/drawingml/2006/table">
            <a:tbl>
              <a:tblPr/>
              <a:tblGrid>
                <a:gridCol w="2054160"/>
                <a:gridCol w="2532240"/>
                <a:gridCol w="3011400"/>
              </a:tblGrid>
              <a:tr h="39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Типы уроко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Виды уроко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ринцип создани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Урок изучения нового матер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онцерт, Спектакль, Путешествие, Турнир, Конференция, Видеоурок и др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Воспроизведение типичных атрибутов изучаемой эпохи, эффектный способ преподнесения темы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овторительно-обобщающий уро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Интервью, Суд, Дискуссия, Исторический портрет, Проблемный  урок и др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оздание эффекта личного присутствия через анализ деятельности исторических лиц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онтрольный уро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ВН, Аукцион, Викторина, Конкурс знатоков, Олимпиада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Игровые способы проверки знаний и умений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39"/>
          <p:cNvSpPr/>
          <p:nvPr/>
        </p:nvSpPr>
        <p:spPr>
          <a:xfrm>
            <a:off x="1187280" y="170028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Вяземский Е.Е., Стрелова О.Ю. ТЕОРИЯ И МЕТОДИКА ПРЕПОДАВАНИЯ ИСТОРИИ. /ВЛАДОС, 2003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Times New Roman"/>
              </a:rPr>
              <a:t>КЛАССИФИКАЦИЯ НЕТРАДИЦИОННЫХ   УРОКОВ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3357360"/>
            <a:ext cx="7772400" cy="241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Школьная л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Лабораторное занят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Семинарское занят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Практическое занят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258920" y="184464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258920" y="184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Вяземский Е.Е., Стрелова О.Ю. ТЕОРИЯ И МЕТОДИКА ПРЕПОДАВАНИЯ ИСТОРИИ. /ВЛАДОС, 2003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187280" y="2708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66"/>
                </a:solidFill>
                <a:latin typeface="Times New Roman"/>
              </a:rPr>
              <a:t>АЛЬТЕРНАТИВЫ    УРОКУ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Times New Roman"/>
              </a:rPr>
              <a:t>КЛАССИФИКАЦИЯ НЕТРАДИЦИОННЫХ   УРОКОВ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332000" y="1773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Короткова М.В., Студеникин М.Т. МЕТОДИКА ОБУЧЕНИЯ ИСТОРИИ В СХЕМАХ, ТАБЛИЦАХ, ОПИСАНИЯХ. /ВЛАДОС, 1999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42920" y="2708280"/>
          <a:ext cx="7772400" cy="37558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Традиционные формы урок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Нетрадиционные формы урок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Лекц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емина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рактикум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Экскурс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онференц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Лабораторное заняти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утешестви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пектакль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Аукцион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у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Турни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Видеоурок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иностуд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руглый стол и др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Times New Roman"/>
              </a:rPr>
              <a:t>КЛАССИФИКАЦИЯ НЕТРАДИЦИОННЫХ   УРОКОВ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2920" y="256500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Урок-образ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Урок логического мышлен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Урок настроен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Урок самостоятельного действ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Урок актуализации и проповед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755640" y="184464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Шоган В.В. УРОКИ ИСТОРИИ НОВОГО ПОКОЛЕНИЯ. /ФЕНИКС, 2005/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Times New Roman"/>
              </a:rPr>
              <a:t>РЕКОМЕНДАЦИИ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Нетрадиционные уроки лучше проводить как итоговы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Для успешной подготовки урока учитель должен хорошо знать предмет и методику, творчески подойти к работ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Слишком частое обращение к подобным формам урока нецелесообразно, так как нетрадиционное может быстро стать традиционны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Times New Roman"/>
              </a:rPr>
              <a:t>ИЗ  ОПЫТА  РАБОТЫ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900000" y="1471680"/>
            <a:ext cx="82440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Times New Roman"/>
              </a:rPr>
              <a:t>Идея:</a:t>
            </a:r>
            <a:r>
              <a:rPr b="0" i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создание системы нетрадиционных уроков в рамках профильного обучения и воспитательной системы класс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Times New Roman"/>
              </a:rPr>
              <a:t>Цель:</a:t>
            </a:r>
            <a:r>
              <a:rPr b="0" i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повышение эффективности уроков, активизация познавательного интереса учащихся, развитие их самостоятельности и творческих способностей, социализация школьников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Times New Roman"/>
              </a:rPr>
              <a:t>Условия реализации:</a:t>
            </a:r>
            <a:r>
              <a:rPr b="0" i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отбор актуальных задач, использование современных технологий преподавания, личностный подход и мастерство учител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Times New Roman"/>
              </a:rPr>
              <a:t>Ожидаемый результат:</a:t>
            </a:r>
            <a:r>
              <a:rPr b="0" i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воспитание личности – индивидуальной и неповторимой, с широким кругозором и коллективистской направленностью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6:01:52Z</dcterms:created>
  <dc:creator>User</dc:creator>
  <dc:description/>
  <dc:language>en-US</dc:language>
  <cp:lastModifiedBy>Елена</cp:lastModifiedBy>
  <dcterms:modified xsi:type="dcterms:W3CDTF">2016-01-27T11:35:40Z</dcterms:modified>
  <cp:revision>19</cp:revision>
  <dc:subject/>
  <dc:title>НЕТРАДИЦИОННЫЙ УРОК   ИСТОРИИ</dc:title>
</cp:coreProperties>
</file>