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F556-B9D0-4651-A179-5FBEF27DA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BC0F-A911-435E-997D-A35F20D2B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230C-CBE6-491C-A837-EA858E412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344B-F25C-4AA4-BB37-90019B85E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598EB-AC82-4B8E-BF9A-7F61CE92A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03864-6B85-4EF1-BA5F-06603F485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5C1C4-A529-41FE-B34F-F68475387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D8627-FB2C-4068-ACDA-0969C953F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92778-1D21-4F68-A1D4-2D97C1D8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EA366-7BAD-4189-B1D3-4414B189E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11145-3E60-4DAF-B16C-68D35B0C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D114-FCAF-4FEC-81A3-5C2EEC284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A0DA1-4311-49C5-B7E1-24B4A59F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2AA49-58DF-413E-BEC7-C58CDB00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B4304-8612-4119-9171-3CA8D611A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BD700-6957-42A3-897D-F49137A89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D8D39-8D79-4C3B-BD02-423EB1BC3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4410-1B8C-4D08-9EAB-70F5FC54D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A53A-227E-4B76-9966-3BA79DB35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9EA3-AF4B-411D-8DA3-9B5251679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C6B1-3328-4522-BED9-7172D91D3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A6E3-F3CE-48AD-B080-ECAB9369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FE72-DC87-4083-AC53-0CC7A8DC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9EE2-B0D3-456F-A093-B101F4CC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657C5-AA6E-45C2-BE43-B42F7000389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Group 9"/>
            <p:cNvGrpSpPr/>
            <p:nvPr/>
          </p:nvGrpSpPr>
          <p:grpSpPr>
            <a:xfrm>
              <a:off x="0" y="0"/>
              <a:ext cx="950760" cy="6856560"/>
              <a:chOff x="0" y="0"/>
              <a:chExt cx="950760" cy="685656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Arc 17"/>
              <p:cNvSpPr/>
              <p:nvPr/>
            </p:nvSpPr>
            <p:spPr>
              <a:xfrm>
                <a:off x="752400" y="3587760"/>
                <a:ext cx="198360" cy="1832040"/>
              </a:xfrm>
              <a:custGeom>
                <a:avLst/>
                <a:gdLst/>
                <a:ahLst/>
                <a:rect l="l" t="t" r="r" b="b"/>
                <a:pathLst>
                  <a:path fill="none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</a:path>
                  <a:path stroke="0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  <a:lnTo>
                      <a:pt x="754" y="2160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6" name="Oval 18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354e"/>
                </a:gs>
                <a:gs pos="100000">
                  <a:srgbClr val="0066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" name="Rectangle 20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"/>
          <p:cNvGrpSpPr/>
          <p:nvPr/>
        </p:nvGrpSpPr>
        <p:grpSpPr>
          <a:xfrm>
            <a:off x="-1402200" y="-608760"/>
            <a:ext cx="10544760" cy="8964720"/>
            <a:chOff x="-1402200" y="-608760"/>
            <a:chExt cx="10544760" cy="8964720"/>
          </a:xfrm>
        </p:grpSpPr>
        <p:grpSp>
          <p:nvGrpSpPr>
            <p:cNvPr id="56" name="Group 3"/>
            <p:cNvGrpSpPr/>
            <p:nvPr/>
          </p:nvGrpSpPr>
          <p:grpSpPr>
            <a:xfrm>
              <a:off x="-1402200" y="-608760"/>
              <a:ext cx="9065880" cy="8964720"/>
              <a:chOff x="-1402200" y="-608760"/>
              <a:chExt cx="9065880" cy="8964720"/>
            </a:xfrm>
          </p:grpSpPr>
          <p:grpSp>
            <p:nvGrpSpPr>
              <p:cNvPr id="57" name="Group 4"/>
              <p:cNvGrpSpPr/>
              <p:nvPr/>
            </p:nvGrpSpPr>
            <p:grpSpPr>
              <a:xfrm>
                <a:off x="-1402200" y="-608760"/>
                <a:ext cx="9065880" cy="8964720"/>
                <a:chOff x="-1402200" y="-608760"/>
                <a:chExt cx="9065880" cy="8964720"/>
              </a:xfrm>
            </p:grpSpPr>
            <p:sp>
              <p:nvSpPr>
                <p:cNvPr id="58" name="AutoShape 5"/>
                <p:cNvSpPr/>
                <p:nvPr/>
              </p:nvSpPr>
              <p:spPr>
                <a:xfrm rot="12360000">
                  <a:off x="-294840" y="556920"/>
                  <a:ext cx="685152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AutoShape 6"/>
                <p:cNvSpPr/>
                <p:nvPr/>
              </p:nvSpPr>
              <p:spPr>
                <a:xfrm rot="12360000">
                  <a:off x="1101240" y="1909800"/>
                  <a:ext cx="405792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Rectangle 7"/>
                <p:cNvSpPr/>
                <p:nvPr/>
              </p:nvSpPr>
              <p:spPr>
                <a:xfrm rot="12360000">
                  <a:off x="357012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Oval 8"/>
                <p:cNvSpPr/>
                <p:nvPr/>
              </p:nvSpPr>
              <p:spPr>
                <a:xfrm rot="12360000">
                  <a:off x="20509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Rectangle 9"/>
                <p:cNvSpPr/>
                <p:nvPr/>
              </p:nvSpPr>
              <p:spPr>
                <a:xfrm rot="12360000">
                  <a:off x="376632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Rectangle 10"/>
                <p:cNvSpPr/>
                <p:nvPr/>
              </p:nvSpPr>
              <p:spPr>
                <a:xfrm rot="12360000">
                  <a:off x="30589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Arc 11"/>
                <p:cNvSpPr/>
                <p:nvPr/>
              </p:nvSpPr>
              <p:spPr>
                <a:xfrm rot="10485000">
                  <a:off x="2004120" y="3555360"/>
                  <a:ext cx="1148040" cy="1359000"/>
                </a:xfrm>
                <a:custGeom>
                  <a:avLst/>
                  <a:gdLst/>
                  <a:ahLst/>
                  <a:rect l="l" t="t" r="r" b="b"/>
                  <a:pathLst>
                    <a:path fill="none" w="43118" h="23858">
                      <a:moveTo>
                        <a:pt x="-22537" y="0"/>
                      </a:moveTo>
                      <a:cubicBezTo>
                        <a:pt x="-22458" y="750"/>
                        <a:pt x="-22418" y="1503"/>
                        <a:pt x="-22418" y="2258"/>
                      </a:cubicBezTo>
                      <a:cubicBezTo>
                        <a:pt x="-22418" y="14187"/>
                        <a:pt x="-32089" y="23858"/>
                        <a:pt x="21518" y="23858"/>
                      </a:cubicBezTo>
                      <a:cubicBezTo>
                        <a:pt x="10318" y="23858"/>
                        <a:pt x="976" y="15297"/>
                        <a:pt x="0" y="4140"/>
                      </a:cubicBezTo>
                    </a:path>
                    <a:path stroke="0" w="43118" h="23858">
                      <a:moveTo>
                        <a:pt x="-22537" y="0"/>
                      </a:moveTo>
                      <a:cubicBezTo>
                        <a:pt x="-22458" y="750"/>
                        <a:pt x="-22418" y="1503"/>
                        <a:pt x="-22418" y="2258"/>
                      </a:cubicBezTo>
                      <a:cubicBezTo>
                        <a:pt x="-22418" y="14187"/>
                        <a:pt x="-32089" y="23858"/>
                        <a:pt x="21518" y="23858"/>
                      </a:cubicBezTo>
                      <a:cubicBezTo>
                        <a:pt x="10318" y="23858"/>
                        <a:pt x="976" y="15297"/>
                        <a:pt x="0" y="4140"/>
                      </a:cubicBezTo>
                      <a:lnTo>
                        <a:pt x="21518" y="2258"/>
                      </a:lnTo>
                      <a:lnTo>
                        <a:pt x="-22537" y="0"/>
                      </a:lnTo>
                      <a:close/>
                    </a:path>
                  </a:pathLst>
                </a:cu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Freeform 12"/>
                <p:cNvSpPr/>
                <p:nvPr/>
              </p:nvSpPr>
              <p:spPr>
                <a:xfrm>
                  <a:off x="2063880" y="2181240"/>
                  <a:ext cx="1643040" cy="3186000"/>
                </a:xfrm>
                <a:custGeom>
                  <a:avLst/>
                  <a:gdLst/>
                  <a:ahLst/>
                  <a:rect l="l" t="t" r="r" b="b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" name="Freeform 13"/>
              <p:cNvSpPr/>
              <p:nvPr/>
            </p:nvSpPr>
            <p:spPr>
              <a:xfrm>
                <a:off x="3886200" y="2873520"/>
                <a:ext cx="514440" cy="366480"/>
              </a:xfrm>
              <a:custGeom>
                <a:avLst/>
                <a:gdLst/>
                <a:ahLst/>
                <a:rect l="l" t="t" r="r" b="b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7" name="Rectangle 14"/>
            <p:cNvSpPr/>
            <p:nvPr/>
          </p:nvSpPr>
          <p:spPr>
            <a:xfrm>
              <a:off x="1219320" y="1143000"/>
              <a:ext cx="792324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044FE-5C11-4259-9EF4-E12344F23927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3640" y="549360"/>
            <a:ext cx="84978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66"/>
                </a:solidFill>
                <a:latin typeface="Times New Roman"/>
              </a:rPr>
              <a:t>НЕТРАДИЦИОННЫЙ УРОК   ИСТОРИИ</a:t>
            </a:r>
            <a:endParaRPr b="0" lang="en-US" sz="6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68360" y="3886200"/>
            <a:ext cx="79912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Из опыта работы                                        Серяковой Елены Владимировны,          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учителя истории и обществознания             МКОУ СОШ №12 с.Турксад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66"/>
                </a:solidFill>
                <a:latin typeface="Times New Roman"/>
              </a:rPr>
              <a:t>ИЗ  ОПЫТА  РАБОТЫ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1905120"/>
            <a:ext cx="8024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Урок истории по теме                                      </a:t>
            </a:r>
            <a:r>
              <a:rPr b="0" i="1" lang="ru-RU" sz="3200" spc="-1" strike="noStrike">
                <a:solidFill>
                  <a:srgbClr val="ffff66"/>
                </a:solidFill>
                <a:latin typeface="Times New Roman"/>
              </a:rPr>
              <a:t>« Древнейшая Греция»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                 </a:t>
            </a: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(5 класс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1116000" y="3787200"/>
            <a:ext cx="78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Урок проводится в форме </a:t>
            </a:r>
            <a:r>
              <a:rPr b="0" i="1" lang="ru-RU" sz="2800" spc="-1" strike="noStrike" u="sng">
                <a:solidFill>
                  <a:srgbClr val="ffff66"/>
                </a:solidFill>
                <a:uFillTx/>
                <a:latin typeface="Times New Roman"/>
              </a:rPr>
              <a:t>устного журнала</a:t>
            </a: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 и требует предварительной подготовки: составление кроссвордов, а также подготовки отдельными учащимися сообщений по теме, изготовления наглядного материала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8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3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99640" y="228240"/>
            <a:ext cx="80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66"/>
                </a:solidFill>
                <a:latin typeface="Times New Roman"/>
              </a:rPr>
              <a:t>ГЕОГРАФИЧЕСКАЯ  СТРАНИЧКА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00000" y="19162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ff66"/>
                </a:solidFill>
                <a:uFillTx/>
                <a:latin typeface="Times New Roman"/>
              </a:rPr>
              <a:t>Откроем географическую страницу.                    </a:t>
            </a:r>
            <a:r>
              <a:rPr b="0" lang="ru-RU" sz="2400" spc="-1" strike="noStrike">
                <a:solidFill>
                  <a:srgbClr val="ffff66"/>
                </a:solidFill>
                <a:latin typeface="Times New Roman"/>
              </a:rPr>
              <a:t>Ученик работает у карты и прикрепляет заранее подготовленные условные знаки к тем городам, которые входили в состав Греции. Затем комментирует свои действия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8" name="Picture 5" descr="C:\Users\Елена\Desktop\DSCN2493.JPG"/>
          <p:cNvPicPr/>
          <p:nvPr/>
        </p:nvPicPr>
        <p:blipFill>
          <a:blip r:embed="rId1"/>
          <a:stretch/>
        </p:blipFill>
        <p:spPr>
          <a:xfrm>
            <a:off x="4788000" y="242100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66"/>
                </a:solidFill>
                <a:latin typeface="Times New Roman"/>
              </a:rPr>
              <a:t>ИНТЕРВЬЮ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55280" y="1700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ff66"/>
                </a:solidFill>
                <a:uFillTx/>
                <a:latin typeface="Times New Roman"/>
              </a:rPr>
              <a:t>Интервью с жителем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ff66"/>
                </a:solidFill>
                <a:uFillTx/>
                <a:latin typeface="Times New Roman"/>
              </a:rPr>
              <a:t>Древней Греции.</a:t>
            </a:r>
            <a:r>
              <a:rPr b="0" i="1" lang="ru-RU" sz="2400" spc="-1" strike="noStrike">
                <a:solidFill>
                  <a:srgbClr val="ffff66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Bookman Old Style"/>
              </a:rPr>
              <a:t>Опишете природные условия Древней Греции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66"/>
                </a:solidFill>
                <a:latin typeface="Bookman Old Style"/>
              </a:rPr>
              <a:t>Природа Греции очень живописна. Обилие солнца и мягкий климат создают благоприятные условия для жизни и деятельности человека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5624640" y="4292640"/>
            <a:ext cx="1734840" cy="2149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C:\Users\Елена\Desktop\DSCN2487.JPG"/>
          <p:cNvPicPr/>
          <p:nvPr/>
        </p:nvPicPr>
        <p:blipFill>
          <a:blip r:embed="rId2"/>
          <a:stretch/>
        </p:blipFill>
        <p:spPr>
          <a:xfrm>
            <a:off x="4500720" y="1197000"/>
            <a:ext cx="398304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66"/>
                </a:solidFill>
                <a:latin typeface="Times New Roman"/>
              </a:rPr>
              <a:t>УЧЕНИЧЕСКАЯ  СТРАНИЧКА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15640" y="1699920"/>
            <a:ext cx="3809880" cy="554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В древности греки плавали главным образом вдоль берегов и избегали выходить в открытое море. Почему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99"/>
                </a:solidFill>
                <a:latin typeface="Arial"/>
              </a:rPr>
              <a:t>Штормы и бури были опасны маленьким деревянным судам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99"/>
                </a:solidFill>
                <a:latin typeface="Arial"/>
              </a:rPr>
              <a:t>Без компаса, который в древности был известен одним китайцам легко заблудиться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99"/>
                </a:solidFill>
                <a:latin typeface="Arial"/>
              </a:rPr>
              <a:t>Запасы воды и продовольствия часто приходилось пополнять: корабль имел небольшие размеры и довольно много гребцов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5" name="Picture 5" descr=""/>
          <p:cNvPicPr/>
          <p:nvPr/>
        </p:nvPicPr>
        <p:blipFill>
          <a:blip r:embed="rId1"/>
          <a:stretch/>
        </p:blipFill>
        <p:spPr>
          <a:xfrm>
            <a:off x="5292720" y="1989000"/>
            <a:ext cx="3298680" cy="1871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"/>
          <p:cNvPicPr/>
          <p:nvPr/>
        </p:nvPicPr>
        <p:blipFill>
          <a:blip r:embed="rId2"/>
          <a:stretch/>
        </p:blipFill>
        <p:spPr>
          <a:xfrm>
            <a:off x="5335560" y="4076640"/>
            <a:ext cx="3255840" cy="18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 Black"/>
              </a:rPr>
              <a:t>Ученическая страничка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9" name="Picture 2" descr="C:\Users\Елена\Desktop\DSCN2491.JPG"/>
          <p:cNvPicPr/>
          <p:nvPr/>
        </p:nvPicPr>
        <p:blipFill>
          <a:blip r:embed="rId1"/>
          <a:stretch/>
        </p:blipFill>
        <p:spPr>
          <a:xfrm>
            <a:off x="1258920" y="1989000"/>
            <a:ext cx="3744720" cy="35276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C:\Users\Елена\Desktop\DSCN2492.JPG"/>
          <p:cNvPicPr/>
          <p:nvPr/>
        </p:nvPicPr>
        <p:blipFill>
          <a:blip r:embed="rId2"/>
          <a:stretch/>
        </p:blipFill>
        <p:spPr>
          <a:xfrm>
            <a:off x="5257800" y="2205000"/>
            <a:ext cx="3809880" cy="31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66"/>
                </a:solidFill>
                <a:latin typeface="Times New Roman"/>
              </a:rPr>
              <a:t>РЕКЛАМА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71280" y="1484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66"/>
                </a:solidFill>
                <a:latin typeface="Times New Roman"/>
              </a:rPr>
              <a:t>Следующая страница –рекламная.</a:t>
            </a: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 Ученики представляют рекламу изготовления вина в любой форме, а также рекламируют оливковое масло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3" name="Picture 7" descr=""/>
          <p:cNvPicPr/>
          <p:nvPr/>
        </p:nvPicPr>
        <p:blipFill>
          <a:blip r:embed="rId1"/>
          <a:stretch/>
        </p:blipFill>
        <p:spPr>
          <a:xfrm>
            <a:off x="2666880" y="1297080"/>
            <a:ext cx="3810240" cy="4114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C:\Users\Елена\Desktop\DSCN2486.JPG"/>
          <p:cNvPicPr/>
          <p:nvPr/>
        </p:nvPicPr>
        <p:blipFill>
          <a:blip r:embed="rId2"/>
          <a:stretch/>
        </p:blipFill>
        <p:spPr>
          <a:xfrm>
            <a:off x="5076720" y="1700280"/>
            <a:ext cx="338292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66"/>
                </a:solidFill>
                <a:latin typeface="Times New Roman"/>
              </a:rPr>
              <a:t>НА   ДОСУГЕ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66"/>
                </a:solidFill>
                <a:latin typeface="Times New Roman"/>
              </a:rPr>
              <a:t>Заключительная страница –               На досуге.                     </a:t>
            </a:r>
            <a:r>
              <a:rPr b="0" lang="ru-RU" sz="2400" spc="-1" strike="noStrike">
                <a:solidFill>
                  <a:srgbClr val="ffff66"/>
                </a:solidFill>
                <a:latin typeface="Times New Roman"/>
              </a:rPr>
              <a:t>На этом этапе урока подводятся итоги конкурса кроссвордов и чтение мифов Древней Греции. </a:t>
            </a: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Миф о Тесее и минотавре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5148360" y="2133720"/>
            <a:ext cx="380988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900000" y="1844640"/>
            <a:ext cx="80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66"/>
                </a:solidFill>
                <a:latin typeface="Times New Roman"/>
              </a:rPr>
              <a:t>СПАСИБО                                ЗА  ВНИМАНИЕ !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99"/>
                </a:solidFill>
                <a:latin typeface="Times New Roman"/>
              </a:rPr>
              <a:t>НЕТРАДИЦИОННЫЙ  УРОК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42560" y="1197000"/>
            <a:ext cx="81010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66"/>
                </a:solidFill>
                <a:latin typeface="Times New Roman"/>
              </a:rPr>
              <a:t>Способствует развитию инициативы и коммуникативных навыков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66"/>
                </a:solidFill>
                <a:latin typeface="Times New Roman"/>
              </a:rPr>
              <a:t>Приближает школьное обучение к жизни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66"/>
                </a:solidFill>
                <a:latin typeface="Times New Roman"/>
              </a:rPr>
              <a:t>Предполагает самостоятельный поиск средств и способов решения задач, связанных с реальными ситуациями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66"/>
                </a:solidFill>
                <a:latin typeface="Times New Roman"/>
              </a:rPr>
              <a:t>Искореняет негативные явления традиционного обучения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99"/>
                </a:solidFill>
                <a:latin typeface="Times New Roman"/>
              </a:rPr>
              <a:t>НЕТРАДИЦИОННЫЙ  УРОК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971640" y="1989000"/>
            <a:ext cx="7956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66"/>
                </a:solidFill>
                <a:latin typeface="Times New Roman"/>
              </a:rPr>
              <a:t>В литературе характеризуется как форма специально организованного общения, психологическое воздействие которого основано на активных методах обучения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66"/>
                </a:solidFill>
                <a:latin typeface="Times New Roman"/>
              </a:rPr>
              <a:t>КЛАССИФИКАЦИЯ НЕТРАДИЦИОННЫХ   УРОКОВ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116000" y="2349360"/>
          <a:ext cx="7597800" cy="3962520"/>
        </p:xfrm>
        <a:graphic>
          <a:graphicData uri="http://schemas.openxmlformats.org/drawingml/2006/table">
            <a:tbl>
              <a:tblPr/>
              <a:tblGrid>
                <a:gridCol w="2054160"/>
                <a:gridCol w="2532240"/>
                <a:gridCol w="3011400"/>
              </a:tblGrid>
              <a:tr h="395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Типы уроков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Виды уроков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Принцип создания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Урок изучения нового материал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Концерт, Спектакль, Путешествие, Турнир, Конференция, Видеоурок и др.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Воспроизведение типичных атрибутов изучаемой эпохи, эффектный способ преподнесения темы.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Повторительно-обобщающий урок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Интервью, Суд, Дискуссия, Исторический портрет, Проблемный  урок и др.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Создание эффекта личного присутствия через анализ деятельности исторических лиц.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Контрольный урок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КВН, Аукцион, Викторина, Конкурс знатоков, Олимпиада.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Игровые способы проверки знаний и умений.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Text Box 39"/>
          <p:cNvSpPr/>
          <p:nvPr/>
        </p:nvSpPr>
        <p:spPr>
          <a:xfrm>
            <a:off x="1187280" y="170028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Times New Roman"/>
              </a:rPr>
              <a:t>Вяземский Е.Е., Стрелова О.Ю. ТЕОРИЯ И МЕТОДИКА ПРЕПОДАВАНИЯ ИСТОРИИ. /ВЛАДОС, 2003/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66"/>
                </a:solidFill>
                <a:latin typeface="Times New Roman"/>
              </a:rPr>
              <a:t>КЛАССИФИКАЦИЯ НЕТРАДИЦИОННЫХ   УРОКОВ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42920" y="3357360"/>
            <a:ext cx="7772400" cy="241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Школьная лекция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Лабораторное заняти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Семинарское заняти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Практическое заняти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258920" y="184464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1258920" y="184464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Times New Roman"/>
              </a:rPr>
              <a:t>Вяземский Е.Е., Стрелова О.Ю. ТЕОРИЯ И МЕТОДИКА ПРЕПОДАВАНИЯ ИСТОРИИ. /ВЛАДОС, 2003/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1187280" y="270828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66"/>
                </a:solidFill>
                <a:latin typeface="Times New Roman"/>
              </a:rPr>
              <a:t>АЛЬТЕРНАТИВЫ    УРОКУ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66"/>
                </a:solidFill>
                <a:latin typeface="Times New Roman"/>
              </a:rPr>
              <a:t>КЛАССИФИКАЦИЯ НЕТРАДИЦИОННЫХ   УРОКОВ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1332000" y="177336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Times New Roman"/>
              </a:rPr>
              <a:t>Короткова М.В., Студеникин М.Т. МЕТОДИКА ОБУЧЕНИЯ ИСТОРИИ В СХЕМАХ, ТАБЛИЦАХ, ОПИСАНИЯХ. /ВЛАДОС, 1999/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042920" y="2708280"/>
          <a:ext cx="7772400" cy="375588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12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Традиционные формы урок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Нетрадиционные формы урок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342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Лекция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Семинар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Практикум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Экскурсия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Конференция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Лабораторное занятие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Путешествие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Спектакль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Аукцион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Суд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Турнир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Видеоурок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Киностудия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Круглый стол и др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66"/>
                </a:solidFill>
                <a:latin typeface="Times New Roman"/>
              </a:rPr>
              <a:t>КЛАССИФИКАЦИЯ НЕТРАДИЦИОННЫХ   УРОКОВ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42920" y="2565000"/>
            <a:ext cx="7772400" cy="30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Урок-образ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Урок логического мышления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Урок настроения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Урок самостоятельного действия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Урок актуализации и проповед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755640" y="184464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Times New Roman"/>
              </a:rPr>
              <a:t>Шоган В.В. УРОКИ ИСТОРИИ НОВОГО ПОКОЛЕНИЯ. /ФЕНИКС, 2005/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66"/>
                </a:solidFill>
                <a:latin typeface="Times New Roman"/>
              </a:rPr>
              <a:t>РЕКОМЕНДАЦИИ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42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Нетрадиционные уроки лучше проводить как итоговые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Для успешной подготовки урока учитель должен хорошо знать предмет и методику, творчески подойти к работе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Слишком частое обращение к подобным формам урока нецелесообразно, так как нетрадиционное может быстро стать традиционным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66"/>
                </a:solidFill>
                <a:latin typeface="Times New Roman"/>
              </a:rPr>
              <a:t>ИЗ  ОПЫТА  РАБОТЫ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900000" y="1471680"/>
            <a:ext cx="824400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66"/>
                </a:solidFill>
                <a:latin typeface="Times New Roman"/>
              </a:rPr>
              <a:t>Идея:</a:t>
            </a:r>
            <a:r>
              <a:rPr b="0" i="1" lang="ru-RU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66"/>
                </a:solidFill>
                <a:latin typeface="Times New Roman"/>
              </a:rPr>
              <a:t>создание системы нетрадиционных уроков в рамках профильного обучения и воспитательной системы класса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66"/>
                </a:solidFill>
                <a:latin typeface="Times New Roman"/>
              </a:rPr>
              <a:t>Цель:</a:t>
            </a:r>
            <a:r>
              <a:rPr b="0" i="1" lang="ru-RU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66"/>
                </a:solidFill>
                <a:latin typeface="Times New Roman"/>
              </a:rPr>
              <a:t>повышение эффективности уроков, активизация познавательного интереса учащихся, развитие их самостоятельности и творческих способностей, социализация школьников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66"/>
                </a:solidFill>
                <a:latin typeface="Times New Roman"/>
              </a:rPr>
              <a:t>Условия реализации:</a:t>
            </a:r>
            <a:r>
              <a:rPr b="0" i="1" lang="ru-RU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66"/>
                </a:solidFill>
                <a:latin typeface="Times New Roman"/>
              </a:rPr>
              <a:t>отбор актуальных задач, использование современных технологий преподавания, личностный подход и мастерство учителя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66"/>
                </a:solidFill>
                <a:latin typeface="Times New Roman"/>
              </a:rPr>
              <a:t>Ожидаемый результат:</a:t>
            </a:r>
            <a:r>
              <a:rPr b="0" i="1" lang="ru-RU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66"/>
                </a:solidFill>
                <a:latin typeface="Times New Roman"/>
              </a:rPr>
              <a:t>воспитание личности – индивидуальной и неповторимой, с широким кругозором и коллективистской направленностью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8T16:01:52Z</dcterms:created>
  <dc:creator>User</dc:creator>
  <dc:description/>
  <dc:language>en-US</dc:language>
  <cp:lastModifiedBy>Елена</cp:lastModifiedBy>
  <dcterms:modified xsi:type="dcterms:W3CDTF">2016-01-27T11:35:40Z</dcterms:modified>
  <cp:revision>19</cp:revision>
  <dc:subject/>
  <dc:title>НЕТРАДИЦИОННЫЙ УРОК   ИСТОРИИ</dc:title>
</cp:coreProperties>
</file>