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31A0-2116-4C0C-800D-FD16477B7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948A-BF21-4938-877D-4A1E25D02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E1C7-4EA3-406B-AC35-33682A84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8D9-1DE4-44DF-BCAF-B8F333FE7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291B-1361-4BF3-BBCF-BBB853AB2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A4177-A538-4F0B-B297-6BF5E4677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ECFC-5C37-4DA6-8394-F76D57B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35BB-1A45-4DEC-B54A-5CFDD3FBC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3BB6-E39A-4F9F-B126-64A8D80C4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B259-C4C6-42DA-B083-FA7A22ED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896C-3E7D-456E-B2AD-3AB9BE04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D43-EF61-4E90-A978-C9C81306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2E5A6-F3DE-4D8B-9BEB-D83CDA2A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5D2-DD39-4346-A8D1-AD1AF746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3DE6-1D4E-4FDB-8030-62292C680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3E74A-0B89-4D2E-9377-3CBAB9FD8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232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509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295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232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509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7E5A8-4BEC-4E0E-8F5E-AA6EF4FD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47E9-CDCE-4268-A3EF-F6E313F9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0E79-5977-43BC-AADC-56CE415E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9E5C-266C-4CB6-BB98-0AD32A5A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7BB1-A5C8-4166-ABF8-0743AAEA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18A0-B8ED-4D8F-91F6-40FC85284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779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2696-24DF-4B86-BF3A-524E8E48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952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F82A-65F9-473D-B7D9-04914069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784A-3ADB-48C5-A45D-170074DCFB8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Group 9"/>
            <p:cNvGrpSpPr/>
            <p:nvPr/>
          </p:nvGrpSpPr>
          <p:grpSpPr>
            <a:xfrm>
              <a:off x="0" y="0"/>
              <a:ext cx="950760" cy="6856560"/>
              <a:chOff x="0" y="0"/>
              <a:chExt cx="950760" cy="685656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Arc 17"/>
              <p:cNvSpPr/>
              <p:nvPr/>
            </p:nvSpPr>
            <p:spPr>
              <a:xfrm>
                <a:off x="752400" y="3587760"/>
                <a:ext cx="198360" cy="1832040"/>
              </a:xfrm>
              <a:custGeom>
                <a:avLst/>
                <a:gdLst/>
                <a:ahLst/>
                <a:rect l="l" t="t" r="r" b="b"/>
                <a:pathLst>
                  <a:path fill="none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</a:path>
                  <a:path stroke="0" w="22354" h="43200">
                    <a:moveTo>
                      <a:pt x="0" y="13"/>
                    </a:moveTo>
                    <a:cubicBezTo>
                      <a:pt x="251" y="4"/>
                      <a:pt x="502" y="-1"/>
                      <a:pt x="754" y="0"/>
                    </a:cubicBezTo>
                    <a:cubicBezTo>
                      <a:pt x="12683" y="0"/>
                      <a:pt x="22354" y="9670"/>
                      <a:pt x="22354" y="21600"/>
                    </a:cubicBezTo>
                    <a:cubicBezTo>
                      <a:pt x="22354" y="33529"/>
                      <a:pt x="12683" y="43199"/>
                      <a:pt x="754" y="43200"/>
                    </a:cubicBezTo>
                    <a:lnTo>
                      <a:pt x="754" y="2160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Oval 18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354e"/>
                </a:gs>
                <a:gs pos="100000">
                  <a:srgbClr val="0066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Rectangle 20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-1402200" y="-608760"/>
            <a:ext cx="10544760" cy="8964720"/>
            <a:chOff x="-1402200" y="-608760"/>
            <a:chExt cx="10544760" cy="8964720"/>
          </a:xfrm>
        </p:grpSpPr>
        <p:grpSp>
          <p:nvGrpSpPr>
            <p:cNvPr id="56" name="Group 3"/>
            <p:cNvGrpSpPr/>
            <p:nvPr/>
          </p:nvGrpSpPr>
          <p:grpSpPr>
            <a:xfrm>
              <a:off x="-1402200" y="-608760"/>
              <a:ext cx="9065880" cy="8964720"/>
              <a:chOff x="-1402200" y="-608760"/>
              <a:chExt cx="9065880" cy="8964720"/>
            </a:xfrm>
          </p:grpSpPr>
          <p:grpSp>
            <p:nvGrpSpPr>
              <p:cNvPr id="57" name="Group 4"/>
              <p:cNvGrpSpPr/>
              <p:nvPr/>
            </p:nvGrpSpPr>
            <p:grpSpPr>
              <a:xfrm>
                <a:off x="-1402200" y="-608760"/>
                <a:ext cx="9065880" cy="8964720"/>
                <a:chOff x="-1402200" y="-608760"/>
                <a:chExt cx="9065880" cy="8964720"/>
              </a:xfrm>
            </p:grpSpPr>
            <p:sp>
              <p:nvSpPr>
                <p:cNvPr id="58" name="AutoShape 5"/>
                <p:cNvSpPr/>
                <p:nvPr/>
              </p:nvSpPr>
              <p:spPr>
                <a:xfrm rot="12360000">
                  <a:off x="-294840" y="556920"/>
                  <a:ext cx="685152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AutoShape 6"/>
                <p:cNvSpPr/>
                <p:nvPr/>
              </p:nvSpPr>
              <p:spPr>
                <a:xfrm rot="12360000">
                  <a:off x="1101240" y="1909800"/>
                  <a:ext cx="405792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Rectangle 7"/>
                <p:cNvSpPr/>
                <p:nvPr/>
              </p:nvSpPr>
              <p:spPr>
                <a:xfrm rot="12360000">
                  <a:off x="357012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Oval 8"/>
                <p:cNvSpPr/>
                <p:nvPr/>
              </p:nvSpPr>
              <p:spPr>
                <a:xfrm rot="12360000">
                  <a:off x="20509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Rectangle 9"/>
                <p:cNvSpPr/>
                <p:nvPr/>
              </p:nvSpPr>
              <p:spPr>
                <a:xfrm rot="12360000">
                  <a:off x="376632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Rectangle 10"/>
                <p:cNvSpPr/>
                <p:nvPr/>
              </p:nvSpPr>
              <p:spPr>
                <a:xfrm rot="12360000">
                  <a:off x="30589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Arc 11"/>
                <p:cNvSpPr/>
                <p:nvPr/>
              </p:nvSpPr>
              <p:spPr>
                <a:xfrm rot="10485000">
                  <a:off x="2004120" y="3555360"/>
                  <a:ext cx="1148040" cy="1359000"/>
                </a:xfrm>
                <a:custGeom>
                  <a:avLst/>
                  <a:gdLst/>
                  <a:ahLst/>
                  <a:rect l="l" t="t" r="r" b="b"/>
                  <a:pathLst>
                    <a:path fill="none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</a:path>
                    <a:path stroke="0" w="43118" h="23858">
                      <a:moveTo>
                        <a:pt x="-22537" y="0"/>
                      </a:moveTo>
                      <a:cubicBezTo>
                        <a:pt x="-22458" y="750"/>
                        <a:pt x="-22418" y="1503"/>
                        <a:pt x="-22418" y="2258"/>
                      </a:cubicBezTo>
                      <a:cubicBezTo>
                        <a:pt x="-22418" y="14187"/>
                        <a:pt x="-32089" y="23858"/>
                        <a:pt x="21518" y="23858"/>
                      </a:cubicBezTo>
                      <a:cubicBezTo>
                        <a:pt x="10318" y="23858"/>
                        <a:pt x="976" y="15297"/>
                        <a:pt x="0" y="4140"/>
                      </a:cubicBezTo>
                      <a:lnTo>
                        <a:pt x="21518" y="2258"/>
                      </a:lnTo>
                      <a:lnTo>
                        <a:pt x="-22537" y="0"/>
                      </a:lnTo>
                      <a:close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Freeform 12"/>
                <p:cNvSpPr/>
                <p:nvPr/>
              </p:nvSpPr>
              <p:spPr>
                <a:xfrm>
                  <a:off x="20638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" name="Freeform 13"/>
              <p:cNvSpPr/>
              <p:nvPr/>
            </p:nvSpPr>
            <p:spPr>
              <a:xfrm>
                <a:off x="388620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7" name="Rectangle 14"/>
            <p:cNvSpPr/>
            <p:nvPr/>
          </p:nvSpPr>
          <p:spPr>
            <a:xfrm>
              <a:off x="1219320" y="1143000"/>
              <a:ext cx="792324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2952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63590-FE32-4265-967A-2EB33346830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4978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66"/>
                </a:solidFill>
                <a:latin typeface="Times New Roman"/>
              </a:rPr>
              <a:t>НЕТРАДИЦИОННЫЙ УРОК   ИСТОРИИ</a:t>
            </a:r>
            <a:endParaRPr b="0" lang="en-US" sz="6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91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Из опыта работы                                        Серяковой Елены Владимировны,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99"/>
                </a:solidFill>
                <a:latin typeface="Times New Roman"/>
              </a:rPr>
              <a:t>учителя истории и обществознания             МКОУ СОШ №12 с.Турксад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1905120"/>
            <a:ext cx="8024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истории по теме                                      </a:t>
            </a: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« Древнейшая Греция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                 </a:t>
            </a: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(5 класс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16000" y="3787200"/>
            <a:ext cx="78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Урок проводится в форме </a:t>
            </a:r>
            <a:r>
              <a:rPr b="0" i="1" lang="ru-RU" sz="2800" spc="-1" strike="noStrike" u="sng">
                <a:solidFill>
                  <a:srgbClr val="ffff66"/>
                </a:solidFill>
                <a:uFillTx/>
                <a:latin typeface="Times New Roman"/>
              </a:rPr>
              <a:t>устного журнала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и требует предварительной подготовки: составление кроссвордов, а также подготовки отдельными учащимися сообщений по теме, изготовления наглядного материала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8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3" dur="2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99640" y="22824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66"/>
                </a:solidFill>
                <a:latin typeface="Times New Roman"/>
              </a:rPr>
              <a:t>ГЕОГРАФИЧЕСКАЯ  СТРАНИЧКА</a:t>
            </a:r>
            <a:endParaRPr b="0" lang="en-US" sz="36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00000" y="19162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Откроем географическую страницу.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Ученик работает у карты и прикрепляет заранее подготовленные условные знаки к тем городам, которые входили в состав Греции. Затем комментирует свои действия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38" name="Picture 5" descr="C:\Users\Елена\Desktop\DSCN2493.JPG"/>
          <p:cNvPicPr/>
          <p:nvPr/>
        </p:nvPicPr>
        <p:blipFill>
          <a:blip r:embed="rId1"/>
          <a:stretch/>
        </p:blipFill>
        <p:spPr>
          <a:xfrm>
            <a:off x="4788000" y="2421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ИНТЕРВЬЮ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Интервью с жителем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ff66"/>
                </a:solidFill>
                <a:uFillTx/>
                <a:latin typeface="Times New Roman"/>
              </a:rPr>
              <a:t>Древней Греции.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Bookman Old Style"/>
              </a:rPr>
              <a:t>Опишете природные условия Древней Грец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Bookman Old Style"/>
              </a:rPr>
              <a:t>Природа Греции очень живописна. Обилие солнца и мягкий климат создают благоприятные условия для жизни и деятельности человек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1" name="Picture 5" descr=""/>
          <p:cNvPicPr/>
          <p:nvPr/>
        </p:nvPicPr>
        <p:blipFill>
          <a:blip r:embed="rId1"/>
          <a:stretch/>
        </p:blipFill>
        <p:spPr>
          <a:xfrm>
            <a:off x="5624640" y="4292640"/>
            <a:ext cx="1734840" cy="2149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C:\Users\Елена\Desktop\DSCN2487.JPG"/>
          <p:cNvPicPr/>
          <p:nvPr/>
        </p:nvPicPr>
        <p:blipFill>
          <a:blip r:embed="rId2"/>
          <a:stretch/>
        </p:blipFill>
        <p:spPr>
          <a:xfrm>
            <a:off x="4500720" y="1197000"/>
            <a:ext cx="39830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УЧЕНИЧЕСКАЯ 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15640" y="1699920"/>
            <a:ext cx="3809880" cy="55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В древности греки плавали главным образом вдоль берегов и избегали выходить в открытое море. Почему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Штормы и бури были опасны маленьким деревянным судам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Без компаса, который в древности был известен одним китайцам легко заблудитьс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c0099"/>
                </a:solidFill>
                <a:latin typeface="Arial"/>
              </a:rPr>
              <a:t>Запасы воды и продовольствия часто приходилось пополнять: корабль имел небольшие размеры и довольно много гребцов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5" name="Picture 5" descr=""/>
          <p:cNvPicPr/>
          <p:nvPr/>
        </p:nvPicPr>
        <p:blipFill>
          <a:blip r:embed="rId1"/>
          <a:stretch/>
        </p:blipFill>
        <p:spPr>
          <a:xfrm>
            <a:off x="5292720" y="1989000"/>
            <a:ext cx="3298680" cy="1871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5335560" y="4076640"/>
            <a:ext cx="325584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 Black"/>
              </a:rPr>
              <a:t>Ученическая страничка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Picture 2" descr="C:\Users\Елена\Desktop\DSCN2491.JPG"/>
          <p:cNvPicPr/>
          <p:nvPr/>
        </p:nvPicPr>
        <p:blipFill>
          <a:blip r:embed="rId1"/>
          <a:stretch/>
        </p:blipFill>
        <p:spPr>
          <a:xfrm>
            <a:off x="1258920" y="1989000"/>
            <a:ext cx="3744720" cy="35276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C:\Users\Елена\Desktop\DSCN2492.JPG"/>
          <p:cNvPicPr/>
          <p:nvPr/>
        </p:nvPicPr>
        <p:blipFill>
          <a:blip r:embed="rId2"/>
          <a:stretch/>
        </p:blipFill>
        <p:spPr>
          <a:xfrm>
            <a:off x="5257800" y="2205000"/>
            <a:ext cx="380988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РЕКЛАМА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71280" y="14842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Следующая страница –рекламная.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 Ученики представляют рекламу изготовления вина в любой форме, а также рекламируют оливковое масло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3" name="Picture 7" descr=""/>
          <p:cNvPicPr/>
          <p:nvPr/>
        </p:nvPicPr>
        <p:blipFill>
          <a:blip r:embed="rId1"/>
          <a:stretch/>
        </p:blipFill>
        <p:spPr>
          <a:xfrm>
            <a:off x="2666880" y="1297080"/>
            <a:ext cx="3810240" cy="41148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8" descr="C:\Users\Елена\Desktop\DSCN2486.JPG"/>
          <p:cNvPicPr/>
          <p:nvPr/>
        </p:nvPicPr>
        <p:blipFill>
          <a:blip r:embed="rId2"/>
          <a:stretch/>
        </p:blipFill>
        <p:spPr>
          <a:xfrm>
            <a:off x="5076720" y="1700280"/>
            <a:ext cx="33829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66"/>
                </a:solidFill>
                <a:latin typeface="Times New Roman"/>
              </a:rPr>
              <a:t>НА   ДОСУГЕ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952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66"/>
                </a:solidFill>
                <a:latin typeface="Times New Roman"/>
              </a:rPr>
              <a:t>Заключительная страница –               На досуге.                    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На этом этапе урока подводятся итоги конкурса кроссвордов и чтение мифов Древней Греции. </a:t>
            </a:r>
            <a:r>
              <a:rPr b="0" lang="ru-RU" sz="2800" spc="-1" strike="noStrike">
                <a:solidFill>
                  <a:srgbClr val="ffff66"/>
                </a:solidFill>
                <a:latin typeface="Times New Roman"/>
              </a:rPr>
              <a:t>Миф о Тесее и минотавре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5148360" y="2133720"/>
            <a:ext cx="380988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900000" y="1844640"/>
            <a:ext cx="806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66"/>
                </a:solidFill>
                <a:latin typeface="Times New Roman"/>
              </a:rPr>
              <a:t>СПАСИБО                                ЗА  ВНИМАНИЕ !</a:t>
            </a:r>
            <a:endParaRPr b="0" lang="en-US" sz="5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197000"/>
            <a:ext cx="810108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Способствует развитию инициативы и коммуникативных навыков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иближает школьное обучение к жизн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Предполагает самостоятельный поиск средств и способов решения задач, связанных с реальными ситуациями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66"/>
                </a:solidFill>
                <a:latin typeface="Times New Roman"/>
              </a:rPr>
              <a:t>Искореняет негативные явления традиционного обучен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99"/>
                </a:solidFill>
                <a:latin typeface="Times New Roman"/>
              </a:rPr>
              <a:t>НЕТРАДИЦИОННЫЙ  УРОК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971640" y="1989000"/>
            <a:ext cx="7956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Times New Roman"/>
              </a:rPr>
              <a:t>В литературе характеризуется как форма специально организованного общения, психологическое воздействие которого основано на активных методах обучения.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116000" y="2349360"/>
          <a:ext cx="7597800" cy="3962520"/>
        </p:xfrm>
        <a:graphic>
          <a:graphicData uri="http://schemas.openxmlformats.org/drawingml/2006/table">
            <a:tbl>
              <a:tblPr/>
              <a:tblGrid>
                <a:gridCol w="2054160"/>
                <a:gridCol w="2532240"/>
                <a:gridCol w="3011400"/>
              </a:tblGrid>
              <a:tr h="395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ип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ы уроков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инцип создания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Урок изучения нового материала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церт, Спектакль, Путешествие, Турнир, Конференция, Видео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оспроизведение типичных атрибутов изучаемой эпохи, эффектный способ преподнесения темы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овторительно-обобщающи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нтервью, Суд, Дискуссия, Исторический портрет, Проблемный  урок и др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оздание эффекта личного присутствия через анализ деятельности исторических лиц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трольный урок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ВН, Аукцион, Викторина, Конкурс знатоков, Олимпиада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Игровые способы проверки знаний и умений.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Text Box 39"/>
          <p:cNvSpPr/>
          <p:nvPr/>
        </p:nvSpPr>
        <p:spPr>
          <a:xfrm>
            <a:off x="1187280" y="1700280"/>
            <a:ext cx="77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3357360"/>
            <a:ext cx="7772400" cy="241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Школьная лекц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Лабораторн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еминар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Практическое занятие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258920" y="184464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258920" y="1844640"/>
            <a:ext cx="74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Вяземский Е.Е., Стрелова О.Ю. ТЕОРИЯ И МЕТОДИКА ПРЕПОДАВАНИЯ ИСТОРИИ. /ВЛАДОС, 2003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187280" y="27082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66"/>
                </a:solidFill>
                <a:latin typeface="Times New Roman"/>
              </a:rPr>
              <a:t>АЛЬТЕРНАТИВЫ    УРОК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2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332000" y="1773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Короткова М.В., Студеникин М.Т. МЕТОДИКА ОБУЧЕНИЯ ИСТОРИИ В СХЕМАХ, ТАБЛИЦАХ, ОПИСАНИЯХ. /ВЛАДОС, 1999/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042920" y="2708280"/>
          <a:ext cx="7772400" cy="375588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412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Нетрадиционные формы урока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4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ек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емина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рактикум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Экскур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онференц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Лабораторное занят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Путешеств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пектакл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Аукцион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Суд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Турни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Видеоурок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иностуд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66"/>
                          </a:solidFill>
                          <a:latin typeface="Times New Roman"/>
                        </a:rPr>
                        <a:t>Круглый стол и др.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КЛАССИФИКАЦИЯ НЕТРАДИЦИОННЫХ   УРОКОВ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256500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-образ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логического мышл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настроен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самостоятельного действия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Урок актуализации и проповеди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755640" y="184464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Times New Roman"/>
              </a:rPr>
              <a:t>Шоган В.В. УРОКИ ИСТОРИИ НОВОГО ПОКОЛЕНИЯ. /ФЕНИКС, 2005/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РЕКОМЕНДАЦИИ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Нетрадиционные уроки лучше проводить как итоговы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Для успешной подготовки урока учитель должен хорошо знать предмет и методику, творчески подойти к работе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66"/>
                </a:solidFill>
                <a:latin typeface="Times New Roman"/>
              </a:rPr>
              <a:t>Слишком частое обращение к подобным формам урока нецелесообразно, так как нетрадиционное может быстро стать традиционным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Times New Roman"/>
              </a:rPr>
              <a:t>ИЗ  ОПЫТА  РАБОТЫ</a:t>
            </a:r>
            <a:endParaRPr b="0" lang="en-US" sz="40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900000" y="1471680"/>
            <a:ext cx="8244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Идея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создание системы нетрадиционных уроков в рамках профильного обучения и воспитательной системы класса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Цель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повышение эффективности уроков, активизация познавательного интереса учащихся, развитие их самостоятельности и творческих способностей, социализация школьников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Условия реализации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отбор актуальных задач, использование современных технологий преподавания, личностный подход и мастерство учителя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Ожидаемый результат:</a:t>
            </a:r>
            <a:r>
              <a:rPr b="0" i="1" lang="ru-RU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66"/>
                </a:solidFill>
                <a:latin typeface="Times New Roman"/>
              </a:rPr>
              <a:t>воспитание личности – индивидуальной и неповторимой, с широким кругозором и коллективистской направленностью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6:01:52Z</dcterms:created>
  <dc:creator>User</dc:creator>
  <dc:description/>
  <dc:language>en-US</dc:language>
  <cp:lastModifiedBy>Елена</cp:lastModifiedBy>
  <dcterms:modified xsi:type="dcterms:W3CDTF">2016-01-27T11:35:40Z</dcterms:modified>
  <cp:revision>19</cp:revision>
  <dc:subject/>
  <dc:title>НЕТРАДИЦИОННЫЙ УРОК   ИСТОРИИ</dc:title>
</cp:coreProperties>
</file>