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5C1C-D5B6-4101-9085-8EF30303C28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1" lang="ru-RU" sz="1200" spc="-1" strike="noStrike">
                <a:solidFill>
                  <a:srgbClr val="000000"/>
                </a:solidFill>
                <a:latin typeface="Calibri"/>
              </a:rPr>
              <a:t> Определение понятий «одаренность» и «одаренный ребенок»</a:t>
            </a:r>
            <a:r>
              <a:rPr b="0" lang="ru-RU" sz="1200" spc="-1" strike="noStrike">
                <a:solidFill>
                  <a:srgbClr val="000000"/>
                </a:solidFill>
                <a:latin typeface="Calibri"/>
              </a:rPr>
              <a:t> </a:t>
            </a:r>
            <a:br>
              <a:rPr sz="1200"/>
            </a:br>
            <a:r>
              <a:rPr b="0" lang="ru-RU" sz="1200" spc="-1" strike="noStrike">
                <a:solidFill>
                  <a:srgbClr val="000000"/>
                </a:solidFill>
                <a:latin typeface="Calibri"/>
              </a:rPr>
              <a:t>Одаренность — это системное, развивающееся в течение жизни качество психики, которое определяет возможность достижения человеком более высоких, незаурядных результатов в одном или нескольких видах деятельности по сравнению с другими людьми. </a:t>
            </a:r>
            <a:br>
              <a:rPr sz="1200"/>
            </a:br>
            <a:r>
              <a:rPr b="0" lang="ru-RU" sz="1200" spc="-1" strike="noStrike">
                <a:solidFill>
                  <a:srgbClr val="000000"/>
                </a:solidFill>
                <a:latin typeface="Calibri"/>
              </a:rPr>
              <a:t>Одаренный ребенок — это ребенок, который выделяется яркими, очевидными, иногда выдающимися достижениями (или имеет внутренние предпосылки для таких достижений) в том или ином виде деятельности. </a:t>
            </a:r>
            <a:br>
              <a:rPr sz="1200"/>
            </a:br>
            <a:r>
              <a:rPr b="0" lang="ru-RU" sz="1200" spc="-1" strike="noStrike">
                <a:solidFill>
                  <a:srgbClr val="000000"/>
                </a:solidFill>
                <a:latin typeface="Calibri"/>
              </a:rPr>
              <a:t>На сегодняшний день большинство психологов признает, что уровень, качественное своеобразие и характер развития одаренности — это всегда результат сложного взаимодействия наследственности (природных задатков) и социокультурной среды, опосредованного деятельностью ребенка (игровой, учебной, трудовой). При этом особое значение имеют собственная активнос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897B-9B0E-4E4D-B072-E8BAF2C4D24B}"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E14D-33FF-4587-B2B3-84BD05708429}"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обенности личности одаренного реб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ше уже отмечалось, что различия в одаренности могут быть связаны как с мерой проявления признаков одаренности, так и с оценкой уровня достижений ребенка. Разделение одаренности по данному основанию, несмотря на его условность, происходит на основе сравнения различных показателей, характеризующих детскую одаренность, со средней возрастной нормой достижений. </a:t>
            </a:r>
            <a:br>
              <a:rPr sz="1200"/>
            </a:br>
            <a:r>
              <a:rPr b="0" lang="ru-RU" sz="1200" spc="-1" strike="noStrike">
                <a:solidFill>
                  <a:srgbClr val="000000"/>
                </a:solidFill>
                <a:latin typeface="Calibri"/>
              </a:rPr>
              <a:t>О детях, которые настолько превосходят по своим способностям и достижениям остальных, обычно говорят как о детях с исключительной, особой одаренностью. Успешность выполняемой ими деятельности может быть необычно высокой. Однако именно эти дети чаще других имеют серьезные проблемы, которые требуют особого внимания и соответствующей помощи со стороны учителей и психологов. </a:t>
            </a:r>
            <a:br>
              <a:rPr sz="1200"/>
            </a:br>
            <a:r>
              <a:rPr b="0" lang="ru-RU" sz="1200" spc="-1" strike="noStrike">
                <a:solidFill>
                  <a:srgbClr val="000000"/>
                </a:solidFill>
                <a:latin typeface="Calibri"/>
              </a:rPr>
              <a:t>Поэтому при градации одаренности следует иметь в виду, что ее следует дифференцировать (естественно, в реальной жизни нет такой четкой грани) на одаренность с гармоничным и дисгармоничным типами развития. </a:t>
            </a:r>
            <a:br>
              <a:rPr sz="1200"/>
            </a:br>
            <a:br>
              <a:rPr sz="1200"/>
            </a:br>
            <a:r>
              <a:rPr b="0" lang="ru-RU" sz="1200" spc="-1" strike="noStrike">
                <a:solidFill>
                  <a:srgbClr val="000000"/>
                </a:solidFill>
                <a:latin typeface="Calibri"/>
              </a:rPr>
              <a:t>Одаренность с гармоничным типом развития можно назвать «счастливым» вариантом жизни ребенка. Такие дети отличаются соответствующей своему возрасту физической зрелостью. Их высокие, объективно значимые достижения в определенной предметной области органично сочетаются с высоким уровнем интеллектуального и личностного развития. Как правило, именно эти одаренные дети, став взрослыми, добиваются экстраординарных успехов в выбранной ими профессиональной деятельности. </a:t>
            </a:r>
            <a:br>
              <a:rPr sz="1200"/>
            </a:br>
            <a:r>
              <a:rPr b="0" lang="ru-RU" sz="1200" spc="-1" strike="noStrike">
                <a:solidFill>
                  <a:srgbClr val="000000"/>
                </a:solidFill>
                <a:latin typeface="Calibri"/>
              </a:rPr>
              <a:t>Другое дело — одаренные дети с дисгармоничным типом развития. Различия заключаются не только в очень высоком уровне отдельных способностей и достижений (нередко именно эти дети имеют показатели IQ от 130 до 180). В основе этого варианта одаренности, возможно, лежат другой генетический ресурс, а также другие механизмы возраст-нога развития, характеризующегося чаще всего ускоренным, но иногда и замедленным темпом. Кроме того, его основу может представлять другая структура с нарушением интегративных процессов, что ведет к неравномерности развития различных психических качеств, а подчас ставит под вопрос наличие одаренности, как таковой. </a:t>
            </a:r>
            <a:br>
              <a:rPr sz="1200"/>
            </a:br>
            <a:r>
              <a:rPr b="0" lang="ru-RU" sz="1200" spc="-1" strike="noStrike">
                <a:solidFill>
                  <a:srgbClr val="000000"/>
                </a:solidFill>
                <a:latin typeface="Calibri"/>
              </a:rPr>
              <a:t>Процесс становления одаренности таких детей почти всегда сопровождается сложным набором разного рода психологических, психосоматических и даже психопатологических проблем, в силу чего они могут быть зачислены в «группу рис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DE00-1D2C-418B-A5A2-9245003BEDD0}"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Особенности личности одаренных детей с гармоничным типом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ачества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Стремление к творческой деятельности</a:t>
            </a:r>
            <a:r>
              <a:rPr b="0" lang="ru-RU" sz="1200" spc="-1" strike="noStrike">
                <a:solidFill>
                  <a:srgbClr val="000000"/>
                </a:solidFill>
                <a:latin typeface="Calibri"/>
              </a:rPr>
              <a:t> считается отличительной характеристикой таких одаренных детей. Они высказывают собственные идеи и отстаивают их. В силу того, что они не ограничиваются в своей деятельности теми требованиями, которые содержит задание, они открывают новые способы решения проблем. Они нередко отказываются от традиционных методов решения, если их способы более рациональны и красивы. </a:t>
            </a:r>
            <a:br>
              <a:rPr sz="1200"/>
            </a:br>
            <a:r>
              <a:rPr b="0" lang="ru-RU" sz="1200" spc="-1" strike="noStrike">
                <a:solidFill>
                  <a:srgbClr val="000000"/>
                </a:solidFill>
                <a:latin typeface="Calibri"/>
              </a:rPr>
              <a:t>Эти учащиеся, как правило, проявляют повышенную </a:t>
            </a:r>
            <a:r>
              <a:rPr b="0" i="1" lang="ru-RU" sz="1200" spc="-1" strike="noStrike">
                <a:solidFill>
                  <a:srgbClr val="000000"/>
                </a:solidFill>
                <a:latin typeface="Calibri"/>
              </a:rPr>
              <a:t>самостоятельность в процессе обучения</a:t>
            </a:r>
            <a:r>
              <a:rPr b="0" lang="ru-RU" sz="1200" spc="-1" strike="noStrike">
                <a:solidFill>
                  <a:srgbClr val="000000"/>
                </a:solidFill>
                <a:latin typeface="Calibri"/>
              </a:rPr>
              <a:t> и потому в меньшей степени, чем их одноклассники, нуждаются в помощи взрослых. Иногда педагоги ошибочно за одаренность принимают самостоятельность ученика при выполнении заданий: сам подобрал материал, проанализировал его и написал реферат и т.д. Однако самостоятельность одаренных детей связана со сформированностью «саморегуляционных стратегий» обучения, которые они легко переносят на новые задачи. По мнению специалистов, мера «автономного самообучения» может выступать своеобразным индикатором наличия выдающихся способностей. Для самообучения необходимо приобретение метакогнитивных навыков, лежащих в основе способности ребенка в той или иной степени управлять собственными познавательными процессами, планировать свою деятельность, систематизировать и оценивать полученные знания. Излишнее вмешательство учителей и чрезмерная опека родителей могут оказать негативное влияние на ход обучения одаренных учащихся, затормозить развитие процессов саморегуляции, привести к потере самостоятельности и мотивации к освоению ново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я эти особенности одаренных детей и подростков, при организации учебного процесса необходимо предусмотреть возможности повышения самостоятельности, инициативности и - в определенной мере - ответственности самого учащегося. Одаренные дети часто стремятся самостоятельно выбирать, какие предметы и разделы учебной программы они хотели бы изучать ускоренно и/или углубленно, планировать процесс своего обучения и определять периодичность оценки приобретенных знаний. Следует предоставить им эти возможности. В современной педагогике имеется немало инновационных разработок, позволяющих ребенку самому инициировать собственное обучение. Вместе с тем подобное обучение требует организации специальных форм взаимодействия с взрослыми (в первую очередь с учителями). Одаренный ребенок нуждается во взрослых наставниках не меньше других детей, однако он предъявляет особые требования, как к уровню знаний такого наставника, так и к способу взаимодействия с ни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тмечалось выше, мотивационными признаками одаренных детей являются </a:t>
            </a:r>
            <a:r>
              <a:rPr b="1" i="1" lang="ru-RU" sz="1200" spc="-1" strike="noStrike">
                <a:solidFill>
                  <a:srgbClr val="000000"/>
                </a:solidFill>
                <a:latin typeface="Calibri"/>
              </a:rPr>
              <a:t>высокий уровень познавательной потребности</a:t>
            </a:r>
            <a:r>
              <a:rPr b="0" lang="ru-RU" sz="1200" spc="-1" strike="noStrike">
                <a:solidFill>
                  <a:srgbClr val="000000"/>
                </a:solidFill>
                <a:latin typeface="Calibri"/>
              </a:rPr>
              <a:t>, огромная любознательность, страстная увлеченность любимым делом, наличие ярко выраженной внутренней мотивации. С раннего детства одаренные дети демонстрируют интенсивный интерес к познанию, проявляя при этом удивительную способность к концентрации внимания на "проблеме и даже своего рода одержимость. </a:t>
            </a:r>
            <a:br>
              <a:rPr sz="1200"/>
            </a:br>
            <a:r>
              <a:rPr b="0" lang="ru-RU" sz="1200" spc="-1" strike="noStrike">
                <a:solidFill>
                  <a:srgbClr val="000000"/>
                </a:solidFill>
                <a:latin typeface="Calibri"/>
              </a:rPr>
              <a:t>Вопреки распространенному мнению о том, что одаренность всегда «глобальна», в силу чего одаренные дети хорошо успевают по всем школьным предметам, ибо им вообще нравится учиться, это явление не столь закономерно. Часто наблюдается специфическая направленность познавательной мотивации одаренных детей: высокий уровень мотивации наблюдается лишь в тех областях знания, которые связаны с их ведущими способностями. При этом одаренный ребенок может не только не проявлять интереса к другим областям знания, но и игнорировать «ненужные», с его точки зрения, школьные предметы, вступая из-за этого в конфликт с учителями. Характерная особенность мотивацией иной сферы одаренных детей и подростков связана со спецификой вопросов, которыми они буквально «засыпают» окружающих. Количество, сложность и глубина вопросов, которые задают одаренные дети, намного превышают аналогичные показатели у их сверстников. Учителям нелегко удовлетворить эту повышенную любознательность на уроке. Кроме того, многие вопросы могут быть настолько сложны и требовать таких глубоких и разносторонних знаний, что на них трудно ответить даже специалистам. В этой связи необходимо разрабатывать педагогические технологии, позволяющие одаренным учащимся самостоятельно искать и находить ответы на интересующие их вопросы. Для этих целей могут использоваться новые информационные технологии (в том числе Интернет), обучение учащихся приемам самостоятельной работы с литературой, методам исследовательской деятельности, включение их в профессиональное общение со специалистам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значительной части одаренных детей характерен так называемый </a:t>
            </a:r>
            <a:r>
              <a:rPr b="1" i="1" lang="ru-RU" sz="1200" spc="-1" strike="noStrike">
                <a:solidFill>
                  <a:srgbClr val="000000"/>
                </a:solidFill>
                <a:latin typeface="Calibri"/>
              </a:rPr>
              <a:t>перфекционизм</a:t>
            </a:r>
            <a:r>
              <a:rPr b="0" lang="ru-RU" sz="1200" spc="-1" strike="noStrike">
                <a:solidFill>
                  <a:srgbClr val="000000"/>
                </a:solidFill>
                <a:latin typeface="Calibri"/>
              </a:rPr>
              <a:t>, то есть стремление добиться совершенства в выполнении деятельности. Иногда ребенок часами переделывает уже законченную работу (сочинение, рисунок, модель), добиваясь соответствия одному ему известного критерия совершенства. Хотя в целом эта характеристика носит позитивный характер, в будущем превращаясь в залог высокого уровня профессиональных достижений, учителям и психологам тем не менее необходимо ввести такую требовательность в разумные рамки. В противном случае это качество превращается в своего рода «самоедство», невозможность довести работу до конца. </a:t>
            </a:r>
            <a:br>
              <a:rPr sz="1200"/>
            </a:br>
            <a:r>
              <a:rPr b="0" lang="ru-RU" sz="1200" spc="-1" strike="noStrike">
                <a:solidFill>
                  <a:srgbClr val="000000"/>
                </a:solidFill>
                <a:latin typeface="Calibri"/>
              </a:rPr>
              <a:t>Поскольку об одаренности ребенка нередко судят по его достижениям прежде всего в учебе, то по перечисленным далее особенностям можно отличить одаренного ребенка от просто очень способного и хорошо обученного, у которого определенный объем знаний, умений и навыков превышает обычный средний уровень. Одаренный ребенок стремится к новым познавательным ситуациям, они его не только не пугают, а, напротив, вызывают у него чувство радости. Даже если в этой новой ситуации возникают трудности, одаренный ребенок не утрачивает к ней интереса. Способный ученик с высокой мотивацией достижений любую новую ситуацию воспринимает как угрозу своей самооценке, своему высокому статусу. Одаренный ребенок получает удовольствие от самого процесса познания, тогда как просто способного значительно больше волнует результат. Одаренный ребенок достаточно легко признается в своем непонимании, просто говорит, что он чего-то не знает. Для способного ребенка с внешней мотивацией — это всегда стрессовая ситуация, ситуация неудачи. Отсюда и различное отношение к отметкам: одаренный отдает приоритет содержанию деятельности, для способного важен результат и его оце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i="1" lang="ru-RU" sz="1200" spc="-1" strike="noStrike">
                <a:solidFill>
                  <a:srgbClr val="000000"/>
                </a:solidFill>
                <a:latin typeface="Calibri"/>
              </a:rPr>
              <a:t>Устойчиво высокая самооценка</a:t>
            </a:r>
            <a:r>
              <a:rPr b="0" lang="ru-RU" sz="1200" spc="-1" strike="noStrike">
                <a:solidFill>
                  <a:srgbClr val="000000"/>
                </a:solidFill>
                <a:latin typeface="Calibri"/>
              </a:rPr>
              <a:t>, с одной стороны, есть отличительная характеристика одаренного ребенка. С другой стороны, его актуальная самооценка может колебаться. Именно эта противоречивость самооценки и есть условие поступательного развития его личности и способностей. Отсюда стратегия поощрения одаренного, да и любого ребенка должна быть достаточно сдержанной — нельзя постоянно его хвалить. Необходимо приучать его к мысли о возможности появления неудач. Причем наличие постоянных успехов сам ребенок должен воспринимать как свидетельство недостаточной трудности деятельности, которая ему предлагается и за которую он бер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основных характеристик одаренных детей и подростков - </a:t>
            </a:r>
            <a:r>
              <a:rPr b="1" i="1" lang="ru-RU" sz="1200" spc="-1" strike="noStrike">
                <a:solidFill>
                  <a:srgbClr val="000000"/>
                </a:solidFill>
                <a:latin typeface="Calibri"/>
              </a:rPr>
              <a:t>независимость (автономность)</a:t>
            </a:r>
            <a:r>
              <a:rPr b="0" lang="ru-RU" sz="1200" spc="-1" strike="noStrike">
                <a:solidFill>
                  <a:srgbClr val="000000"/>
                </a:solidFill>
                <a:latin typeface="Calibri"/>
              </a:rPr>
              <a:t>: отсутствие склонности действовать, думать и поступать сообразно мнению большинства. В какой бы области деятельности ни проявлялась их одаренность, они ориентируются не на общее мнение, а на лично добытое знание. Хотя эта личностная характеристика помогает им в деятельности, тем не менее, именно она делает их неудобными для окружающих. Одаренные дети ведут себя менее предсказуемо, чем этого хотелось бы окружающим, что приводит иногда к конфликтам. Учителю следует всегда учитывать эту психологическую особенность, понимая ее природу. Например, явно одаренный подросток, выполняя задание написать сочинение по географии, пишет эссе «Является ли наукой география?», где ярко, но по форме вызывающе доказывает описательный характер этого предмета и лишает географию статуса науки. Ему при этом нет дела, что географию преподает директор школы. Все это не может не вызвать известную настороженность педагогического коллектива по отношению к таким детям, их внутреннее, а часто и открытое неприятие. Во многих случаях такие проявления одаренного ребенка неверно трактуются как его недостаточная воспитанность или желание быть вне коллектива. В целом, видимо, можно говорить об определенной неконформности ярко одаренных, творческих де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коренившиеся интересы и склонности</a:t>
            </a:r>
            <a:r>
              <a:rPr b="1" lang="ru-RU" sz="1200" spc="-1" strike="noStrike">
                <a:solidFill>
                  <a:srgbClr val="000000"/>
                </a:solidFill>
                <a:latin typeface="Calibri"/>
              </a:rPr>
              <a:t>,</a:t>
            </a:r>
            <a:r>
              <a:rPr b="0" lang="ru-RU" sz="1200" spc="-1" strike="noStrike">
                <a:solidFill>
                  <a:srgbClr val="000000"/>
                </a:solidFill>
                <a:latin typeface="Calibri"/>
              </a:rPr>
              <a:t> развитые уже с детства, служат хорошей основой для успешного личностного и профессионального самоопределения одаренных детей. Возникающие в некоторых случаях трудности профессиональной ориентации, когда вплоть до окончания школы учащиеся продолжают «разбрасываться», связаны с высоким развитием у них способностей во многих областях.    </a:t>
            </a:r>
            <a:endParaRPr b="0" lang="en-US" sz="1200" spc="-1" strike="noStrike">
              <a:solidFill>
                <a:srgbClr val="000000"/>
              </a:solidFill>
              <a:latin typeface="Calibri"/>
            </a:endParaRPr>
          </a:p>
        </p:txBody>
      </p:sp>
      <p:sp>
        <p:nvSpPr>
          <p:cNvPr id="2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D17C-D430-4D93-8A12-53FA827CA780}"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обенности личности одаренных детей с дисгармоничным типом развития. Неравномерность психического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ление об одаренном ребенке как о хилом, слабом и социально нелепом существе не всегда соответствует действительности. Однако у части детей, исключительно одаренных в какой-либо одной области, действительно отмечается ярко </a:t>
            </a:r>
            <a:r>
              <a:rPr b="1" lang="ru-RU" sz="1200" spc="-1" strike="noStrike">
                <a:solidFill>
                  <a:srgbClr val="000000"/>
                </a:solidFill>
                <a:latin typeface="Calibri"/>
              </a:rPr>
              <a:t>выраженная неравномерность психического развития</a:t>
            </a:r>
            <a:r>
              <a:rPr b="0" lang="ru-RU" sz="1200" spc="-1" strike="noStrike">
                <a:solidFill>
                  <a:srgbClr val="000000"/>
                </a:solidFill>
                <a:latin typeface="Calibri"/>
              </a:rPr>
              <a:t> (диссинхрония), которая прямо влияет на личность в период ее становления и является источником многих проблем необычного ребенка. </a:t>
            </a:r>
            <a:br>
              <a:rPr sz="1200"/>
            </a:br>
            <a:r>
              <a:rPr b="0" lang="ru-RU" sz="1200" spc="-1" strike="noStrike">
                <a:solidFill>
                  <a:srgbClr val="000000"/>
                </a:solidFill>
                <a:latin typeface="Calibri"/>
              </a:rPr>
              <a:t>Для таких детей достаточно типичным является значительное опережение в умственном или художественно-эстетическом развитии. Понятно, что все другие психические сферы -эмоциональная, социальная и физическая - не всегда поспевают за таким бурным ростом, что приводит к выраженной неравномерности развития. Эту неравномерность в развитии усиливает чрезмерная специализация интересов в виде доминирования интереса, соответствующего их незаурядным способностям. Наиболее важной характеристикой личности детей с проявлениями яркой одаренности является особая система ценностей, </a:t>
            </a:r>
            <a:r>
              <a:rPr b="1" lang="ru-RU" sz="1200" spc="-1" strike="noStrike">
                <a:solidFill>
                  <a:srgbClr val="000000"/>
                </a:solidFill>
                <a:latin typeface="Calibri"/>
              </a:rPr>
              <a:t>т.е. система личностных приоритетов</a:t>
            </a:r>
            <a:r>
              <a:rPr b="0" lang="ru-RU" sz="1200" spc="-1" strike="noStrike">
                <a:solidFill>
                  <a:srgbClr val="000000"/>
                </a:solidFill>
                <a:latin typeface="Calibri"/>
              </a:rPr>
              <a:t>, важнейшее место в которой занимает деятельность, соответствующая содержанию одаренности. У подавляющего большинства одаренных детей существует пристрастное, личностное отношение к деятельности, составляющей сферу их интересов. </a:t>
            </a:r>
            <a:br>
              <a:rPr sz="1200"/>
            </a:br>
            <a:r>
              <a:rPr b="0" lang="ru-RU" sz="1200" spc="-1" strike="noStrike">
                <a:solidFill>
                  <a:srgbClr val="000000"/>
                </a:solidFill>
                <a:latin typeface="Calibri"/>
              </a:rPr>
              <a:t>Свои особенности у таких детей имеет и самооценка, характеризующая их представление о своих силах и возможностях. Вполне закономерен факт чрезвычайно высокой </a:t>
            </a:r>
            <a:r>
              <a:rPr b="1" lang="ru-RU" sz="1200" spc="-1" strike="noStrike">
                <a:solidFill>
                  <a:srgbClr val="000000"/>
                </a:solidFill>
                <a:latin typeface="Calibri"/>
              </a:rPr>
              <a:t>самооценки </a:t>
            </a:r>
            <a:r>
              <a:rPr b="0" lang="ru-RU" sz="1200" spc="-1" strike="noStrike">
                <a:solidFill>
                  <a:srgbClr val="000000"/>
                </a:solidFill>
                <a:latin typeface="Calibri"/>
              </a:rPr>
              <a:t>у этих детей и подростков. Однако иногда у особо эмоциональных детей самооценка отличается известной противоречивостью, нестабильностью - от очень высокой самооценки в одних случаях тот же подросток бросается в другую крайность в иных, считая, что он ничего не может и не умеет. И те, и другие дети нуждаются в психологической поддерж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Стремление добиться совершенства</a:t>
            </a:r>
            <a:r>
              <a:rPr b="0" lang="ru-RU" sz="1200" spc="-1" strike="noStrike">
                <a:solidFill>
                  <a:srgbClr val="000000"/>
                </a:solidFill>
                <a:latin typeface="Calibri"/>
              </a:rPr>
              <a:t> (так называемый перфекционизм) характерен и для этой категории одаренных детей. В целом перфекционизм носит, как уже говорилось, позитивный характер, способствуя достижению вершин профессионального мастерства. Однако повышенная требовательность может превращаться в мучительную и болезненную неудовлетворенность собой и результатами своего труда, что негативно влияет на творческий процесс и на жизнь самого творца. Нередко задачи, которые ставит перед собой ребенок, могут намного превышать его реальные возможности на данном этапе обучения и развития. Известен ряд примеров, когда невозможность достигнуть поставленной цели порождала тяжелейшие стрессы, длительное переживание своих неудач. </a:t>
            </a:r>
            <a:br>
              <a:rPr sz="1200"/>
            </a:br>
            <a:r>
              <a:rPr b="0" lang="ru-RU" sz="1200" spc="-1" strike="noStrike">
                <a:solidFill>
                  <a:srgbClr val="000000"/>
                </a:solidFill>
                <a:latin typeface="Calibri"/>
              </a:rPr>
              <a:t>Нередко у таких детей имеются </a:t>
            </a:r>
            <a:r>
              <a:rPr b="1" lang="ru-RU" sz="1200" spc="-1" strike="noStrike">
                <a:solidFill>
                  <a:srgbClr val="000000"/>
                </a:solidFill>
                <a:latin typeface="Calibri"/>
              </a:rPr>
              <a:t>проблемы в эмоциональном развитии.</a:t>
            </a:r>
            <a:r>
              <a:rPr b="0" lang="ru-RU" sz="1200" spc="-1" strike="noStrike">
                <a:solidFill>
                  <a:srgbClr val="000000"/>
                </a:solidFill>
                <a:latin typeface="Calibri"/>
              </a:rPr>
              <a:t> У большинства из них наблюдается повышенная впечатлительность и связанная с ней особая эмоциональная чувствительность, имеющая избирательный характер и связанная, прежде всего со сферой их предметного интереса. События, не слишком значительные для обычных детей, становятся для этих детей источником ярких переживаний. Так, например, для этих детей характерно принятие на себя ответственности за результаты своей деятельности, признание, что именно в них кроется причина удач и неудач, что очень часто ведет к не всегда обоснованному чувству вины, самобичеванию, иногда даже к депрессивным состояниям. </a:t>
            </a:r>
            <a:br>
              <a:rPr sz="1200"/>
            </a:br>
            <a:r>
              <a:rPr b="0" lang="ru-RU" sz="1200" spc="-1" strike="noStrike">
                <a:solidFill>
                  <a:srgbClr val="000000"/>
                </a:solidFill>
                <a:latin typeface="Calibri"/>
              </a:rPr>
              <a:t>Повышенная реактивность в некоторых случаях проявляется в склонности к</a:t>
            </a:r>
            <a:r>
              <a:rPr b="1" lang="ru-RU" sz="1200" spc="-1" strike="noStrike">
                <a:solidFill>
                  <a:srgbClr val="000000"/>
                </a:solidFill>
                <a:latin typeface="Calibri"/>
              </a:rPr>
              <a:t> бурным аффектам</a:t>
            </a:r>
            <a:r>
              <a:rPr b="0" lang="ru-RU" sz="1200" spc="-1" strike="noStrike">
                <a:solidFill>
                  <a:srgbClr val="000000"/>
                </a:solidFill>
                <a:latin typeface="Calibri"/>
              </a:rPr>
              <a:t>. Эти дети могут производить впечатление истеричных, когда в сложных ситуациях проявляют явно инфантильную реакцию, например критическое замечание вызывает у них незамедлительные слезы, а любой неуспех приводит к отчаянию. В других случаях их эмоциональность носит скрытый, внутренний характер, обнаруживая себя в излишней застенчивости в общении, трудностях засыпания, а иногда и некоторых психосоматических заболевания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8B64-BB05-478F-A955-837F40AE9E8B}"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гармоничное разви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ою очередь, в данной подгруппе развития можно выделить отдельные типы, характеризующиеся противоположной направленностью феноменологи­ческих проявлений, дисфункцией уровней аффективной регуляции и, соответ­ственно, принципиально различной структурой реагирования детей в различ­ных ситуациях, при воздействиях окружающей среды. Характер аффективно­го реагирования детей и положен в основу определяющих, «отличительных» понятий и обозначения выделяемых типов. Наиболее адекватной в термино­логическом плане представляется собственно психологическое (экстра- и интрапунитивные эмоциональные реакции), а не традиционно психиатричес­кое выд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a:t>
            </a:r>
            <a:r>
              <a:rPr b="1" lang="ru-RU" sz="1200" spc="-1" strike="noStrike">
                <a:solidFill>
                  <a:srgbClr val="000000"/>
                </a:solidFill>
                <a:latin typeface="Calibri"/>
              </a:rPr>
              <a:t> </a:t>
            </a:r>
            <a:r>
              <a:rPr b="1" i="1" lang="ru-RU" sz="1200" spc="-1" strike="noStrike">
                <a:solidFill>
                  <a:srgbClr val="000000"/>
                </a:solidFill>
                <a:latin typeface="Calibri"/>
              </a:rPr>
              <a:t>экстрапунитивном типе</a:t>
            </a:r>
            <a:r>
              <a:rPr b="0" lang="ru-RU" sz="1200" spc="-1" strike="noStrike">
                <a:solidFill>
                  <a:srgbClr val="000000"/>
                </a:solidFill>
                <a:latin typeface="Calibri"/>
              </a:rPr>
              <a:t> дисгармоничного развития в первую оче­редь обращает на себя внимание достаточно выраженная специфика поведе­ния ребенка: от нарочитой независимости до выраженной демонстративности, порой демонстративной негативистичности. В более раннем возрасте (5—7 лет) можно говорить о начале формирования негативистических и протестных форм поведения, элементов демонстративности. Все эти проявления значительно усугубляются на фоне утомления реб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и этого типа, как правило, достаточно работоспособны, но пресыщае­мы однотипной деятельностью, что часто и вызывает агрессивные и протестные (часто демонстративные) реакции. Речевая активность в этом случае будет высокой, часто чрезмерной (но хорошо контролируемой ребенком). При этом общий уровень познавательного развития в целом достаточный. Поскольку среди этих детей чаще, чем в среднем по популяции, встречаются знаки левшества (варианты атипичного развития, атипичного профиля функциональ­ной ассиметрии), возможны специфические трудности в овладении школьны­ми навыками (чтение, письмо, сложные счетные операции). В этих достаточ­но часто встречающихся случаях можно говорить о сочетании парциальной несформированности ВПФ и экстрапунитивного типа аффективного реаг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уляция собственной деятельности соответствует возрастным показа­телям, а особую специфику можно наблюдать в эмоционально-личностных проявлениях. У детей наблюдаются высокие притязания на успех, как пра­вило, завышенная самооценка. Они чрезвычайно требовательны к окружаю­щим (по типу «маленького монстра» в семье), могут сознательно демонстри­ровать поведенческие реакции, характерные для более младшего возраста, или, наоборот, требовать признания себя как лидера, даже не имея на то факти­ческих оснований. Часто они бывают раздражительными, легко могут пере­ходить от дисфории к эйф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ом случае, если имела место девиация из темпово задержанного раз­вития в дисгармоничное (при неблагоприятных условиях развития, поскольку форма выражения себя и самоактуализация в этом случае идет за счет формирования именно неадекватного поведения по типу: «шута горохового», реже — «козла отпущения»), вероятно возникновение асоциальных форм поведения, как правило, группов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базовых составляющих: произвольность психической актив­ности, как правило, бывает сформирована в соответствии с возрастом, однако чем младше ребенок, тем вероятнее встречаются варианты невыраженной несформированности регуляторных функций (в том числе и на уровне произ­вольной регуляции двигательной активности). При преобладании демонстра­тивных черт характера, вне зависимости от возраста, выявляется достаточная сформированность произвольного звена ВП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нные представления при данном типе дисгармоничного раз­вития в целом развиваются в соответствии с нормативной программой, и не­достаточность в их развитии неспецифична для этого типа развития. Как уже упоминалось, чаще всего это наблюдается при наличии знаков атипичного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ьшую специфику можно наблюдать при анализе строения аффек­тивной регуляции поведения — ее уровневой организации. В данном случае в первую очередь обращает на себя внимание гиперфункция 3-го уровня (уро­вень эмоциональной экспансии) при своеобразии функционирования 4-го уров­ня аффективной регуляции (уровень эмоционального контроля), что выража­ется, с одной стороны, хорошей ориентацией в проявлениях эмоционального состояния других людей по отношению к себе, а с другой — отсутствием соб­ственно эмоционального контроля и эмпатии по отношению к другим людям. При этом достаточно развит 1-й уровень (уровень полевых реакций) и мож­но говорить о невыраженной гиперфункции 2-го уровня (уровня стереотипов). Последнее проявляется в отсутствии потребностей в постоянстве окружения, поиске все новых социальных условий и «объектов» приложения своих эмо­циональных экспанс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лане специальной психологической помощи таким детям необходима психокоррекционная/психотерапевтическая работа с целью гармонизации аф­фективной сферы (в данном случае можно говорить о предпочтении достаточ­но «жестких» психотерапевтических техник), семейная психотерапия. В слу­чаях присоединения знаков атипичного развития может быть показана двига­тельная нейропсихологическая коррекция. В тяжелых случаях дисгармоничного развития этого типа необходимо привлечение врача-психиа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адекватно подобранной коррекции, возможности адекватной «ле­гализации» демонстративности ребенка в социально приемлемых формах и успешной работы с ближайшим окружением ребенка (в том числе и с педа­гогами) прогноз развития достаточно благоприят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типичными диагнозами других специалистов для детей и подро­стков этого типа развития являются: «формирование личности по истеричес­кому типу», «неврозоподобные реакции», «характерологические и патохарактерологические реакции» — для детского возраста, «психопатия возбудимого типа», «патологическое формирование личности», «истерический невроз» — для под­ростковых возрастов (по МКБ-9), «расстройство поведения — (F91), в частно­сти, вызывающее оппозиционное расстройство» — (F91.3) (по МКБ-10)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им специалистом в данном случае следует считать психолога или психотерапевта. При формах, значительно нарушающих социальную адапта­цию, — психиа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нтрапунитивный тип</a:t>
            </a:r>
            <a:r>
              <a:rPr b="0" lang="ru-RU" sz="1200" spc="-1" strike="noStrike">
                <a:solidFill>
                  <a:srgbClr val="000000"/>
                </a:solidFill>
                <a:latin typeface="Calibri"/>
              </a:rPr>
              <a:t> характеризуется принципиально противополож­ными реакциями ребенка и, соответственно, чертами аффективно-личностного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дети, как правило, робкие и неуверенные в себе. Даже внешне они выделяются сутулостью, моторной и эмоциональной «зажатостью». Речевая активность, как правило, низкая. Дети достаточно трудно вступают в контакт, ищут взглядом поддержки, одобрения со стороны близких, а в их отсутствие — со стороны других взросл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когнитивного развития в целом соответствуют возрасту, од­нако у одного и того же ребенка могут значительно разниться в зависимости от ситуации, в которой предъявляются задания, и стиля общения взрослого с ним. В неблагоприятных случаях могут быть крайне замедленны, вплоть до полного ступора, «КПД» их деятельности может быть крайне низким. И на­оборот: дети могут показывать достаточно высокие результативность, и даже темп деятельности в ситуации одобрения и под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ще, чем в среднем по популяции, встречаются случаи неустоявшейся латерализации или латентное левшество, что осложняет процесс овладения школьной программой, еще более усугубляя неуверенность и тревожность ре­б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ершенно естественно, что при данном типе дисгармоничного развития можно говорить о сверх- или суперконтроле (сверхкритичности) за своей де­ятельностью, то есть, как правило, о высоком развитии регуляторных функ­ций. При этом, помимо высокой тревожности, неуверенности в своих силах, часто встречаются навязчивости, элементы ритуализации, инертность способов эмоционального взаимодействия. Вполне очевидно, что в данном варианте развития все эмоциональные реакции направлены как бы «вовнутрь», даже в случаях психомоторного возбуждения, обусловленного диффузной тревогой, страх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типу детей относятся все эарианты психосоматического разви­тия, особенно очевидно это проявляется в том случае, когда происходит де­виация из неравномерно задержанного типа развития (дисгармонический ин­фантилизм), когда причиной темповой задержки психического развития яв­лялись соматическая ослабленность или заболевание реб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 особенностях формирования базовых составляющих при этом типе психического дизонтогенеза можно сказать следующее. По отношению к про­извольной регуляции поведения, как уже было сказано, при данном варианте можно говорить о, по крайней мере, достаточном ее уровне (если мы говорим о произвольной регуляции собственной деятельности), в том числе когнитив­ного звена ВПФ; часто можно говорить о высоком уровне развития функции программирования и контроля собственной деятельности, что выражается в сверхкритичности, проявляющейся порой в навязчивых движениях, ритуалах, даже мыслях как защитных механизмах компенсации сверхнапряжения. В то же время уровень произвольной регуляции эмоционального состояния ча­сто бывает сформирован недостаточно, смыкаясь в своих проявлениях со спе­цификой формирования структуры аффективной регуляции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ированность пространственных представлений в целом соответствует возрастным показателям, более того, могут быть достаточно высоко развиты собственно квазипространственные (лингвистические) представления. В каче­стве иллюстрации можно предложить образ Пьеро из сказки А.Н. Толстого «Золотой ключик» как один из вариантов данного типа: поэт, меланхолик и интроверт! В случаях сочетания знаков атипичного развития и данного вари­анта дисгармонии пространственные представления будут сформированы не­достаточно, что, в свою очередь, негативно скажется на возможности овладе­ния школьной программой и еще более усугубит личностную дезадап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точки зрения сформированности уровневой организации аффективной регуляции спецификой является достаточно выраженная гипофункция 3-го уровня аффективной регуляции при гипофункции 2-го и 4-го уровней. Хоро­шо понятно, что для таких детей сама мысль о необходимости «преодоления» страшна, но в ситуации коллективного поведения или ради блага другого человека (может быть, совсем и неблизкого) они в состоянии «переломить» себя и за счет собственного аффективного истощения реализовать требуемое. В этом случае необходимая для решения поведенческих задач аффективная тониза­ция может компенсаторно проявиться в нарастании защитных механизмов 2-го уровня аффективной регуляции, что выразится в виде уже упомянутых ком­пенсаторно формирующихся навязчивостях, ритуалах, стереотипных формах эмоционального реагирования. Компенсаторно это может выражаться также и в фантазиях на тему успеха, преодоления, риска, что в реальной ситуации не имеет места. В этом случае можно говорить о том, что такие исходно интрапунитивные эмоциональные реакции проявляются в виде неких «экстрапунитивноподобных» форм. Это необходимо учитывать психологу при ана­лизе поведения ребенка. Можно также говорить об относительной недоста­точности функционирования 1-го уровня, трудностях «полевой» оценки си­туации, что может проявляться в неадекватных формах реагирования в критически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в предыдущем случае, основной формой работы с детьми является психокоррекционная/психотерапевтическая помощь. Помимо гармонизации системы аффективной регуляции, которая может проходить в виде ставшей уже классической системы О.С. Никольской, крайне успешной следует счи­тать кататимно-имагинативную психотерапию по К. Лернеру [20, 23], а так­же другие виды психотерапевтической работы, направленные на создание си­туации успеха и принятия в широком смысле этого слова. Не менее важной является и психокоррекционная работа с родителями и ближайшим окруже­нием ребенка. В случае сочетания такого типа развития с элементами атипии формирования межфункциональных взаимодействий (профиля функцио­нальной ассиметрии) в первую очередь необходима моторная коррекция, ос­нованная на нейропсихологическом подходе с последующим формированием пространственных представлений в специально создаваемой ситуации закреп­ления успеха и дости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типичными диагнозами являются: для детей — «формирование личности по тормозимому типу», «неврозоподобные реакции», «невротическое развитие личности», отдельные расстройства привычек и влечений детского возраста; для подростков — «невроз навязчивых состояний», «психопатия тормозимого типа», различные варианты психосоматического развития, вклю­чая «психогенную нервную анорексию», незлокачественные «дисморфофобии» (по МКБ-9), «расстройства социального функционирования, начало которых характерно для детского и подросткового возрастов» — (F94), «смешанные расстройства поведения и эмоций» — (F-92) «эмоциональные расстройства, специфичные для детского возраста» — (F93), «другие поведенческие и эмо­циональные расстройства, начинающиеся обычно в детском и подростковом возрасте» — (F98) (по МКБ-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им специалистом, как и в предыдущем случае, следует считать пси­холога или психотерапевта. При выраженных нарушениях, в первую очередь нарушающих социальную адаптацию, ведущим специалистом должен стать психиа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сложным и в то же время редким является выделяемый нами </a:t>
            </a:r>
            <a:r>
              <a:rPr b="1" i="1" lang="ru-RU" sz="1200" spc="-1" strike="noStrike">
                <a:solidFill>
                  <a:srgbClr val="000000"/>
                </a:solidFill>
                <a:latin typeface="Calibri"/>
              </a:rPr>
              <a:t>апатический тип</a:t>
            </a:r>
            <a:r>
              <a:rPr b="0" lang="ru-RU" sz="1200" spc="-1" strike="noStrike">
                <a:solidFill>
                  <a:srgbClr val="000000"/>
                </a:solidFill>
                <a:latin typeface="Calibri"/>
              </a:rPr>
              <a:t> дисгармонического развития. Феноменологически наиболее выраженные проявления этого типа развития наблюдаются в предподростковом и подростковом периоде. В этом возрасте в первую очередь обращает на себя внимание вялость, безразличие, собственно апатичность, отсутствие каких-либо жизненных интересов, опустошенность подростков. Для них характерно безразличие, как к результатам собственной деятельности, так и к их оцен­ке. Ребенок может быть одновременно пресыщаем и в то же время длитель­но, монотонно, «безэмоционально» и механически выполнять какие-либо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чным является отсутствие каких-либо интересов, в том числе, и сверхценных (что, собственно, и отличает этот тип развития от одного из ва­риантов искаженного развития). В некоторых случаях возможны проявления негативистичных и протестных реакций, однако это «пассивный» негатив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ршем дошкольном и младшем школьном возрастах этот тип раз­вития проявляется в более мягких и сглаженных формах, заключающихся в общем, снижении психического тонуса, отсутствии специфических детских интересов и живости реагирования. Следует отличать данный вариант разви­тия от проявлений депрессивных (то есть интрапунитивных) знаков у ребен­ка, которые как правило маскируются обилием соматических расстройств, по­вышенной чувствительностью, нарушениями сна, пищеварения, появлением тревожност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нимание!</a:t>
            </a:r>
            <a:r>
              <a:rPr b="0" lang="ru-RU" sz="1200" spc="-1" strike="noStrike">
                <a:solidFill>
                  <a:srgbClr val="000000"/>
                </a:solidFill>
                <a:latin typeface="Calibri"/>
              </a:rPr>
              <a:t> При «остром» возникновении подобной апатии, особенно в начале подросткового возраста, сочетающемся с появлением «философской интоксикации» или суицидальных мыслей, необходимо экстренное обращение к психиатру для квалификации состояния и необходим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же сложным при этом типе дисгармонии является и анализ струк­туры базовых составляющих психического развития. Данный тип дисгармо­нического развития в дошкольном и младшем школьном возрастах имеет стертую, чрезвычайно «смазанную» симптоматику, а в выраженных формах он может проявляться лишь в предподростковом и подростковом возрастах, когда структура базовых составляющих в значительной степени интероризировалась и можно говорить лишь об «операционально-технологическом» уровне их фун­кционирования. И в этой ситуации трудно говорить о какой-либо диагности­ке и анализе структуры таких базовых составляющих, как произвольность психической активности и сформированность пространственных представле­ний, поскольку проблематично выявить их в процессе консультирования. До­статочно очевидной особенностью, детерминирующей специфику всего состоя­ния ребенка, является структура сформированности базовых аффективных регуля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ервый план, скорее всего можно поставить значительную гипофунк­цию первого уровня при, по-видимому, гипофункции всех последующих иерар­хически «надстраивающихся» над ним уровней: 2-го, 3-го и 4-го, что и про­является в феноменологическом плане в виде грубого снижения жизненного тонуса за счет выраженной недостаточности всей системы аффективной тонизации. На настоящем этапе окончательного решения вопроса о специфике структуры базовых составляющих при этом типе отклоняющегося развития 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 возможной развивающей и коррекционной работе должен решать­ся совместно с психиатром, как ведущим в этом случае специалистом. В то же время при невыраженных случаях апатичного типа дисгармонического развития и отсутствии противопоказаний к применению психологической коррекции со стороны врача может проводиться тонизация аффективной сферы за счет постепенно нарастающей сенсорной стимуляции в сочетании с психо­терапевтической работой с ребенком и его семь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 развития зависит от «остроты» состояния, особенностей возник­новения, других факторов. Часто подобное состояние означает начало процес­суального заболевания, прогноз которого выходит за пределы компетенции психолога. Как правило, в этом случае психиатром выставляется диагноз, характеризующий наличие или начало эндогенного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A756-78D1-44B1-BC13-9449CFBF2F73}"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оль семьи</a:t>
            </a:r>
            <a:r>
              <a:rPr b="0" lang="ru-RU" sz="1200" spc="-1" strike="noStrike">
                <a:solidFill>
                  <a:srgbClr val="000000"/>
                </a:solidFill>
                <a:latin typeface="Calibri"/>
              </a:rPr>
              <a:t> Как бы мы ни рассматривали роль и вес природно-обусловленных факторов или влияние целенаправленного обучения и воспитания (школы) на развитие личности и одаренности ребенка, значение семьи является решающим. Даже, казалось бы, неблагоприятные условия (плохой быт, недостаточная материальная обеспеченность, неполная семья и т.д.) оказываются относительно безразличны для развития способностей. Особенно важно для становления личности одаренного ребенка прежде всего повышенное внимание родителей. Как правило, в семьях одаренных детей отчетливо наблюдается высокая ценность образования, при этом часто весьма образованными оказываются и сами родители. Определенная "детоцентричность" семьи одаренного ребенка, фанатическое желание родителей развить его способности имеет в ряде случаев и свои отрицательные стороны. Так, в этих семьях наблюдается определенная попустительская позиция в отношении развития у своего ребенка ряда социальных и бытовых навыков. Родители одаренных детей проявляют особое внимание к школьному обучению своего ребенка, выбирая для него учебники или дополнительную литературу и советуясь с учителем, как их лучше изучать. Данное обстоятельство иногда имеет и отрицательные стороны: родители нередко вмешиваются в учебный процесс и в отдельных случаях даже провоцируют конфликт с администрацией и педагогами. Но, в силу уже описанной выше неравномерности развития, у части детей с резко повышенными интеллектуальными и художественно-эстетическими возможностями часто отсутствуют достаточно сформированные и эффективные навыки социального поведения и возникают проблемы в общении. Это может проявляться в излишней конфликтности. Во многих случаях особая одаренность сопровождается необычным поведением и странностями, что вызывает у одноклассников недоумение или насмешку. В результате таких взаимоотношений со сверстниками порождаются и еще более усиливаются проблемы общения. Возможно, это одна из причин несоблюдения ими некоторых норм и требований коллектива. Присущая всем одаренным детям неконформность в данном случае усиливает этот негативный момент. В результате это приводит к своеобразной отчужденности ребенка от группы сверстников, и он начинает искать другие ниши для общения: общество более младших или, наоборот, значительно более старших детей или только взрослых. Учителя также неоднозначно относятся к особо одаренным детям, однако все зависит от личности самого учителя. Некоторые особенности личности таких одаренных вызывают у учителей негодование, связанное с их представлением об этих детях как о крайних индивидуалистах, которое усиливается из-за отсутствия чувства дистанции со взрослыми у многих таких детей. Именно поэтому понимание своеобразия личности одаренного ребенка с дисгармоническим типом развития является принципиально важным для успешной работы учителя с таким контингентом детей и подростков. В целом возникает ситуация некоторой дезадаптации особо одаренного ребенка, которая может принимать довольно серьезный характер, временами вполне оправдывая отнесение одаренных детей этого типа к группе повыше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чителя</a:t>
            </a:r>
            <a:endParaRPr b="0" lang="en-US" sz="1200" spc="-1" strike="noStrike">
              <a:solidFill>
                <a:srgbClr val="000000"/>
              </a:solidFill>
              <a:latin typeface="Calibri"/>
            </a:endParaRPr>
          </a:p>
        </p:txBody>
      </p:sp>
      <p:sp>
        <p:nvSpPr>
          <p:cNvPr id="2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5FF9-7DAD-411D-A013-619A6A598BAD}"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290F2-0288-466C-A7C5-F923F644E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E7B92-1090-4066-AC27-977DBF50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1F836-8253-4842-8BA7-0631523F2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C97F2-AB5F-4D4A-8001-728143E18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F7590-17E0-46AF-ACE4-D51C2FBFD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F3CEA-7F68-4C4E-BCC4-D92105470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24D1D-E91D-453D-B3E9-25A7A726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EB67-AA66-48BF-A7B0-73A6E3477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6AEDC-30BE-400F-98E7-1AEED9376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A8A36-0C5B-4C2A-B653-9043AB48B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4606C-5EDB-4D4D-84CF-8FFB0136B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CDBAB-E2BC-4451-96C9-95AAA33D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34857-4A82-4BDE-974E-0799B90E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63E3-BD57-4772-BA1C-04C6D291F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79FD2-7416-45E3-8748-8DB8C2FF0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54591-2B7F-4A2C-8450-CF3B4A1D5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BB71E-00FB-44DF-B043-100B63FF1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6DE58-91F4-435A-8057-C780AE254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76DC8-7FD7-4F01-A1F3-AF881C236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94ED5-13B7-408A-BA6B-3208458B6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2106B-24AD-4560-AE02-4C46F42CC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35793-BD4C-4FBE-8089-4CD3C0383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D82F-F423-45E7-815A-EFB4F395D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9A5E9-49A4-4FE9-AF67-FE0D19560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D6508-F129-4F32-8548-D52D9442E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6DC3B-7C99-4315-B19B-DA376BD76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9128F-E0E1-4AF8-BB05-E80B3CAF2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9D51A-96A5-4B3C-B0AF-B254C1FAD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35A52-BFAE-4EC4-A8AA-68E6DF6CA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939BDA-241D-4D0B-9F71-3466FED9C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0BE95-CDA7-4D8C-8A16-73B7B471F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8ED5A-F57D-45AD-9776-57918FF2B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E2128-FB7E-4C88-9CE3-A4AE29A72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1B2D-6E35-4E93-AC0C-DABBC2D3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D0D33-4867-499B-9A92-6A4BAA90E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5DA91-4354-4D5C-8176-4CC045EA3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F57F3-C872-4B5C-A6F1-BAFB1C7B0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77CA8-AA65-415A-B0CC-856A815FC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7F58B-D73A-43D9-8DF2-34865C6BA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583A7-FF2B-4FF9-82A6-F1843992A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57448-EF0C-4A49-85C7-100C5C86A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DC2B7-B4A7-4566-B9A6-A8B1D0B98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076ACD-A230-43D4-B1A1-5CB9EBCF7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79ABA3-28B4-4211-AC45-BF74E87DD6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CA8D-C2BA-4FE4-83F2-7F6778A95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25F01-C7B6-49C3-A946-409C64D0A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4AB9E-D9B2-4A4D-85B1-F65D2C426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98E51-71BD-4548-8ED2-25DCAF4E1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1F37C-4C43-40D4-8EBD-FB7F9A230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82D94-BFBC-4F81-BAAB-7C91B123E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BD46B-9D19-40DB-865A-15B78DB25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F84B4-32D0-4A88-AFD7-AAFF8976D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1ADC9-FAE1-43BE-9D35-6735B9C91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022E3-4D89-4590-86F7-A53FCEFA7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EC6A1C-926C-4772-9CE4-6D4CD063FB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4785-5F0A-4EC7-9A72-7B796C1A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B23AD-C370-4EFB-9CBA-43A0B3C3DF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9010-A408-42D9-B692-18FAA404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00D0-B20F-4D10-94F0-4AAD814C3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6213-D785-4F19-924D-B22DAA1B4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7A62-C15C-4741-A01F-92DC22959766}"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DA9D-1B31-474E-8933-E534ED63EC66}"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CD8C-096C-4A69-85A6-B48BBAB20BE9}"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9B5-D84D-45A5-A12B-3F56A009EC56}"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41FF-093A-4E5D-A7CC-333573801EC3}"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6" descr=""/>
          <p:cNvPicPr/>
          <p:nvPr/>
        </p:nvPicPr>
        <p:blipFill>
          <a:blip r:embed="rId1"/>
          <a:stretch/>
        </p:blipFill>
        <p:spPr>
          <a:xfrm>
            <a:off x="3108240" y="530280"/>
            <a:ext cx="579780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rebuchet MS"/>
              </a:rPr>
              <a:t> </a:t>
            </a:r>
            <a:endParaRPr b="0" lang="en-US" sz="2800" spc="-1" strike="noStrike">
              <a:solidFill>
                <a:srgbClr val="000000"/>
              </a:solidFill>
              <a:latin typeface="Trebuchet MS"/>
            </a:endParaRPr>
          </a:p>
        </p:txBody>
      </p:sp>
      <p:sp>
        <p:nvSpPr>
          <p:cNvPr id="229" name="Прямоугольник 3"/>
          <p:cNvSpPr/>
          <p:nvPr/>
        </p:nvSpPr>
        <p:spPr>
          <a:xfrm>
            <a:off x="4357800" y="5286240"/>
            <a:ext cx="4143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Times New Roman"/>
              </a:rPr>
              <a:t>Т.В.Кузора</a:t>
            </a:r>
            <a:endParaRPr b="0" lang="en-US" sz="1800" spc="-1" strike="noStrike">
              <a:solidFill>
                <a:srgbClr val="000000"/>
              </a:solidFill>
              <a:latin typeface="Constant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Times New Roman"/>
              </a:rPr>
              <a:t>студентка 1 курса магистратуры Института Искусств СГУ им.Н.Г.Чернышевского</a:t>
            </a:r>
            <a:endParaRPr b="0" lang="en-US" sz="1800" spc="-1" strike="noStrike">
              <a:solidFill>
                <a:srgbClr val="000000"/>
              </a:solidFill>
              <a:latin typeface="Constantia"/>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Прямоугольник 1"/>
          <p:cNvSpPr/>
          <p:nvPr/>
        </p:nvSpPr>
        <p:spPr>
          <a:xfrm>
            <a:off x="0" y="0"/>
            <a:ext cx="8143920" cy="19224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91f4d"/>
                </a:solidFill>
                <a:latin typeface="Trebuchet MS"/>
              </a:rPr>
              <a:t>Формы организации деятельности</a:t>
            </a:r>
            <a:endParaRPr b="0" lang="en-US" sz="4000" spc="-1" strike="noStrike">
              <a:solidFill>
                <a:srgbClr val="000000"/>
              </a:solidFill>
              <a:latin typeface="Constantia"/>
            </a:endParaRPr>
          </a:p>
          <a:p>
            <a:pPr marL="285840" indent="-285840" algn="ctr">
              <a:lnSpc>
                <a:spcPct val="100000"/>
              </a:lnSpc>
              <a:buClr>
                <a:srgbClr val="591f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50" name="Прямоугольник 2"/>
          <p:cNvSpPr/>
          <p:nvPr/>
        </p:nvSpPr>
        <p:spPr>
          <a:xfrm>
            <a:off x="1081080" y="1785960"/>
            <a:ext cx="29372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Constantia"/>
              </a:rPr>
              <a:t>Миникурс</a:t>
            </a:r>
            <a:endParaRPr b="0" lang="en-US" sz="3600" spc="-1" strike="noStrike">
              <a:solidFill>
                <a:srgbClr val="000000"/>
              </a:solidFill>
              <a:latin typeface="Constantia"/>
            </a:endParaRPr>
          </a:p>
        </p:txBody>
      </p:sp>
      <p:sp>
        <p:nvSpPr>
          <p:cNvPr id="251" name="Прямоугольник 3"/>
          <p:cNvSpPr/>
          <p:nvPr/>
        </p:nvSpPr>
        <p:spPr>
          <a:xfrm>
            <a:off x="1143000" y="2428920"/>
            <a:ext cx="406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rebuchet MS"/>
              </a:rPr>
              <a:t> </a:t>
            </a:r>
            <a:r>
              <a:rPr b="1" lang="ru-RU" sz="3600" spc="-1" strike="noStrike">
                <a:solidFill>
                  <a:srgbClr val="000000"/>
                </a:solidFill>
                <a:latin typeface="Trebuchet MS"/>
              </a:rPr>
              <a:t>Наставничество</a:t>
            </a:r>
            <a:endParaRPr b="0" lang="en-US" sz="36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52" name="Прямоугольник 4"/>
          <p:cNvSpPr/>
          <p:nvPr/>
        </p:nvSpPr>
        <p:spPr>
          <a:xfrm>
            <a:off x="965520" y="3214800"/>
            <a:ext cx="64260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nstantia"/>
              </a:rPr>
              <a:t> </a:t>
            </a:r>
            <a:r>
              <a:rPr b="1" lang="ru-RU" sz="3600" spc="-1" strike="noStrike">
                <a:solidFill>
                  <a:srgbClr val="000000"/>
                </a:solidFill>
                <a:latin typeface="Constantia"/>
              </a:rPr>
              <a:t>Экспресс - исследования</a:t>
            </a:r>
            <a:endParaRPr b="0" lang="en-US" sz="3600" spc="-1" strike="noStrike">
              <a:solidFill>
                <a:srgbClr val="000000"/>
              </a:solidFill>
              <a:latin typeface="Constantia"/>
            </a:endParaRPr>
          </a:p>
        </p:txBody>
      </p:sp>
      <p:sp>
        <p:nvSpPr>
          <p:cNvPr id="253" name="Прямоугольник 5"/>
          <p:cNvSpPr/>
          <p:nvPr/>
        </p:nvSpPr>
        <p:spPr>
          <a:xfrm>
            <a:off x="990720" y="4000680"/>
            <a:ext cx="48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rebuchet MS"/>
              </a:rPr>
              <a:t> </a:t>
            </a:r>
            <a:r>
              <a:rPr b="1" lang="ru-RU" sz="3600" spc="-1" strike="noStrike">
                <a:solidFill>
                  <a:srgbClr val="000000"/>
                </a:solidFill>
                <a:latin typeface="Trebuchet MS"/>
              </a:rPr>
              <a:t>Учебные турниры</a:t>
            </a:r>
            <a:endParaRPr b="0" lang="en-US" sz="3600" spc="-1" strike="noStrike">
              <a:solidFill>
                <a:srgbClr val="000000"/>
              </a:solidFill>
              <a:latin typeface="Constantia"/>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857160" y="857160"/>
            <a:ext cx="6572520" cy="49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2" descr=""/>
          <p:cNvPicPr/>
          <p:nvPr/>
        </p:nvPicPr>
        <p:blipFill>
          <a:blip r:embed="rId1"/>
          <a:stretch/>
        </p:blipFill>
        <p:spPr>
          <a:xfrm>
            <a:off x="450720" y="317520"/>
            <a:ext cx="725508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Исключительная одаренность</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Интеллектуальная одаренность</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Академическая одаренность</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208080" y="633240"/>
            <a:ext cx="8082000" cy="1159200"/>
          </a:xfrm>
          <a:prstGeom prst="rect">
            <a:avLst/>
          </a:prstGeom>
          <a:ln w="0">
            <a:noFill/>
          </a:ln>
        </p:spPr>
      </p:pic>
      <p:sp>
        <p:nvSpPr>
          <p:cNvPr id="233" name=""/>
          <p:cNvSpPr txBox="1"/>
          <p:nvPr/>
        </p:nvSpPr>
        <p:spPr>
          <a:xfrm>
            <a:off x="0" y="2677680"/>
            <a:ext cx="4059360" cy="417996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Гармоничный тип развития личности</a:t>
            </a:r>
            <a:endParaRPr b="0" lang="en-US" sz="3200" spc="-1" strike="noStrike">
              <a:solidFill>
                <a:srgbClr val="000000"/>
              </a:solidFill>
              <a:latin typeface="Trebuchet MS"/>
            </a:endParaRPr>
          </a:p>
        </p:txBody>
      </p:sp>
      <p:sp>
        <p:nvSpPr>
          <p:cNvPr id="234" name=""/>
          <p:cNvSpPr txBox="1"/>
          <p:nvPr/>
        </p:nvSpPr>
        <p:spPr>
          <a:xfrm>
            <a:off x="4357440" y="2751120"/>
            <a:ext cx="4059000" cy="41068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Дисгармоничный тип развития</a:t>
            </a:r>
            <a:endParaRPr b="0" lang="en-US" sz="3200" spc="-1" strike="noStrike">
              <a:solidFill>
                <a:srgbClr val="000000"/>
              </a:solidFill>
              <a:latin typeface="Trebuchet MS"/>
            </a:endParaRPr>
          </a:p>
        </p:txBody>
      </p:sp>
      <p:cxnSp>
        <p:nvCxnSpPr>
          <p:cNvPr id="235" name="Прямая со стрелкой 6"/>
          <p:cNvCxnSpPr/>
          <p:nvPr/>
        </p:nvCxnSpPr>
        <p:spPr>
          <a:xfrm flipH="1">
            <a:off x="1071000" y="2000160"/>
            <a:ext cx="1929240" cy="1512000"/>
          </a:xfrm>
          <a:prstGeom prst="straightConnector1">
            <a:avLst/>
          </a:prstGeom>
          <a:ln w="11520">
            <a:solidFill>
              <a:srgbClr val="b83d68"/>
            </a:solidFill>
            <a:miter/>
            <a:tailEnd len="med" type="arrow" w="med"/>
          </a:ln>
        </p:spPr>
      </p:cxnSp>
      <p:cxnSp>
        <p:nvCxnSpPr>
          <p:cNvPr id="236" name="Прямая со стрелкой 8"/>
          <p:cNvCxnSpPr/>
          <p:nvPr/>
        </p:nvCxnSpPr>
        <p:spPr>
          <a:xfrm>
            <a:off x="4928760" y="1999800"/>
            <a:ext cx="2088360" cy="1583640"/>
          </a:xfrm>
          <a:prstGeom prst="straightConnector1">
            <a:avLst/>
          </a:prstGeom>
          <a:ln w="11520">
            <a:solidFill>
              <a:srgbClr val="b83d68"/>
            </a:solidFill>
            <a:miter/>
            <a:tailEnd len="med" type="arrow" w="med"/>
          </a:ln>
        </p:spPr>
      </p:cxnSp>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1" dur="500"/>
                                        <p:tgtEl>
                                          <p:spTgt spid="233">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6"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2" descr=""/>
          <p:cNvPicPr/>
          <p:nvPr/>
        </p:nvPicPr>
        <p:blipFill>
          <a:blip r:embed="rId1"/>
          <a:stretch/>
        </p:blipFill>
        <p:spPr>
          <a:xfrm>
            <a:off x="195120" y="85680"/>
            <a:ext cx="7785360" cy="138276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Стремление к творческой деятельности</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Высокий уровень познавательной потребности</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Перфекционизм(стремление добиться совершенств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Устойчиво высокая самооценка</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Независимость</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Укоренившиеся интересы и склонности.</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Заголовок 2" descr=""/>
          <p:cNvPicPr/>
          <p:nvPr/>
        </p:nvPicPr>
        <p:blipFill>
          <a:blip r:embed="rId1"/>
          <a:stretch/>
        </p:blipFill>
        <p:spPr>
          <a:xfrm>
            <a:off x="-49320" y="85680"/>
            <a:ext cx="8126640" cy="1992240"/>
          </a:xfrm>
          <a:prstGeom prst="rect">
            <a:avLst/>
          </a:prstGeom>
          <a:ln w="0">
            <a:noFill/>
          </a:ln>
        </p:spPr>
      </p:pic>
      <p:sp>
        <p:nvSpPr>
          <p:cNvPr id="240" name=""/>
          <p:cNvSpPr txBox="1"/>
          <p:nvPr/>
        </p:nvSpPr>
        <p:spPr>
          <a:xfrm>
            <a:off x="357120" y="2214720"/>
            <a:ext cx="6910560" cy="4456080"/>
          </a:xfrm>
          <a:prstGeom prst="rect">
            <a:avLst/>
          </a:prstGeom>
          <a:noFill/>
          <a:ln w="0">
            <a:noFill/>
          </a:ln>
        </p:spPr>
        <p:txBody>
          <a:bodyPr lIns="90000" rIns="90000" tIns="46800" bIns="46800"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Опережение в умственном или художественно – эстетическом развитии</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Особая система ценностей</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Не стабильная самооценка</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Перфекционизм</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Эмоциональное развитие(повышенная впечатлительность)</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рудная саморегуляция</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Неравномерность психического развития</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2" descr=""/>
          <p:cNvPicPr/>
          <p:nvPr/>
        </p:nvPicPr>
        <p:blipFill>
          <a:blip r:embed="rId1"/>
          <a:stretch/>
        </p:blipFill>
        <p:spPr>
          <a:xfrm>
            <a:off x="195120" y="85680"/>
            <a:ext cx="7510680" cy="138276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rebuchet MS"/>
              </a:rPr>
              <a:t>экстрапунитивный тип</a:t>
            </a: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rebuchet MS"/>
              </a:rPr>
              <a:t>интрапунитивный тип</a:t>
            </a:r>
            <a:r>
              <a:rPr b="0" lang="ru-RU" sz="4000" spc="-1" strike="noStrike">
                <a:solidFill>
                  <a:srgbClr val="000000"/>
                </a:solidFill>
                <a:latin typeface="Trebuchet MS"/>
              </a:rPr>
              <a:t>  </a:t>
            </a: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rebuchet MS"/>
              </a:rPr>
              <a:t>апатический тип</a:t>
            </a:r>
            <a:r>
              <a:rPr b="0" lang="ru-RU" sz="4000" spc="-1" strike="noStrike">
                <a:solidFill>
                  <a:srgbClr val="000000"/>
                </a:solidFill>
                <a:latin typeface="Trebuchet MS"/>
              </a:rPr>
              <a:t> </a:t>
            </a: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Tree>
  </p:cSld>
  <p:transition spd="slow">
    <p:push di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2" descr=""/>
          <p:cNvPicPr/>
          <p:nvPr/>
        </p:nvPicPr>
        <p:blipFill>
          <a:blip r:embed="rId1"/>
          <a:stretch/>
        </p:blipFill>
        <p:spPr>
          <a:xfrm>
            <a:off x="450720" y="317520"/>
            <a:ext cx="725508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rebuchet MS"/>
              </a:rPr>
              <a:t>семья</a:t>
            </a: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rebuchet MS"/>
              </a:rPr>
              <a:t>учитель</a:t>
            </a:r>
            <a:endParaRPr b="0" lang="en-US" sz="4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rebuchet MS"/>
              </a:rPr>
              <a:t>педагог - психолог</a:t>
            </a:r>
            <a:endParaRPr b="0" lang="en-US" sz="4000" spc="-1" strike="noStrike">
              <a:solidFill>
                <a:srgbClr val="000000"/>
              </a:solidFill>
              <a:latin typeface="Trebuchet MS"/>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2" descr=""/>
          <p:cNvPicPr/>
          <p:nvPr/>
        </p:nvPicPr>
        <p:blipFill>
          <a:blip r:embed="rId1"/>
          <a:stretch/>
        </p:blipFill>
        <p:spPr>
          <a:xfrm>
            <a:off x="-262080" y="-146160"/>
            <a:ext cx="8521920" cy="1152720"/>
          </a:xfrm>
          <a:prstGeom prst="rect">
            <a:avLst/>
          </a:prstGeom>
          <a:ln w="0">
            <a:noFill/>
          </a:ln>
        </p:spPr>
      </p:pic>
      <p:sp>
        <p:nvSpPr>
          <p:cNvPr id="246" name=""/>
          <p:cNvSpPr txBox="1"/>
          <p:nvPr/>
        </p:nvSpPr>
        <p:spPr>
          <a:xfrm>
            <a:off x="0" y="1285560"/>
            <a:ext cx="8229600" cy="52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показывайте ребенку, что его любят таким, каков он есть, а не его достижения.</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нельзя никогда (даже в сердцах) говорить ребенку, что он хуже других.</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следует по возможности честно и терпеливо отвечать на любые вопросы.</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старайтесь каждый день находить время, чтобы побыть наедине со своим ребенком.</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учите ребенка свободно и непринужденно общаться не только со своими сверстниками, но и со взрослыми. Не стесняйтесь подчеркивать, что вы им гордитесь. Будьте честны в оценках своих чувств к ребенку. Всегда говорите ребенку правду, даже когда вам это невыгодно.</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оценивайте только поступки, а не самого ребенка. Не добивайтесь успеха силой. Принуждение есть худший вариант нравственного воспитания. принуждение в семье создает атмосферу разрушения личности ребенка.</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признавайте право ребенка на ошибки. Думайте о детском банке счастливых воспоминаний. Ребенок относится к себе так, как относятся к нему взрослые.</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и вообще, хоть иногда ставьте себя на место своего ребенка, и тогда будет понятнее, как вести себя с ним.</a:t>
            </a:r>
            <a:endParaRPr b="0" lang="en-US" sz="1800" spc="-1" strike="noStrike">
              <a:solidFill>
                <a:srgbClr val="000000"/>
              </a:solidFill>
              <a:latin typeface="Trebuchet MS"/>
            </a:endParaRPr>
          </a:p>
          <a:p>
            <a:pPr marL="264600" indent="-2646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2" descr=""/>
          <p:cNvPicPr/>
          <p:nvPr/>
        </p:nvPicPr>
        <p:blipFill>
          <a:blip r:embed="rId1"/>
          <a:stretch/>
        </p:blipFill>
        <p:spPr>
          <a:xfrm>
            <a:off x="-6480" y="85680"/>
            <a:ext cx="8156880" cy="138276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ок окружен критицизмом, он учится обвинять.</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ок видит враждебность, он учится драться.</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над ребенком насмехаются, он учится быть робким.</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ка постоянно стыдят, он учится чувствовать себя виноватым.</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ок окружен терпимостью, он учится быть терпимым.</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ка поддерживают, он учится уверенности.</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ка хвалят, он учится ценить других.</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с ребенком обходятся справедливо, он учится справедливости.</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ок чувствует себя в безопасности, он учится верить.</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ка ободряют, он учится нравиться самому себе.</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Если ребенка принимают и обращаются с ним дружелюбно, он учится находить любовь в этом мире.</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04:37:21Z</dcterms:created>
  <dc:creator>Пользователь</dc:creator>
  <dc:description/>
  <dc:language>en-US</dc:language>
  <cp:lastModifiedBy>1</cp:lastModifiedBy>
  <dcterms:modified xsi:type="dcterms:W3CDTF">2013-12-13T06:00:55Z</dcterms:modified>
  <cp:revision>27</cp:revision>
  <dc:subject/>
  <dc:title>Одаренные дети</dc:title>
</cp:coreProperties>
</file>