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E84-7FD2-46D3-89F3-7CDE897D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315-991E-4019-892C-59DB45D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838-4C35-46B7-A131-77FE6D7D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0B0-ED71-4072-BE71-8DC45004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E271-19D0-4855-BB7A-0F38E6BD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108F-B0FB-4F60-9769-978162C6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EBCA-36CA-453D-BB72-3155147E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1739-44D1-4960-B3EE-9D6D6D9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637C-A57D-4849-BE23-D0783C31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C070-538D-4138-A811-F15810C0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BBBA-709D-4BA7-8765-3D8A44A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624-06FE-4001-8F90-8085BED4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F055-9231-44FC-AC38-2DA22AA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8914-8BFE-411D-BEE6-DD8B04C9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4981-E688-4A94-B6DB-25FAC20A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3021-1C42-4570-9608-88A2D1AC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98CE-26B5-474C-A885-AEB946CF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F78-D314-482B-BDB3-FAD8BB96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746-5646-4D27-BFC7-B41186A3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F51-7270-4835-932B-67A89EDB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F0B-0636-4512-99CB-E6549DE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B82-8BDB-4731-B351-A2D9A0C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1FF-A021-4654-B827-D2DF34CC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F61-04A9-4158-A309-6A0F6BE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Group 3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9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Group 11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Freeform 12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B332-3D14-4CC0-946A-FF6847886C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Group 3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Group 5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Freeform 6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7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8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Freeform 9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10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Group 11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Freeform 12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1065-816B-491B-9D3F-98A4593A16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lass39.ru/wp-content/uploads/2013/11/image035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klass39.ru/wp-content/uploads/2013/11/img30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280656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Рисунок 8" descr="http://www.e-reading.link/illustrations/1003/1003050-i_049.jpg"/>
          <p:cNvPicPr/>
          <p:nvPr/>
        </p:nvPicPr>
        <p:blipFill>
          <a:blip r:embed="rId1"/>
          <a:stretch/>
        </p:blipFill>
        <p:spPr>
          <a:xfrm>
            <a:off x="179280" y="260280"/>
            <a:ext cx="3313080" cy="30164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9" descr="http://www.topauthor.ru/uploads/2013-04/original/33cbdcf743556c9fc50d18bece904b00.jpeg"/>
          <p:cNvPicPr/>
          <p:nvPr/>
        </p:nvPicPr>
        <p:blipFill>
          <a:blip r:embed="rId2"/>
          <a:stretch/>
        </p:blipFill>
        <p:spPr>
          <a:xfrm>
            <a:off x="179280" y="3483000"/>
            <a:ext cx="3384720" cy="27464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0" descr="http://www.e-reading.link/illustrations/1003/1003050-i_067.jpg"/>
          <p:cNvPicPr/>
          <p:nvPr/>
        </p:nvPicPr>
        <p:blipFill>
          <a:blip r:embed="rId3"/>
          <a:stretch/>
        </p:blipFill>
        <p:spPr>
          <a:xfrm>
            <a:off x="4572000" y="260280"/>
            <a:ext cx="3367080" cy="3016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1" descr="https://encrypted-tbn3.gstatic.com/images?q=tbn:ANd9GcSBY5iN9KamXWefxwi-Ev57YMLQdyiJRb_qPVgPfFY4TmqlXE6gdrW4TkMo"/>
          <p:cNvPicPr/>
          <p:nvPr/>
        </p:nvPicPr>
        <p:blipFill>
          <a:blip r:embed="rId4"/>
          <a:stretch/>
        </p:blipFill>
        <p:spPr>
          <a:xfrm>
            <a:off x="4572000" y="3483000"/>
            <a:ext cx="3367080" cy="27464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1187280" y="1484280"/>
            <a:ext cx="66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79"/>
                </a:solidFill>
                <a:latin typeface="Times New Roman"/>
              </a:rPr>
              <a:t>ПЕРВОБЫТНЫЙ МИР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0079"/>
                </a:solidFill>
                <a:latin typeface="Times New Roman"/>
              </a:rPr>
              <a:t>ПЕРВЫЕ ШАГИ ЧЕЛОВЕЧЕСТВ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280656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Прямоугольник 1" descr=""/>
          <p:cNvPicPr/>
          <p:nvPr/>
        </p:nvPicPr>
        <p:blipFill>
          <a:blip r:embed="rId1"/>
          <a:stretch/>
        </p:blipFill>
        <p:spPr>
          <a:xfrm>
            <a:off x="1401840" y="189000"/>
            <a:ext cx="7493040" cy="1384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rcRect l="0" t="10462" r="0" b="0"/>
          <a:stretch/>
        </p:blipFill>
        <p:spPr>
          <a:xfrm>
            <a:off x="600120" y="1413000"/>
            <a:ext cx="83059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18920" y="1267920"/>
            <a:ext cx="684036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0079"/>
                </a:solidFill>
                <a:latin typeface="Times New Roman"/>
              </a:rPr>
              <a:t>ФИЗМИНУТ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7" descr="6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197160"/>
          </a:xfrm>
          <a:prstGeom prst="rect">
            <a:avLst/>
          </a:prstGeom>
          <a:ln w="0">
            <a:noFill/>
          </a:ln>
        </p:spPr>
      </p:pic>
      <p:pic>
        <p:nvPicPr>
          <p:cNvPr id="121" name="4edb48694e118a8c8257f0b3259b34f2.mp3" descr=""/>
          <p:cNvPicPr/>
          <p:nvPr/>
        </p:nvPicPr>
        <p:blipFill>
          <a:blip r:embed="rId2"/>
          <a:stretch/>
        </p:blipFill>
        <p:spPr>
          <a:xfrm>
            <a:off x="714240" y="107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5653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31640" y="404640"/>
            <a:ext cx="712764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0079"/>
                </a:solidFill>
                <a:latin typeface="Times New Roman"/>
              </a:rPr>
              <a:t>Достижения эпохи Первобытного 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468360" y="1916280"/>
            <a:ext cx="374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10079"/>
                </a:solidFill>
                <a:latin typeface="Times New Roman"/>
              </a:rPr>
              <a:t>Пла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1007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10079"/>
                </a:solidFill>
                <a:latin typeface="Times New Roman"/>
              </a:rPr>
              <a:t>Где живу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1007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10079"/>
                </a:solidFill>
                <a:latin typeface="Times New Roman"/>
              </a:rPr>
              <a:t>Одеж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1007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10079"/>
                </a:solidFill>
                <a:latin typeface="Times New Roman"/>
              </a:rPr>
              <a:t>Что едя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1007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10079"/>
                </a:solidFill>
                <a:latin typeface="Times New Roman"/>
              </a:rPr>
              <a:t>Орудия тру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Рисунок 6" descr="C:\Users\балуевы\Desktop\1 001.jpg"/>
          <p:cNvPicPr/>
          <p:nvPr/>
        </p:nvPicPr>
        <p:blipFill>
          <a:blip r:embed="rId1"/>
          <a:srcRect l="28222" t="18351" r="44869" b="58346"/>
          <a:stretch/>
        </p:blipFill>
        <p:spPr>
          <a:xfrm>
            <a:off x="4206960" y="1341360"/>
            <a:ext cx="4824360" cy="4319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C:\Users\балуевы\Desktop\1 001.jpg"/>
          <p:cNvPicPr/>
          <p:nvPr/>
        </p:nvPicPr>
        <p:blipFill>
          <a:blip r:embed="rId2"/>
          <a:srcRect l="54929" t="18351" r="18802" b="57318"/>
          <a:stretch/>
        </p:blipFill>
        <p:spPr>
          <a:xfrm>
            <a:off x="3929040" y="1500120"/>
            <a:ext cx="5004000" cy="36655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C:\Users\балуевы\Desktop\1 001.jpg"/>
          <p:cNvPicPr/>
          <p:nvPr/>
        </p:nvPicPr>
        <p:blipFill>
          <a:blip r:embed="rId3"/>
          <a:srcRect l="28222" t="41570" r="45277" b="34539"/>
          <a:stretch/>
        </p:blipFill>
        <p:spPr>
          <a:xfrm>
            <a:off x="3929040" y="1071720"/>
            <a:ext cx="481176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C:\Users\балуевы\Desktop\1 001.jpg"/>
          <p:cNvPicPr/>
          <p:nvPr/>
        </p:nvPicPr>
        <p:blipFill>
          <a:blip r:embed="rId4"/>
          <a:srcRect l="54929" t="41913" r="18802" b="34539"/>
          <a:stretch/>
        </p:blipFill>
        <p:spPr>
          <a:xfrm>
            <a:off x="4286160" y="1785960"/>
            <a:ext cx="46594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619280" y="765000"/>
            <a:ext cx="712800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0079"/>
                </a:solidFill>
                <a:latin typeface="Times New Roman"/>
              </a:rPr>
              <a:t>МОРАЛ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http://history-paradox.ru/img/pervobitny2.jpg"/>
          <p:cNvPicPr/>
          <p:nvPr/>
        </p:nvPicPr>
        <p:blipFill>
          <a:blip r:embed="rId1"/>
          <a:stretch/>
        </p:blipFill>
        <p:spPr>
          <a:xfrm>
            <a:off x="900000" y="1608120"/>
            <a:ext cx="7742520" cy="4735440"/>
          </a:xfrm>
          <a:prstGeom prst="rect">
            <a:avLst/>
          </a:prstGeom>
          <a:ln w="0">
            <a:noFill/>
          </a:ln>
        </p:spPr>
      </p:pic>
      <p:pic>
        <p:nvPicPr>
          <p:cNvPr id="130" name="R20150303155317" descr=""/>
          <p:cNvPicPr/>
          <p:nvPr/>
        </p:nvPicPr>
        <p:blipFill>
          <a:blip r:embed="rId2"/>
          <a:stretch/>
        </p:blipFill>
        <p:spPr>
          <a:xfrm>
            <a:off x="552600" y="78408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00120" y="356760"/>
            <a:ext cx="6958080" cy="602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0079"/>
                </a:solidFill>
                <a:latin typeface="Times New Roman"/>
              </a:rPr>
              <a:t>Вставьте пропущенные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Эпоха ____________мира - это время появления первых </a:t>
            </a:r>
            <a:r>
              <a:rPr b="1" lang="ru-RU" sz="3200" spc="-1" strike="noStrike" u="sng">
                <a:solidFill>
                  <a:srgbClr val="410079"/>
                </a:solidFill>
                <a:uFillTx/>
                <a:latin typeface="Times New Roman"/>
              </a:rPr>
              <a:t>__________</a:t>
            </a: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 и их </a:t>
            </a:r>
            <a:r>
              <a:rPr b="1" lang="ru-RU" sz="3200" spc="-1" strike="noStrike" u="sng">
                <a:solidFill>
                  <a:srgbClr val="410079"/>
                </a:solidFill>
                <a:uFillTx/>
                <a:latin typeface="Times New Roman"/>
              </a:rPr>
              <a:t>____________ </a:t>
            </a: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по плане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В условиях первобытного общества люди объединялись в союзы - </a:t>
            </a:r>
            <a:r>
              <a:rPr b="1" lang="ru-RU" sz="3200" spc="-1" strike="noStrike" u="sng">
                <a:solidFill>
                  <a:srgbClr val="410079"/>
                </a:solidFill>
                <a:uFillTx/>
                <a:latin typeface="Times New Roman"/>
              </a:rPr>
              <a:t>________,</a:t>
            </a: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 которые состояли </a:t>
            </a:r>
            <a:r>
              <a:rPr b="1" lang="ru-RU" sz="3200" spc="-1" strike="noStrike" u="sng">
                <a:solidFill>
                  <a:srgbClr val="410079"/>
                </a:solidFill>
                <a:uFillTx/>
                <a:latin typeface="Times New Roman"/>
              </a:rPr>
              <a:t>_________</a:t>
            </a: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, имевших общих пред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Настоящим человеком, которому нельзя делать зла, считался только человек </a:t>
            </a:r>
            <a:r>
              <a:rPr b="1" lang="ru-RU" sz="3200" spc="-1" strike="noStrike" u="sng">
                <a:solidFill>
                  <a:srgbClr val="410079"/>
                </a:solidFill>
                <a:uFillTx/>
                <a:latin typeface="Times New Roman"/>
              </a:rPr>
              <a:t>_________________</a:t>
            </a: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684360" y="9698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f7f7f"/>
                </a:solidFill>
                <a:uFillTx/>
                <a:latin typeface="Times New Roman"/>
                <a:ea typeface="Times New Roman"/>
              </a:rPr>
              <a:t>«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17"/>
          <p:cNvPicPr/>
          <p:nvPr/>
        </p:nvPicPr>
        <p:blipFill>
          <a:blip r:embed="rId1"/>
          <a:stretch/>
        </p:blipFill>
        <p:spPr>
          <a:xfrm>
            <a:off x="4572000" y="3556080"/>
            <a:ext cx="4013280" cy="2805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1763640" y="1268280"/>
            <a:ext cx="61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79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79"/>
                </a:solidFill>
                <a:latin typeface="Times New Roman"/>
              </a:rPr>
              <a:t>С47-51, вопрос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0079"/>
                </a:solidFill>
                <a:latin typeface="Times New Roman"/>
              </a:rPr>
              <a:t>РТ с 34 №3, №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199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0079"/>
                </a:solidFill>
                <a:latin typeface="Times New Roman"/>
              </a:rPr>
              <a:t>ЭТО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Рисунок 6" descr="Интернет урок по окружающему миру Первобытный мир ИЛИ Первые шаги человечества Школа 2100 окружающий мир история Интернет урок видео 4 класс 3 класс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97000"/>
            <a:ext cx="3168360" cy="42814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Интернет урок по окружающему миру Первобытный мир ИЛИ Первые шаги человечества Школа 2100 окружающий мир история Интернет урок видео 4 класс 3 класс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492280"/>
            <a:ext cx="51134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>ЧЕРНОВ АЛЕКСЕЙ</dc:creator>
  <dc:description/>
  <dc:language>en-US</dc:language>
  <cp:lastModifiedBy>балуевы</cp:lastModifiedBy>
  <dcterms:modified xsi:type="dcterms:W3CDTF">2015-03-03T13:34:08Z</dcterms:modified>
  <cp:revision>40</cp:revision>
  <dc:subject/>
  <dc:title>Заголовок слайда отсутствует</dc:title>
</cp:coreProperties>
</file>