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799-4047-4EDD-9111-481768BC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A6E-D15C-4134-8F6F-DE139452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4D8-6521-4B07-AA26-EEC061C8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98B-6960-41EC-BD4C-0F9354CE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4E82-4A1E-4935-AD49-0E52F7CD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BF1F-540E-4864-95D1-3772D39B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8155-75EC-4EA2-8D94-EF090FE6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9873-72A2-428B-A059-C9C4A7B8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9964-9138-40AE-AFFC-46CB901F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C417-3904-4F5C-9A71-E301EE26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CA5A-45B9-4ACE-AC8D-8D5807D0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67B-D205-4299-88C7-A20AF876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4B05-83E1-471C-8CBB-D8B0E90D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9906-7B71-4D09-9696-865DD9B8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97C2-40B5-4E7B-8D4C-518A289A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A114-CD5E-4A30-8DB1-80896E4D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48D0-71B4-4DDB-95B3-274CAD04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9CA-DF91-4E0B-A7BA-F7C2F91C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6B8-ECF2-4B27-AB6D-345D0DBB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F2E-4314-468A-B045-70E53299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DDA-9C3E-4644-BF57-489E185B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DA3-A1B1-453E-A6DD-A26936EC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3A1-F57A-4355-B084-8484D6BF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878-2D54-498C-B13B-164739C1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4D94-7585-4CBD-B649-14CF39D762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6932-B7A8-49DF-857F-3503170303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Педагогическая инноватик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Кузора Т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удентка 3 курса Саратовского государственного университета им. Н.Г.Чернышевск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 искус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гистра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5 смыслов инновации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зменение психологического климата в учебном заведении, которое обусловлено новыми целями и ценностями образо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недрение и распространение разработанных педагогических систе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зработка новых технологий проектирования, управления и обучения в школах, занимающихся инновационной деятельностью, вынужденных постоянно преодолевать возникающие противореч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тягивание инновационными школами в свою орбиту новых финансовых, информационных, социокультурных структур и механизм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дагогическая деятельность приобретает характер устойчивой творческой деятельности и оказывает положительное влияние на все компоненты учебно-воспитательного процес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8 рангов инноваци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новации нулевого порядка – воспроизводство традиционной образовательной системы или её элемен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новации первого порядка – количественные изменения при неизменном её качеств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новации второго порядка – перегруппировка элементов системы  и организационные измен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новации третьего порядка – адаптационные изменения образовательной системы в новых условиях без выхода за пределы старой модели образ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новации четвёртого порядка – простейшие качественные изменения в отдельных компонентах образовательной систем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новации пятого порядка – изменение всех или большинства первоначальных свойств систем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новации шестого порядка – создание образовательных систем «нового вида» с качественным изменением функциональных свойств системы при сохранении системообразующего функционального принцип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новации седьмого порядка – коренное изменение образовательных систем, появление «нового рода» образовательных систе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Три составляющих компонента инновационного процесс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во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новш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Структура инновационного процесс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здание новшеств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нализ образовательной деятельности и выявление потребности в изменения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ектирование новшест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кспериментальное апробирование новшест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кспертиза новше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аспространение новшеств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дготовка к распространению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информирование о новшества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поддержка освоения новшест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анализ распространения и освоения новшест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воение новшест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анализ образовательной деятельности и выявление потребности в изменениях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поиск новше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оценка и выбор новше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проектирование желаемого будущего образовательной систе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внедрение новше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.анализ и оценка результатов измен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7. институализация нововвед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разовательная деятель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Субъекты инновац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влене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дагог-экспериментат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блематизат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следо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тодоло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ектировщ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нов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форми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Технология нововведени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недрение – осуществляет сам разработчи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жиниринг – от маркетинга, предпроектного обследования, бизнес-планирования, разработки до комплексной поставки оборудования, кадрового сопровождения и последующего сервисного обслужи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нсалтинг – технология нововведений, обеспечивающая этап выбора стратегии  планирования инновационной деятель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учение – этап подготовки кадрового сопровождения нововвед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дача технологий – реализация инновационного проекта за счёт передачи в иную предметную сферу или в другие территор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Три уровня разработки инноваций и их задач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цептуальный уровен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логическое обоснование приоритетных идей, необходимых и достаточных для разработки концепции обн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ентация на педагогическую идею, которая давала бы представление о целостности учебно-воспит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ажение в концепции специфики данно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онно-деятельностны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бор и расстановка педагогических кадров внутри школы, поиск и привлечение научных консультантов, специалистов для ведения новых курсов и факультатив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здание научно-методического совета для планирования, координации и контроля опытно-экспериментальной рабо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здание творческих групп учителей-экспериментаторов для разработки и опытной апробации новых курс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еспечение материально-технических условий для проведения опытно-экспериментальной рабо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но-методическ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ка и апробация различных вариантов учебных планов, программ, путей и средств их достиж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ка методов диагностики уровня воспитанности и усвоения зна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ределение критериев результативности реализации концепции образования данного учебного завед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ределение действенного механизма обобщения и распространения передового и новаторского опы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учное обеспечение эффективных путей подготовки и повышения квалификации учителе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Уровни новшеств в образовании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совершенствование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– изменение одного или более элементов образовательного процесса; приспособление известной методики к новым условиям учебной деятельности ( новые способы создания групп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ционализация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– установление нового правила использования известных педагогических средств для решения традиционных задач ( иной способ составления расписа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дернизация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– изменение нескольких элементов действующей образовательной системы (вместо 11 лет обучения предполагается 1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Эвристическое решени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– отыскание способа решения известных педагогических проблем; создание и использование неизвестных ранее педагогических форм, методов, средств для решения актуальных педагогических задач (методика опорных конспектов Шаталов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едагогическое изобретени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– новое средство, технология или новое сочетание педагогических средств для осуществления образования (система погружения М.П.Щетинин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едагогическое открыти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– постановка и решение новой педагогической задачи, приводящей к принципиальному обновлению образовательной системы в целом или существенному улучшению её составляющего элемента (ТРИЗ-педагогика, компетентностный подход, дистанционное обучен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Процесс внедрения педагогических инноваций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вый этап – выбор цели и средств инновационной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этап – выбор средств внедрения инновации. Результат – создание концепции иннов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тий этап – разработка программы реализации эксперимента и научно-методического обеспечения иннов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твёртый этап – внедрение инновации в практику, превращение её в тенденцию ( главное на этом этапе –экспертиза результата инновационной деятельност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Формы представления педагогического опыт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о-педагогический моду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спорт инновационных проек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Новшества и нововведени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дагогическое новшество – идея, метод, средство, технология или систем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вовведение – процесс внедрения и освоения новш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облемы, порождаемые нововведениям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личия в потребностях учеников, их родителей, школ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уществование в одной школе сторонников различных педагогических концепций и подход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соответствие концепций образовательных учреждений требованиям окружающего социума, образовательным стандарта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блема совмещения инновационных программ с традиционнны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сутствие учебно-методического обеспечения для работы по новым концепция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даптация новшеств к имеющимся условия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сутствие профессиональной подготовки педагога-новатора, руководителя инновационного учрежд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блемы взаимодействия новшеств с административными органами, государственными системами мониторинг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ипы нововведени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держании образ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методиках, технологиях, методах учебно-воспитательного процес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и учебно-воспитательного процес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яющей системе школ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ововведения бывают радикальны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,или базовые(принципиально новые технологии, методы управлен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мбинаторны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использование различных сочетаний конструктивного соединения элементов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одифицирующи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 улучшение, дополнение исходных конструкций, принципов, фор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асштаб нововведени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окаль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ульный(комплекс частных, связанных между собой, относящихся, например, к одной группе предметов, одной возрастной группе учащихся и т.д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й (охватывающий все образовательные учрежде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Объект и предмет педагогической инноватики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дагогическая инноватика рассматривает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человек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а не иные процессы – материально-технические, экономические и др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например, количество часов, выделяемых на учебный предмет, или обеспечение школ оборудование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бъект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дагогической инноватики – инновационный процесс, условия, способы и результаты его осуществ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дмет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новатики – зависимость между эффективностью инновационных процессов и факторами, её определяющими, а также способы воздействия на эти факторы с целью повышения эффективности изменений( условия, средства,, закономерности, формы, методы, технологи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едагогика имеет дело с образовательными процессами, меняющими учеников и педагог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Три аспекта инновационных процессов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-экономичес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сихолого-педагогичес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ационно-управленчес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Законы педагогической инноватики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кон необратимой дестабилизации педагогической инновационной сре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кон финальной реализации инновационного проце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кон стереотипизации педагогических иннов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кон цикловой повторяемости, возвращаемости педагогических иннов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6:31:06Z</dcterms:created>
  <dc:creator>Ирада</dc:creator>
  <dc:description/>
  <dc:language>en-US</dc:language>
  <cp:lastModifiedBy>Татьяна</cp:lastModifiedBy>
  <dcterms:modified xsi:type="dcterms:W3CDTF">2015-02-04T15:14:10Z</dcterms:modified>
  <cp:revision>15</cp:revision>
  <dc:subject/>
  <dc:title>Педагогическая инноватика</dc:title>
</cp:coreProperties>
</file>