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BBA9-688B-407C-B0AA-D0894E8D5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66F8-2A07-40E5-9A6A-3AB1198A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F552E-6B05-464F-A603-4FE9A7A3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6A88B-E29D-45A3-ABA2-F8C0C1CB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1372B-9C90-461E-A61A-AF907C20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41C3D-2CE0-4016-95F7-492A71C2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8F2BC-FB18-4106-8457-46A7E252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8D61B2-41FC-4ED5-8D70-FB403BB8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5D7FD0-06B9-49D4-A84C-0E49E89C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C959F-9A0D-4822-A1B0-A6C67B121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CE9E2-7463-4B00-A5D0-73A56571A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C42B4E-1D9B-4B8F-A419-2DBA0F385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AD07-DD12-4D68-B9BD-71F74C7D3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257FB-AB1F-4A3A-ABA4-0424A939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4BBB85-A5DA-4A46-9C8A-C0D6A225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56AF7A-9FB8-48DF-AA6B-1FEE39E9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CD285-CF3C-4A38-B8A0-5AA44F0C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FE533B-A931-466E-B802-7802832C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14126-B547-4AD9-8503-51DA71E7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EB30A-625A-4AA8-8D20-358748D4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722B6-014C-45CD-A15E-34A2624E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6E1ED-E5C9-41BC-972C-9A1E7F10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142F9-3976-4225-9DCC-7E5C88F85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0DBF-039B-4012-B2D9-E387D89DC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E71FEB-4C84-4F4B-93B2-3A143D65C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6CE87-E4A0-4B5B-B863-7D39F8404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AE765-878D-4F0B-89B5-3034CF79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6777E-C680-4D3D-8BD7-D0B8014A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8C4F3-A450-4D3F-8C2E-85B06FF8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AA7F9-3657-4C6E-92D4-429C848F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74425-16EF-440C-9DFC-F649B283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5771E-2441-4B91-A1A3-FEF12C6D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2007F1-1D52-4007-8F50-625BBF71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1CCC5-7F36-4088-9B5A-15FE37F0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2B81-9903-4AA9-B582-7688DCA78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D2783-288B-427C-AD31-660B101B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9F4E4-AA4F-4624-8608-4E1103DF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78602-DDCA-4538-B320-0DB46A1B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F09F25-9BAD-45CF-8290-EF4F9CD3C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ABFD42-E13D-4CC1-8433-2DCF5C17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681433-9D99-42F3-B404-4D5C0B5F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3A5D49-2804-4546-9914-F8B5E90D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71209D-283C-4C75-9A71-9A5692D2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D93588-637A-4EFD-A5C1-92C7FB4F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5CC734-7AE2-4B0F-B71D-0E0E3963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26A4-97A4-484A-983C-30361A99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45546A-AB7F-4B71-A2F6-570D1BA5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3B33F1-64F6-47E4-AABC-675D6F07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33CD47-084D-4FAA-AA5B-49A9AE79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87F0CE-06D3-4E13-984C-11FCA2B49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FA6645-5363-43F3-BB31-47D658F44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48C9-D434-4B11-A799-A548ACAC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509F-31DC-4DBE-A256-2DA526AB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4DF4-F526-4D76-BB4B-F78B04CF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5111-4FE9-49B9-B5B1-452100B4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A4C6-388A-46A1-A3A8-13A83E6A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69BF-C9DD-4D51-A662-CC962D02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831E-E00E-470A-BE87-80E2D384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E48A-0661-4A9E-8938-B3D17CE0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3AC5-F4BE-46C8-9B14-DDCF2C5F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1A51-76C8-43AF-A845-39414D4B7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0C28-F21F-4672-91EA-4A120ED07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E458D-0DB7-48BC-BBF0-917032087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40D98-3E11-4189-A1CC-189D77F1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7150D-6314-4AE4-B9AF-527CC5CE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ED81C-CB9F-4B0D-A32B-D56D2C87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7BDC0-260C-4185-AD9B-5EFA3C44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6951-36FE-43B2-AD35-936E08D7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68755-6494-4ECC-834E-90BB0DF1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4D03A-C00A-4B76-A696-530BD1F1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AB7C7-2639-4DF5-98A9-81CB02D4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226F9-D9B5-4CFA-89F4-C91174C6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ED826-CBBE-4BE5-8A72-527526E4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FF64D-76AE-40E4-A5CC-585021D67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03A28-658A-4C5A-8C77-C59125717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EB4A2-7194-4EDC-8421-163237F6A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E126B-FFBD-435A-A33F-3E53FB90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56E90-CE17-43BD-A15B-84B94965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705A-5B2C-4D6B-A0B6-B3199F4E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64638-CD5D-484D-9627-5E1B8294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F542F-84EF-4BB5-9BD5-20A7F1A6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19B9C-09BD-4627-8E9A-1E2111F0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48E88-AA57-49B7-9184-D06D9772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1BF4C-2162-48E6-9726-F666AE93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D0A8C-9F4E-4A98-A499-112A41E9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88C48-5CF5-407F-98DC-14DB78E4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276BA-7BA1-40C5-BB7B-E36679B2C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8C073-7D82-457F-9632-2540C8522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25869-5A77-4BED-AC59-E070CB1B7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630A-1BC1-4F9C-B957-1517384D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59F76-A121-48F6-A087-DFB91E22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AAF5D-BDBB-4A4D-A4C0-D9D2A707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BDB1B-4276-4DAF-BED5-6D402FAA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1AAE9-17D2-4EE1-B4AE-04BD2F86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782B6-1C1A-453D-959B-6CDA79E4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A203D-CFAB-413C-B0C6-BB51B2A1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02359-7D42-4CA8-9E0F-2D7FEFB5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BAF10-E133-45BD-8CC8-DAFD1BFC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E2F0F-17D4-4AA8-B60C-19166AC8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43FBA-3F4E-4D2C-9D67-4E2B0C8B5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FDC0-5428-4CF6-BCEA-7555B9C1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A542B-1BEE-417D-8FC5-32DBAD19F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A59E3-ECAC-4BDB-B020-A4EAD574B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1DA32-6A84-4C07-A65D-83048634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16997-6F18-4847-B320-FB8958A0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8A735-8772-40B1-82AE-98009711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FB4D0-6998-4E47-A1A0-5CC166EC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39CE3-72A7-4087-8898-BCB45CF2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FB360-A430-4295-BF0C-8768987A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BAA60-4932-489D-B1A1-0631DD69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883EF-97AE-4DCA-9822-02B3F834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CC69-549A-4FDA-B056-81821359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AC0F8-5D68-4ACC-8465-A2192EA7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5D852-BD8E-437A-AC73-8FEC96D37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2569F-2460-4961-88E6-EB34A07E9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B257B-C8E6-4FB8-B8A6-5F218627A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D394F-C071-4532-8937-2734129B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30DB1-453F-42B6-A692-EDD560AD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BA292-01D2-4F38-A9A6-452BD9AF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E64A3-AA85-4F3F-A20F-819FBB23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CC514-3DC7-415C-886A-BB95A025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248B2-EEE1-46FF-A2AC-564E07A1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C36F-BD41-4993-8481-C03B0BA1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1ED79-B301-4D4A-8E53-4AAE157E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04998-976F-4298-8A18-F4D4ACAA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B28B7-F834-4AAB-8F2B-C2D9EEEC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F5ADD-EA3A-43CA-9E4F-080506214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DED72-D9B1-4B9C-8E5D-71B32174B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652C6-18AE-463F-B200-4C0A2F776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34DEE-0696-4D15-82C6-6D77D1E8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87BA8-9178-43AC-A0B2-0AB48998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DD0BA-CF61-46FA-B6DF-4B352F38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0AB92-223F-4803-A8BE-A793554F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BE95-C41B-4747-9A8B-5ECFED86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4270B-2291-4378-BCA4-D30FD306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BA68A-0857-448F-972F-8C278534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4B427-3C7C-4C90-9A47-2AFC7805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52645-5293-450A-9A05-72B2B460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B8E16-E815-44DB-AA39-BFA612A7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EC5A4-69D4-48E1-ACDF-FA81005EE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F6BD8-18B6-47BB-A6A0-911B942B6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7DA78-9FD4-45E8-B99D-2B487ACFE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78132-B9CC-4733-B20A-D4C9E845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10610-CBFC-4B44-B4A2-1B32E965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buClr>
                  <a:srgbClr val="ff99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marL="216000" indent="-216000" algn="r">
              <a:spcBef>
                <a:spcPts val="2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2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4195-2A64-4AF6-A8BA-E333705AAC10}" type="slidenum">
              <a:rPr b="1" lang="ru-RU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435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buClr>
                  <a:srgbClr val="ff99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7" name="Freeform 7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Freeform 9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Freeform 10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8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9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0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marL="216000" indent="-216000" algn="r">
              <a:spcBef>
                <a:spcPts val="2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2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211C-D6A4-4352-89F8-BF53F62CA83D}" type="slidenum">
              <a:rPr b="1" lang="ru-RU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483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buClr>
                  <a:srgbClr val="ff99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5" name="Freeform 6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Freeform 7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Freeform 8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Freeform 9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marL="216000" indent="-216000" algn="r">
              <a:spcBef>
                <a:spcPts val="2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2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AFF7-0C43-4BF2-A42A-51BD56A15A43}" type="slidenum">
              <a:rPr b="1" lang="ru-RU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531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buClr>
                  <a:srgbClr val="ff99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Freeform 6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Freeform 7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Freeform 8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Freeform 9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marL="216000" indent="-216000" algn="r">
              <a:spcBef>
                <a:spcPts val="2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2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8405-A63E-4A59-98F5-A548C374C928}" type="slidenum">
              <a:rPr b="1" lang="ru-RU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buClr>
                  <a:srgbClr val="ff99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6"/>
          <p:cNvSpPr/>
          <p:nvPr/>
        </p:nvSpPr>
        <p:spPr>
          <a:xfrm>
            <a:off x="0" y="5292720"/>
            <a:ext cx="9144000" cy="1442880"/>
          </a:xfrm>
          <a:custGeom>
            <a:avLst/>
            <a:gdLst/>
            <a:ahLst/>
            <a:rect l="l" t="t" r="r" b="b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Freeform 7"/>
          <p:cNvGrpSpPr/>
          <p:nvPr/>
        </p:nvGrpSpPr>
        <p:grpSpPr>
          <a:xfrm>
            <a:off x="-6480" y="5284800"/>
            <a:ext cx="9156960" cy="1457280"/>
            <a:chOff x="-6480" y="5284800"/>
            <a:chExt cx="9156960" cy="1457280"/>
          </a:xfrm>
        </p:grpSpPr>
        <p:pic>
          <p:nvPicPr>
            <p:cNvPr id="49" name="Freeform 7" descr=""/>
            <p:cNvPicPr/>
            <p:nvPr/>
          </p:nvPicPr>
          <p:blipFill>
            <a:blip r:embed="rId4"/>
            <a:stretch/>
          </p:blipFill>
          <p:spPr>
            <a:xfrm>
              <a:off x="-6480" y="5284800"/>
              <a:ext cx="915696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buClr>
                  <a:srgbClr val="ff99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Freeform 8"/>
          <p:cNvSpPr/>
          <p:nvPr/>
        </p:nvSpPr>
        <p:spPr>
          <a:xfrm>
            <a:off x="0" y="5546880"/>
            <a:ext cx="9147240" cy="1312560"/>
          </a:xfrm>
          <a:custGeom>
            <a:avLst/>
            <a:gdLst/>
            <a:ahLst/>
            <a:rect l="l" t="t" r="r" b="b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fde99f"/>
              </a:gs>
              <a:gs pos="100000">
                <a:srgbClr val="fcde7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Freeform 10"/>
          <p:cNvSpPr/>
          <p:nvPr/>
        </p:nvSpPr>
        <p:spPr>
          <a:xfrm>
            <a:off x="0" y="5502240"/>
            <a:ext cx="9144000" cy="1271520"/>
          </a:xfrm>
          <a:custGeom>
            <a:avLst/>
            <a:gdLst/>
            <a:ahLst/>
            <a:rect l="l" t="t" r="r" b="b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marL="216000" indent="-216000" algn="r">
              <a:spcBef>
                <a:spcPts val="2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2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3442-ACD9-42F6-9AA9-2086CB638E2D}" type="slidenum">
              <a:rPr b="1" lang="ru-RU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96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buClr>
                  <a:srgbClr val="ff99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Freeform 6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Freeform 7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Freeform 8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reeform 9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marL="216000" indent="-216000" algn="r">
              <a:spcBef>
                <a:spcPts val="2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2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CAE3-8967-4D32-A609-DB73B6A1AF9A}" type="slidenum">
              <a:rPr b="1" lang="ru-RU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4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buClr>
                  <a:srgbClr val="ff99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Freeform 6"/>
          <p:cNvSpPr/>
          <p:nvPr/>
        </p:nvSpPr>
        <p:spPr>
          <a:xfrm>
            <a:off x="0" y="5546880"/>
            <a:ext cx="9147240" cy="1312560"/>
          </a:xfrm>
          <a:custGeom>
            <a:avLst/>
            <a:gdLst/>
            <a:ahLst/>
            <a:rect l="l" t="t" r="r" b="b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cfefa4"/>
              </a:gs>
              <a:gs pos="100000">
                <a:srgbClr val="b7e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Freeform 7"/>
          <p:cNvSpPr/>
          <p:nvPr/>
        </p:nvSpPr>
        <p:spPr>
          <a:xfrm>
            <a:off x="0" y="5292720"/>
            <a:ext cx="9144000" cy="1442880"/>
          </a:xfrm>
          <a:custGeom>
            <a:avLst/>
            <a:gdLst/>
            <a:ahLst/>
            <a:rect l="l" t="t" r="r" b="b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Freeform 8"/>
          <p:cNvGrpSpPr/>
          <p:nvPr/>
        </p:nvGrpSpPr>
        <p:grpSpPr>
          <a:xfrm>
            <a:off x="-6480" y="5284800"/>
            <a:ext cx="9156960" cy="1457280"/>
            <a:chOff x="-6480" y="5284800"/>
            <a:chExt cx="9156960" cy="1457280"/>
          </a:xfrm>
        </p:grpSpPr>
        <p:pic>
          <p:nvPicPr>
            <p:cNvPr id="149" name="Freeform 8" descr=""/>
            <p:cNvPicPr/>
            <p:nvPr/>
          </p:nvPicPr>
          <p:blipFill>
            <a:blip r:embed="rId4"/>
            <a:stretch/>
          </p:blipFill>
          <p:spPr>
            <a:xfrm>
              <a:off x="-6480" y="5284800"/>
              <a:ext cx="915696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buClr>
                  <a:srgbClr val="ff99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Rectangle 9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10"/>
          <p:cNvSpPr/>
          <p:nvPr/>
        </p:nvSpPr>
        <p:spPr>
          <a:xfrm>
            <a:off x="0" y="5502240"/>
            <a:ext cx="9144000" cy="1271520"/>
          </a:xfrm>
          <a:custGeom>
            <a:avLst/>
            <a:gdLst/>
            <a:ahLst/>
            <a:rect l="l" t="t" r="r" b="b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marL="216000" indent="-216000" algn="r">
              <a:spcBef>
                <a:spcPts val="2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2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CA14-383C-47C7-9DAF-6F3E2985CA8A}" type="slidenum">
              <a:rPr b="1" lang="ru-RU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buClr>
                  <a:srgbClr val="ff99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Freeform 7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Freeform 9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Freeform 10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marL="216000" indent="-216000" algn="r">
              <a:spcBef>
                <a:spcPts val="2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2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9B52-6BE5-4645-B0D2-071C44833852}" type="slidenum">
              <a:rPr b="1" lang="ru-RU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43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buClr>
                  <a:srgbClr val="ff99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Freeform 10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Freeform 11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Freeform 12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marL="216000" indent="-216000" algn="r">
              <a:spcBef>
                <a:spcPts val="2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2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E1B2-6B3C-416A-ACDF-8ABB63DC8920}" type="slidenum">
              <a:rPr b="1" lang="ru-RU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91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buClr>
                  <a:srgbClr val="ff99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Freeform 5"/>
          <p:cNvSpPr/>
          <p:nvPr/>
        </p:nvSpPr>
        <p:spPr>
          <a:xfrm>
            <a:off x="0" y="5010120"/>
            <a:ext cx="7439040" cy="1571760"/>
          </a:xfrm>
          <a:custGeom>
            <a:avLst/>
            <a:gdLst/>
            <a:ahLst/>
            <a:rect l="l" t="t" r="r" b="b"/>
            <a:pathLst>
              <a:path w="7415827" h="1571625">
                <a:moveTo>
                  <a:pt x="0" y="0"/>
                </a:moveTo>
                <a:lnTo>
                  <a:pt x="7415827" y="866775"/>
                </a:lnTo>
                <a:lnTo>
                  <a:pt x="0" y="15716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Freeform 6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Freeform 7"/>
          <p:cNvSpPr/>
          <p:nvPr/>
        </p:nvSpPr>
        <p:spPr>
          <a:xfrm>
            <a:off x="0" y="4973760"/>
            <a:ext cx="7675560" cy="928440"/>
          </a:xfrm>
          <a:custGeom>
            <a:avLst/>
            <a:gdLst/>
            <a:ahLst/>
            <a:rect l="l" t="t" r="r" b="b"/>
            <a:pathLst>
              <a:path w="7674867" h="928299">
                <a:moveTo>
                  <a:pt x="194" y="0"/>
                </a:moveTo>
                <a:cubicBezTo>
                  <a:pt x="129" y="24947"/>
                  <a:pt x="65" y="49893"/>
                  <a:pt x="0" y="74840"/>
                </a:cubicBezTo>
                <a:lnTo>
                  <a:pt x="7298289" y="928299"/>
                </a:lnTo>
                <a:lnTo>
                  <a:pt x="7674867" y="897731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Freeform 8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9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0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1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marL="216000" indent="-216000" algn="r">
              <a:spcBef>
                <a:spcPts val="2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2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5F12-A2D6-4448-92B4-B25C1BE74D18}" type="slidenum">
              <a:rPr b="1" lang="ru-RU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39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buClr>
                  <a:srgbClr val="ff99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Freeform 4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Freeform 5"/>
          <p:cNvSpPr/>
          <p:nvPr/>
        </p:nvSpPr>
        <p:spPr>
          <a:xfrm>
            <a:off x="0" y="5381640"/>
            <a:ext cx="3286080" cy="1208160"/>
          </a:xfrm>
          <a:custGeom>
            <a:avLst/>
            <a:gdLst/>
            <a:ahLst/>
            <a:rect l="l" t="t" r="r" b="b"/>
            <a:pathLst>
              <a:path w="7227290" h="1207294">
                <a:moveTo>
                  <a:pt x="0" y="0"/>
                </a:moveTo>
                <a:lnTo>
                  <a:pt x="7227290" y="885825"/>
                </a:lnTo>
                <a:lnTo>
                  <a:pt x="0" y="12072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Freeform 6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Freeform 7"/>
          <p:cNvSpPr/>
          <p:nvPr/>
        </p:nvSpPr>
        <p:spPr>
          <a:xfrm>
            <a:off x="0" y="5346720"/>
            <a:ext cx="3425760" cy="944640"/>
          </a:xfrm>
          <a:custGeom>
            <a:avLst/>
            <a:gdLst/>
            <a:ahLst/>
            <a:rect l="l" t="t" r="r" b="b"/>
            <a:pathLst>
              <a:path w="3426231" h="944725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3204530" y="944725"/>
                </a:lnTo>
                <a:lnTo>
                  <a:pt x="3426231" y="923877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marL="216000" indent="-216000" algn="r">
              <a:spcBef>
                <a:spcPts val="2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2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3784-AE80-4A20-8004-E0C70ADA71E0}" type="slidenum">
              <a:rPr b="1" lang="ru-RU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87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buClr>
                  <a:srgbClr val="ff99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" name="Freeform 7"/>
          <p:cNvSpPr/>
          <p:nvPr/>
        </p:nvSpPr>
        <p:spPr>
          <a:xfrm>
            <a:off x="0" y="5010120"/>
            <a:ext cx="7439040" cy="1571760"/>
          </a:xfrm>
          <a:custGeom>
            <a:avLst/>
            <a:gdLst/>
            <a:ahLst/>
            <a:rect l="l" t="t" r="r" b="b"/>
            <a:pathLst>
              <a:path w="7415827" h="1571625">
                <a:moveTo>
                  <a:pt x="0" y="0"/>
                </a:moveTo>
                <a:lnTo>
                  <a:pt x="7415827" y="866775"/>
                </a:lnTo>
                <a:lnTo>
                  <a:pt x="0" y="15716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Freeform 8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Freeform 9"/>
          <p:cNvSpPr/>
          <p:nvPr/>
        </p:nvSpPr>
        <p:spPr>
          <a:xfrm>
            <a:off x="0" y="4973760"/>
            <a:ext cx="7675560" cy="928440"/>
          </a:xfrm>
          <a:custGeom>
            <a:avLst/>
            <a:gdLst/>
            <a:ahLst/>
            <a:rect l="l" t="t" r="r" b="b"/>
            <a:pathLst>
              <a:path w="7674867" h="928299">
                <a:moveTo>
                  <a:pt x="194" y="0"/>
                </a:moveTo>
                <a:cubicBezTo>
                  <a:pt x="129" y="24947"/>
                  <a:pt x="65" y="49893"/>
                  <a:pt x="0" y="74840"/>
                </a:cubicBezTo>
                <a:lnTo>
                  <a:pt x="7298289" y="928299"/>
                </a:lnTo>
                <a:lnTo>
                  <a:pt x="7674867" y="897731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Freeform 10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marL="216000" indent="-216000" algn="r">
              <a:spcBef>
                <a:spcPts val="2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2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403B-6BF1-4BAB-8673-164D35CD63BA}" type="slidenum">
              <a:rPr b="1" lang="ru-RU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332000" y="1628280"/>
            <a:ext cx="669456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ПЕДАГОГИКА В СИСТЕМЕ НАУК О ЧЕЛОВЕКЕ</a:t>
            </a:r>
            <a:br>
              <a:rPr sz="4000"/>
            </a:br>
            <a:br>
              <a:rPr sz="4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ИЛА СТУДЕНТКА 2 КУРСА МАГИСТРАТУРЫ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РАТОВСКОГО ГОСУДАРСТВЕННОГО УНИВЕРСИТЕТА ИМ Н.Г.ЧЕРНЫШЕВСКОГО.</a:t>
            </a:r>
            <a:br>
              <a:rPr sz="4000"/>
            </a:b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ФУНКЦИИ МЕТОДОЛОГИИ ПЕДАГОГИЧЕСКОЙ НАУК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носеологическая (познавательная)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аксеологическая (преобразовательная)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ксиологическая (оценочная) или функция критики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рефлексивная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нормативного предписания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эвристическая (творческая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СНОВНЫЕ МЕТОДОЛОГИЧЕСКИЕ ПОДХОДЫ В ПЕДАГОГИК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09480" indent="-609480">
              <a:lnSpc>
                <a:spcPct val="70000"/>
              </a:lnSpc>
              <a:spcBef>
                <a:spcPts val="700"/>
              </a:spcBef>
              <a:spcAft>
                <a:spcPts val="649"/>
              </a:spcAft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системный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spcAft>
                <a:spcPts val="649"/>
              </a:spcAft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личностный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spcAft>
                <a:spcPts val="649"/>
              </a:spcAft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деятельностный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spcAft>
                <a:spcPts val="649"/>
              </a:spcAft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полисубъектный (диалогический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spcAft>
                <a:spcPts val="649"/>
              </a:spcAft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аксиологический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spcAft>
                <a:spcPts val="649"/>
              </a:spcAft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культурологический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spcAft>
                <a:spcPts val="649"/>
              </a:spcAft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антропологический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spcAft>
                <a:spcPts val="649"/>
              </a:spcAft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этнопедагогический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ЕТОДЫ НАУЧНО-ПЕДАГОГИЧЕСКИХ ИССЛЕДОВАНИ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spcAft>
                <a:spcPts val="649"/>
              </a:spcAft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Теоретические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(анализ литературных источников; контент-анализ; моделирование педагогических ситуаций и др.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spcAft>
                <a:spcPts val="649"/>
              </a:spcAft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Эмпирические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(беседа, наблюдение, педагогический эксперимент, анкетирование, моделирование, изучение школьной и вузовской документации и др.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spcAft>
                <a:spcPts val="649"/>
              </a:spcAft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Математические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(шкалирование, регистрация, ранжирование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ИДЫ НАУЧНО-ПЕДАГОГИЧЕСКИХ ИССЛЕДОВАНИ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spcAft>
                <a:spcPts val="499"/>
              </a:spcAft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ундаментальные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spcAft>
                <a:spcPts val="499"/>
              </a:spcAft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пытно-экспериментальные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spcAft>
                <a:spcPts val="499"/>
              </a:spcAft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кладные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spcAft>
                <a:spcPts val="499"/>
              </a:spcAft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тодические разработк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353440" cy="8967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НОВНЫЕ ВОПРОС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394920" y="1052280"/>
            <a:ext cx="638172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дагогика как антропологическая наук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зникновение и развитие педагогической наук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расли педагогической наук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вязь педагогики с другими наукам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щекультурное значение педагогики. Анализ образовательных парадигм  в мировой педагогической практик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тодологические подходы и их значение в социально-профессиональной деятельност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тоды и виды педагогических исследований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4000" y="228600"/>
            <a:ext cx="806436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imes New Roman"/>
              </a:rPr>
              <a:t>ПЕДАГОГИКА ОТНОСИТСЯ  К АНТРОПОЛОГИЧЕСКИМ  НАУКАМ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23640" y="1483920"/>
            <a:ext cx="85150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ъект педагогик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реальности жизни государства и общества, всех их сфер, структур, учреждений, семьи и отдельных лиц, оказывающие влияние на образованность, воспитанность, обученность и развитость граждан, обеспечивающие их самореализацию и самоутверждение в жизн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дмет педагогик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педагогические реальности в государстве и обществе, их структурах, специальных педагогических учреждениях, труде и жизни людей, каждого человека и существующие в виде закономерностей, фактов, механизмов образования, воспитания, обучения и развити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94920" y="228240"/>
            <a:ext cx="8443800" cy="8967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КАТЕГОРИИ (ПОНЯТИЯ) ПЕДАГОГИКИ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4" name="Прямоугольник 1"/>
          <p:cNvSpPr/>
          <p:nvPr/>
        </p:nvSpPr>
        <p:spPr>
          <a:xfrm>
            <a:off x="324000" y="1311120"/>
            <a:ext cx="860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учение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специально организованное и целенаправленное взаимодействие педагогов и обучаемых по усвоению знаний, умений и навыков, развитию способностей обучаемых и формированию их мировоззр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Прямоугольник 2"/>
          <p:cNvSpPr/>
          <p:nvPr/>
        </p:nvSpPr>
        <p:spPr>
          <a:xfrm>
            <a:off x="341280" y="2421000"/>
            <a:ext cx="847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ание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в широком смысле) – функция человеческого общества по передаче новым поколениям накопленного опыта (научных знаний, умений, навыков, трудовых операций, морали, религии, искусства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ание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в узком смысле) – специально организованное и целенаправленное формирование личности, профессиональная деятельность педагог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Прямоугольник 4"/>
          <p:cNvSpPr/>
          <p:nvPr/>
        </p:nvSpPr>
        <p:spPr>
          <a:xfrm>
            <a:off x="341280" y="4149720"/>
            <a:ext cx="8478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ование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процесс и результат передачи и присвоения человеком системы знаний, умений и навыков, опыта творческой деятельности, отношений. Образование различается по уровню (начальное, среднее, высшее) и по содержанию (общее и специальное, профессиональное: например, техническое, гуманитарное, педагогическое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68360" y="228240"/>
            <a:ext cx="837072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ЕДАГОГИЧЕСКИЕ ИСТОЧНИК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94920" y="1052640"/>
            <a:ext cx="84898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родная педагогик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дагогический опыт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учно-педагогическая литера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ебная и учебно-методическая литера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удожественная и мемуарная литера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изведения изобразительного искусств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идео- и аудиоисточник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дагогическая периодическая печать и др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94920" y="228240"/>
            <a:ext cx="844380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ОТРАСЛИ ПЕДАГОГИК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94920" y="1052280"/>
            <a:ext cx="84438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7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ая педагогик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ает общие закономерности воспитания, образования и обучения человека. Имеет разделы: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дидактика – теория обучения и образования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теория воспитани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рия педагогики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ает развитие педагогических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ний и практики с древнейших времен до наших дней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лософия образования разрабатывает методологию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основные идеи, принципы, методы) педагогической наук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ные методики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следуют закономерности преподавания и изучения конкретных учебных дисциплин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авнительная педагогик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нимается анализом воспитания, образования и обучения в разных странах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ессиональная педагогик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ает вопросы воспитания, образования и обучения людей разных профессий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68360" y="228600"/>
            <a:ext cx="8370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ОТРАСЛИ ПЕДАГОГИК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468360" y="981000"/>
            <a:ext cx="83707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альная педагогика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ает воспитание, образование о обучение людей с отклонениями в развитии (например, глухих, слепых, умственно отсталых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lnSpc>
                <a:spcPct val="90000"/>
              </a:lnSpc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ая педагогик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зучает воспитание человека в среде проживания. Имеет разделы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емейная педагогика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нешкольное воспитание и образование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еревоспитание правонарушителей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lnSpc>
                <a:spcPct val="90000"/>
              </a:lnSpc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lnSpc>
                <a:spcPct val="90000"/>
              </a:lnSpc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растная педагогик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зучает закономерности воспитания, образования и обучения человека в различном возрасте. Имеет разделы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ошкольная педагогика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школьная педагогика (педагогика начальной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едней, высшей школ)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андрогогика – педагогика взрослых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9640" y="228600"/>
            <a:ext cx="829944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imes New Roman"/>
              </a:rPr>
              <a:t>МЕЖПРЕДМЕТНЫЕ СВЯЗИ ПЕДАГОГИКИ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68360" y="1341360"/>
            <a:ext cx="837072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илософи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сихологи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изиологи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тори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енетик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ибернетик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циологи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кономик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итологи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imes New Roman"/>
              </a:rPr>
              <a:t>ОБРАЗОВАТЕЛЬНЫЕ ПАРАДИГМЫ В МИРОВОЙ ПЕДАГОГИЧЕСКОЙ ПРАКТИКЕ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539640" y="1844280"/>
            <a:ext cx="829944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spcAft>
                <a:spcPts val="499"/>
              </a:spcAft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наниевая и культурологическая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spcAft>
                <a:spcPts val="499"/>
              </a:spcAft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технократическая и гуманистическая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spcAft>
                <a:spcPts val="499"/>
              </a:spcAft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оциетарная и человеко-ориентированная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spcAft>
                <a:spcPts val="499"/>
              </a:spcAft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едоцентристская и детоцентристская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05:37:27Z</dcterms:created>
  <dc:creator>Сергей Пуйман</dc:creator>
  <dc:description/>
  <dc:language>en-US</dc:language>
  <cp:lastModifiedBy>Татьяна</cp:lastModifiedBy>
  <dcterms:modified xsi:type="dcterms:W3CDTF">2015-02-19T18:22:24Z</dcterms:modified>
  <cp:revision>16</cp:revision>
  <dc:subject/>
  <dc:title>Педагогика как наука</dc:title>
</cp:coreProperties>
</file>