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A60-52D4-49F5-84CC-08E24E70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DA2-79AF-406E-8140-2A886205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055-C581-4A74-8F28-B4C81007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4D8-BD9E-4A8A-9AFC-F8362A18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3B8-DF52-4C73-AC09-B4757949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7F1-91B0-4EAD-8C70-FB58F4C4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1C5-81A0-4D1F-B24B-06418AE8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3BC-2992-49A5-BF9F-A4668E35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B9A-0D0B-4ABA-9CAF-A3DC865F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55E-6446-4E10-B6C4-70534F63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4E8-C410-4A99-AE05-64D2C2F3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ACB4-C818-4CD4-9537-CE480F63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F035-BEBE-49DA-AC1D-F2E21A9EA4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71720" y="642960"/>
          <a:ext cx="6881760" cy="782640"/>
        </p:xfrm>
        <a:graphic>
          <a:graphicData uri="http://schemas.openxmlformats.org/drawingml/2006/table">
            <a:tbl>
              <a:tblPr/>
              <a:tblGrid>
                <a:gridCol w="430200"/>
                <a:gridCol w="430200"/>
                <a:gridCol w="430200"/>
                <a:gridCol w="430200"/>
                <a:gridCol w="430200"/>
                <a:gridCol w="430200"/>
                <a:gridCol w="430200"/>
                <a:gridCol w="428400"/>
                <a:gridCol w="430200"/>
                <a:gridCol w="430560"/>
                <a:gridCol w="518760"/>
                <a:gridCol w="481320"/>
                <a:gridCol w="360360"/>
                <a:gridCol w="431640"/>
                <a:gridCol w="358920"/>
                <a:gridCol w="430200"/>
              </a:tblGrid>
              <a:tr h="782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62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ипотеза: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крытосеменные растения – самая эволюционно прогрессивная группа растени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3357720" y="5357880"/>
            <a:ext cx="1428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32511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. Найдите сходства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в строении сосны (1) и яблони (2)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2. Найдите отличи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в их стро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4576680" y="124128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3492360" y="260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дание №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"/>
          <p:cNvPicPr/>
          <p:nvPr/>
        </p:nvPicPr>
        <p:blipFill>
          <a:blip r:embed="rId1"/>
          <a:srcRect l="0" t="22115" r="54596" b="0"/>
          <a:stretch/>
        </p:blipFill>
        <p:spPr>
          <a:xfrm>
            <a:off x="793800" y="2506680"/>
            <a:ext cx="2841480" cy="3394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880920" y="2781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ПОЧЕМУ, изучаемая нами группа растений называется покрытосеменны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1120" y="355680"/>
            <a:ext cx="62229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 №3</a:t>
            </a:r>
            <a:br>
              <a:rPr sz="4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пределите жизненные формы раст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rcRect l="5112" t="9050" r="77566" b="69951"/>
          <a:stretch/>
        </p:blipFill>
        <p:spPr>
          <a:xfrm>
            <a:off x="649440" y="1062000"/>
            <a:ext cx="2369880" cy="2154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770120" y="4387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виш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5450040" y="23684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мал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7" descr=""/>
          <p:cNvPicPr/>
          <p:nvPr/>
        </p:nvPicPr>
        <p:blipFill>
          <a:blip r:embed="rId2"/>
          <a:stretch/>
        </p:blipFill>
        <p:spPr>
          <a:xfrm>
            <a:off x="3287880" y="1379520"/>
            <a:ext cx="1139760" cy="1517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3218040" y="45370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асил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6683400" y="40543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ятлик луг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24160" y="5160960"/>
          <a:ext cx="6095880" cy="766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828800"/>
                <a:gridCol w="12193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еревь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устарни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устарнич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рав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8229600" cy="481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Деревь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Кустарни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1. Дуб                      1. Малина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2. Береза                2. Вишн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Кустарнич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Трав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1. Брусника             1. Василек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   2. Мятлик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       лугов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2484360" y="76500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Проверь себя 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627876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User</cp:lastModifiedBy>
  <dcterms:modified xsi:type="dcterms:W3CDTF">2019-12-23T20:35:21Z</dcterms:modified>
  <cp:revision>73</cp:revision>
  <dc:subject/>
  <dc:title>Презентация PowerPoint</dc:title>
</cp:coreProperties>
</file>