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applause.wav" ContentType="audio/x-wav"/>
  <Override PartName="/ppt/media/image1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media/%D0%9D%D1%83%20%D1%87%D1%82%D0%BE%20%D0%B6%D0%B5%20%D1%82%D1%8B.wav" ContentType="audio/x-wav"/>
  <Override PartName="/ppt/media/image3.jpeg" ContentType="image/jpeg"/>
  <Override PartName="/ppt/media/%D0%9F%D0%BE%D0%BF%D1%80%D0%BE%D0%B1%D1%83%D0%B9%20%D0%B5%D1%89%D1%9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733A-F397-4197-A509-7605D1A9BD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2ABD-3A99-46DC-A854-E93E27C181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ABD6-873F-4599-ABDC-6988D3BBE2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4EA1-73FC-4AEA-BDF9-3F8750A165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8751-CADD-4917-91E5-CFDA592E7A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C5EC-BA77-441B-B490-AB70C7BE78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A1CC-8A45-4F4F-B8A4-001EDC8567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8FC4-5CF7-46F9-8BFD-5ECC4E9892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AD1A-5E55-4E9F-A5FD-DDD4508DE2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4423-0DFF-466B-A8A1-5A25379AFF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5998-C23C-449B-9743-CCFBF21D95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4740-7C78-46D2-AB02-A884AF8668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D673-FD51-4DC5-B0D7-4AFEB341A8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93B2-9429-40A9-AEF7-0A1104ED55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718D-8B24-4C37-BF18-16C9135468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8AB-9C21-4B55-B49C-FEB98E7D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715-9394-457B-8CBE-93923E4A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00B-A23D-4A6F-A458-D55F65AD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11B-94FD-4648-8773-540028F8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C47-C708-4ADD-92F1-68B382D6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FA5-FCB3-4FFF-97BA-234D1B9E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DFD-9855-400F-9088-9E6E8274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B20-DDD7-4DFC-86BA-1CDB59A8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BFB4-89BB-44E2-BAD0-046BE7BE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7B5-85BD-4793-A33F-23D911A9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8F0-D0EF-4E0D-9E08-526CF4CA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739-2349-4865-BB21-92AAE8F3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B419-8EB0-4DC4-BCBC-BC0BF87020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nsportal.ru/detskii-sad/osnovy-bezopasnosti-zhiznedeyatelnosti/2016/11/16/prezentatsiya-kak-vesti-sebya-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&#1053;&#1091;%20&#1095;&#1090;&#1086;%20&#1078;&#1077;%20&#1090;&#1099;.wav"/><Relationship Id="rId2" Type="http://schemas.openxmlformats.org/officeDocument/2006/relationships/audio" Target="../media/&#1053;&#1091;%20&#1095;&#1090;&#1086;%20&#1078;&#1077;%20&#1090;&#1099;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&#1055;&#1086;&#1087;&#1088;&#1086;&#1073;&#1091;&#1081;%20&#1077;&#1097;&#1105;.wav"/><Relationship Id="rId2" Type="http://schemas.openxmlformats.org/officeDocument/2006/relationships/audio" Target="../media/applause.wav"/><Relationship Id="rId3" Type="http://schemas.openxmlformats.org/officeDocument/2006/relationships/audio" Target="../media/&#1053;&#1091;%20&#1095;&#1090;&#1086;%20&#1078;&#1077;%20&#1090;&#1099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&#1053;&#1091;%20&#1095;&#1090;&#1086;%20&#1078;&#1077;%20&#1090;&#1099;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&#1053;&#1091;%20&#1095;&#1090;&#1086;%20&#1078;&#1077;%20&#1090;&#1099;.wav"/><Relationship Id="rId2" Type="http://schemas.openxmlformats.org/officeDocument/2006/relationships/audio" Target="../media/applause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&#1055;&#1086;&#1087;&#1088;&#1086;&#1073;&#1091;&#1081;%20&#1077;&#1097;&#1105;.wav"/><Relationship Id="rId3" Type="http://schemas.openxmlformats.org/officeDocument/2006/relationships/audio" Target="../media/&#1053;&#1091;%20&#1095;&#1090;&#1086;%20&#1078;&#1077;%20&#1090;&#1099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&#1053;&#1091;%20&#1095;&#1090;&#1086;%20&#1078;&#1077;%20&#1090;&#1099;.wav"/><Relationship Id="rId2" Type="http://schemas.openxmlformats.org/officeDocument/2006/relationships/audio" Target="../media/applause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 № 8 «Снегович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1928880"/>
            <a:ext cx="8215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Поведение в транспор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Закрепить правила поведения в транспор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nsportal.ru/detskii-sad/osnovy-bezopasnosti-zhiznedeyatelnosti/2016/11/16/prezentatsiya-kak-vesti-sebya-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нужно сделать, если ты входишь в салон с большим рюкзаком за плеч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5"/>
          <p:cNvSpPr/>
          <p:nvPr/>
        </p:nvSpPr>
        <p:spPr>
          <a:xfrm>
            <a:off x="928800" y="242892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ставить его на соседнее си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6"/>
          <p:cNvSpPr/>
          <p:nvPr/>
        </p:nvSpPr>
        <p:spPr>
          <a:xfrm>
            <a:off x="928800" y="37148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Встать у о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7"/>
          <p:cNvSpPr/>
          <p:nvPr/>
        </p:nvSpPr>
        <p:spPr>
          <a:xfrm>
            <a:off x="928800" y="5000760"/>
            <a:ext cx="735804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Снять рюкзак и держать его в руках или поставить на 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1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коро твоя остановка, а у выхода стоят другие пассажиры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кругленный прямоугольник 5"/>
          <p:cNvSpPr/>
          <p:nvPr/>
        </p:nvSpPr>
        <p:spPr>
          <a:xfrm>
            <a:off x="928800" y="2214720"/>
            <a:ext cx="735804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Ты молча протиснешься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6"/>
          <p:cNvSpPr/>
          <p:nvPr/>
        </p:nvSpPr>
        <p:spPr>
          <a:xfrm>
            <a:off x="928800" y="35002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Извинишься и попросишь пропустить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7"/>
          <p:cNvSpPr/>
          <p:nvPr/>
        </p:nvSpPr>
        <p:spPr>
          <a:xfrm>
            <a:off x="928800" y="478620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Будешь громко возмущ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жно ли есть в автобусе мороженое (пирожное, пирожки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кругленный прямоугольник 5"/>
          <p:cNvSpPr/>
          <p:nvPr/>
        </p:nvSpPr>
        <p:spPr>
          <a:xfrm>
            <a:off x="928800" y="242892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Нельз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6"/>
          <p:cNvSpPr/>
          <p:nvPr/>
        </p:nvSpPr>
        <p:spPr>
          <a:xfrm>
            <a:off x="928800" y="37148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Можно в любом случа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928800" y="5000760"/>
            <a:ext cx="735804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Можно только, если тебе удалось занять место у о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708360" y="2857680"/>
          <a:ext cx="485928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39640"/>
                <a:gridCol w="541440"/>
                <a:gridCol w="539640"/>
                <a:gridCol w="540000"/>
                <a:gridCol w="539640"/>
                <a:gridCol w="539640"/>
              </a:tblGrid>
              <a:tr h="53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184560" y="3397320"/>
          <a:ext cx="377964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41440"/>
                <a:gridCol w="539640"/>
                <a:gridCol w="539640"/>
                <a:gridCol w="539640"/>
              </a:tblGrid>
              <a:tr h="53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720960" y="4500720"/>
          <a:ext cx="3780000" cy="53964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  <a:gridCol w="539640"/>
                <a:gridCol w="541440"/>
                <a:gridCol w="539640"/>
                <a:gridCol w="540000"/>
                <a:gridCol w="539640"/>
              </a:tblGrid>
              <a:tr h="53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643120" y="3952800"/>
          <a:ext cx="5400720" cy="54000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41440"/>
                <a:gridCol w="539640"/>
                <a:gridCol w="539640"/>
                <a:gridCol w="539640"/>
                <a:gridCol w="540000"/>
                <a:gridCol w="541080"/>
                <a:gridCol w="540000"/>
                <a:gridCol w="539640"/>
              </a:tblGrid>
              <a:tr h="54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035000" y="5064120"/>
          <a:ext cx="485928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39640"/>
                <a:gridCol w="541440"/>
                <a:gridCol w="539640"/>
                <a:gridCol w="540000"/>
                <a:gridCol w="539640"/>
                <a:gridCol w="539640"/>
              </a:tblGrid>
              <a:tr h="53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Прямоугольник 7"/>
          <p:cNvSpPr/>
          <p:nvPr/>
        </p:nvSpPr>
        <p:spPr>
          <a:xfrm>
            <a:off x="3666960" y="2841480"/>
            <a:ext cx="492948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3166920" y="3413160"/>
            <a:ext cx="378648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2666880" y="3984480"/>
            <a:ext cx="542952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3738600" y="4556160"/>
            <a:ext cx="378612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1023840" y="5056200"/>
            <a:ext cx="49291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42960" y="499680"/>
            <a:ext cx="69292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сто, где собираются люди в ожидании транспор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ова благодарност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чество, необходимое и пассажирам, и кондукторам, и водител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 них следует держаться в автобус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ни в коем случае нельзя есть в автобус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82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164268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ыходя из транспорта,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е забывайте свои вещи,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 входя – не забывайте про вежливость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133200" y="66600"/>
            <a:ext cx="8199720" cy="120168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5" descr="13.jpg"/>
          <p:cNvPicPr/>
          <p:nvPr/>
        </p:nvPicPr>
        <p:blipFill>
          <a:blip r:embed="rId2"/>
          <a:stretch/>
        </p:blipFill>
        <p:spPr>
          <a:xfrm>
            <a:off x="5018040" y="1285920"/>
            <a:ext cx="3336840" cy="45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57160" y="1285560"/>
            <a:ext cx="3929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толкайся в дверях, дай первыми пройти пожилым людям и мама с маленькими деть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и подняться инвалидам и людям с тяжелыми сум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208080" y="133200"/>
            <a:ext cx="8197560" cy="120816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5" descr="13.jpg"/>
          <p:cNvPicPr/>
          <p:nvPr/>
        </p:nvPicPr>
        <p:blipFill>
          <a:blip r:embed="rId2"/>
          <a:stretch/>
        </p:blipFill>
        <p:spPr>
          <a:xfrm>
            <a:off x="5000760" y="1285920"/>
            <a:ext cx="3294000" cy="4429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28440" y="1285920"/>
            <a:ext cx="3786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упай место тем, кому трудно сто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785880" y="2643120"/>
            <a:ext cx="4000320" cy="2928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в в трамвай, автобу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оллейб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ршим мес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гда уступ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стесняй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обной привы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208080" y="66600"/>
            <a:ext cx="8197560" cy="120168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13.jpg"/>
          <p:cNvPicPr/>
          <p:nvPr/>
        </p:nvPicPr>
        <p:blipFill>
          <a:blip r:embed="rId2"/>
          <a:stretch/>
        </p:blipFill>
        <p:spPr>
          <a:xfrm>
            <a:off x="4929120" y="1214280"/>
            <a:ext cx="3363840" cy="4500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28440" y="1213920"/>
            <a:ext cx="37861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ступай место женщинам с детьми. Стой так, чтобы не мешать людям перемещаться по салон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928800" y="3500280"/>
            <a:ext cx="3786120" cy="2071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ы от сиденья отойд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сторонку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тупим мес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е и ребе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133200" y="66600"/>
            <a:ext cx="8199720" cy="120168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" descr="13.jpg"/>
          <p:cNvPicPr/>
          <p:nvPr/>
        </p:nvPicPr>
        <p:blipFill>
          <a:blip r:embed="rId2"/>
          <a:stretch/>
        </p:blipFill>
        <p:spPr>
          <a:xfrm>
            <a:off x="4929120" y="1276200"/>
            <a:ext cx="3303720" cy="4438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00080" y="1731960"/>
            <a:ext cx="357192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ьчик, мужчина при выходе из транспорта должен протянуть руку девочке, женщ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93560" y="-182520"/>
            <a:ext cx="8199720" cy="181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L:\etiket3\etiket3\16.jpg"/>
          <p:cNvPicPr/>
          <p:nvPr/>
        </p:nvPicPr>
        <p:blipFill>
          <a:blip r:embed="rId2"/>
          <a:stretch/>
        </p:blipFill>
        <p:spPr>
          <a:xfrm>
            <a:off x="3371760" y="1332000"/>
            <a:ext cx="2414520" cy="324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L:\etiket3\etiket3\17.jpg"/>
          <p:cNvPicPr/>
          <p:nvPr/>
        </p:nvPicPr>
        <p:blipFill>
          <a:blip r:embed="rId3"/>
          <a:stretch/>
        </p:blipFill>
        <p:spPr>
          <a:xfrm>
            <a:off x="754200" y="1335240"/>
            <a:ext cx="2388960" cy="32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L:\etiket3\etiket3\18.jpg"/>
          <p:cNvPicPr/>
          <p:nvPr/>
        </p:nvPicPr>
        <p:blipFill>
          <a:blip r:embed="rId4"/>
          <a:stretch/>
        </p:blipFill>
        <p:spPr>
          <a:xfrm>
            <a:off x="6004080" y="1359000"/>
            <a:ext cx="2425680" cy="3240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9"/>
          <p:cNvSpPr/>
          <p:nvPr/>
        </p:nvSpPr>
        <p:spPr>
          <a:xfrm>
            <a:off x="1214280" y="4714920"/>
            <a:ext cx="664380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мешай пассажирам выходить из автобус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входи в транспорт с мороженым и пирожка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разговаривай громко и не включай громко музык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дясь в транспорт, нужн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5"/>
          <p:cNvSpPr/>
          <p:nvPr/>
        </p:nvSpPr>
        <p:spPr>
          <a:xfrm>
            <a:off x="928800" y="207180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Войти пер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6"/>
          <p:cNvSpPr/>
          <p:nvPr/>
        </p:nvSpPr>
        <p:spPr>
          <a:xfrm>
            <a:off x="928800" y="3357720"/>
            <a:ext cx="735804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Пропустить первой женщ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7"/>
          <p:cNvSpPr/>
          <p:nvPr/>
        </p:nvSpPr>
        <p:spPr>
          <a:xfrm>
            <a:off x="928800" y="46432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Мешать всем вх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садку и высадку из автомобиля можно производить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928800" y="228600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С любой стороны, убедившись, что это полностью безоп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6"/>
          <p:cNvSpPr/>
          <p:nvPr/>
        </p:nvSpPr>
        <p:spPr>
          <a:xfrm>
            <a:off x="928800" y="357192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Со стороны дор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7"/>
          <p:cNvSpPr/>
          <p:nvPr/>
        </p:nvSpPr>
        <p:spPr>
          <a:xfrm>
            <a:off x="928800" y="48578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Со стороны троту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ым из транспорта выходи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5"/>
          <p:cNvSpPr/>
          <p:nvPr/>
        </p:nvSpPr>
        <p:spPr>
          <a:xfrm>
            <a:off x="928800" y="21430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Женщ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6"/>
          <p:cNvSpPr/>
          <p:nvPr/>
        </p:nvSpPr>
        <p:spPr>
          <a:xfrm>
            <a:off x="928800" y="342900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Мужч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7"/>
          <p:cNvSpPr/>
          <p:nvPr/>
        </p:nvSpPr>
        <p:spPr>
          <a:xfrm>
            <a:off x="928800" y="471492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Реб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9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01:46:17Z</dcterms:created>
  <dc:creator>Bazil</dc:creator>
  <dc:description/>
  <dc:language>en-US</dc:language>
  <cp:lastModifiedBy>Юлия</cp:lastModifiedBy>
  <dcterms:modified xsi:type="dcterms:W3CDTF">2019-12-23T15:52:15Z</dcterms:modified>
  <cp:revision>72</cp:revision>
  <dc:subject/>
  <dc:title>Слайд 1</dc:title>
</cp:coreProperties>
</file>