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A09C-A8C9-40F4-A10B-3514A34A68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8844-F469-40B2-9614-FF4352AA22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9F9-30AA-4D60-A009-91D3B9B75D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6CB-49F6-4619-AC89-8756B1AD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DF7-08AA-43DC-8665-19FCF1C7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8D7-D408-40E7-8A21-2481421E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D53-E7C2-4A78-94A1-4EE5260A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07A-DE95-4DB2-AB84-02F291DD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FE2-D279-473E-84BB-41B6CAE8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359-E20F-4713-9859-7EEFBD50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04D-E565-4608-985F-DE47BFBC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473-B205-427E-B2DD-5B4E25DE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914-6BAE-402F-84DD-B5523A17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7BF-02EF-48CE-8B0A-E8437294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440-5A77-4C2E-9AE6-2DED4418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6679-A057-4D05-B34D-085618E6A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ма: «Формирование вокальных навык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120" y="54864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одаватель: Тарасова Юлия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 выработки и закрепления умений и навы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оздание положительной установки на ход и результат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концентрировать внимание учащихся, настроить их на совместную работу, подготовить голосовой аппарат к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хательное упраж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265480" y="498600"/>
            <a:ext cx="47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Веселый урок во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78200" y="190512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omic Sans MS"/>
              </a:rPr>
              <a:t>с веселыми задан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xxx\Мои документы\Мои рисунки\сайт\pozitiv095.jpg"/>
          <p:cNvPicPr/>
          <p:nvPr/>
        </p:nvPicPr>
        <p:blipFill>
          <a:blip r:embed="rId2"/>
          <a:stretch/>
        </p:blipFill>
        <p:spPr>
          <a:xfrm>
            <a:off x="457200" y="3581280"/>
            <a:ext cx="3247920" cy="2857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7084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853520" y="3627360"/>
            <a:ext cx="278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Смотри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в режиме «кл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и выполняй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257800" y="5375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Comic Sans MS"/>
              </a:rPr>
              <a:t>У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447920" y="3808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Отрабатываем певческ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Documents and Settings\xxx\Рабочий стол\i - 6.jpg"/>
          <p:cNvPicPr/>
          <p:nvPr/>
        </p:nvPicPr>
        <p:blipFill>
          <a:blip r:embed="rId2"/>
          <a:stretch/>
        </p:blipFill>
        <p:spPr>
          <a:xfrm>
            <a:off x="0" y="1981080"/>
            <a:ext cx="3240000" cy="3621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920400" y="210348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Лягте на ровную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960720" y="263700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Положите игрушку на жив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412520" y="3322800"/>
            <a:ext cx="30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Медленно вдыхаем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игрушка подним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008240" y="4770360"/>
            <a:ext cx="29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Медленно выдыхаем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игрушка опуск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xxx\Рабочий стол\i _17.jpg"/>
          <p:cNvPicPr/>
          <p:nvPr/>
        </p:nvPicPr>
        <p:blipFill>
          <a:blip r:embed="rId2"/>
          <a:stretch/>
        </p:blipFill>
        <p:spPr>
          <a:xfrm>
            <a:off x="380880" y="3809880"/>
            <a:ext cx="2505240" cy="2471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691280" y="35100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Представьте, что вы большой надувной мя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После игры вас положили на тра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и вытащили загл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Вы отдыхаете и медленно выпускаете возду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Зачем спеш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58920" y="3246480"/>
            <a:ext cx="4191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Подумайте о прият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Улыбнит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Тоненькой струйкой на звук «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выдыхайте возду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          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Уда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звиваем артикуляционный аппа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xxx\Рабочий стол\i_18.jpg"/>
          <p:cNvPicPr/>
          <p:nvPr/>
        </p:nvPicPr>
        <p:blipFill>
          <a:blip r:embed="rId2"/>
          <a:stretch/>
        </p:blipFill>
        <p:spPr>
          <a:xfrm>
            <a:off x="457200" y="1523880"/>
            <a:ext cx="117144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1178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922480" y="1646280"/>
            <a:ext cx="45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Бык - тупогуб, тупогубенький бы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У быка бела губа была 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:\Documents and Settings\xxx\Рабочий стол\i - 19.jpg"/>
          <p:cNvPicPr/>
          <p:nvPr/>
        </p:nvPicPr>
        <p:blipFill>
          <a:blip r:embed="rId3"/>
          <a:stretch/>
        </p:blipFill>
        <p:spPr>
          <a:xfrm>
            <a:off x="6858000" y="2971800"/>
            <a:ext cx="1914480" cy="1428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1029960" y="32464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На траве трава, на дворе тр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Не руби дрова, на дворе т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C:\Documents and Settings\xxx\Рабочий стол\i. - 20jpg.jpg"/>
          <p:cNvPicPr/>
          <p:nvPr/>
        </p:nvPicPr>
        <p:blipFill>
          <a:blip r:embed="rId4"/>
          <a:stretch/>
        </p:blipFill>
        <p:spPr>
          <a:xfrm>
            <a:off x="457200" y="4876920"/>
            <a:ext cx="1652760" cy="1309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3063960" y="492300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От топота к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        </a:t>
            </a: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пыль по полю лет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xxx\Рабочий стол\i - 20.jpg"/>
          <p:cNvPicPr/>
          <p:nvPr/>
        </p:nvPicPr>
        <p:blipFill>
          <a:blip r:embed="rId2"/>
          <a:stretch/>
        </p:blipFill>
        <p:spPr>
          <a:xfrm>
            <a:off x="380880" y="457200"/>
            <a:ext cx="2162160" cy="1820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xxx\Рабочий стол\i. - 22jpg.jpg"/>
          <p:cNvPicPr/>
          <p:nvPr/>
        </p:nvPicPr>
        <p:blipFill>
          <a:blip r:embed="rId3"/>
          <a:stretch/>
        </p:blipFill>
        <p:spPr>
          <a:xfrm>
            <a:off x="7315200" y="2133720"/>
            <a:ext cx="1468440" cy="2074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xxx\Рабочий стол\i - 22.jpg"/>
          <p:cNvPicPr/>
          <p:nvPr/>
        </p:nvPicPr>
        <p:blipFill>
          <a:blip r:embed="rId4"/>
          <a:stretch/>
        </p:blipFill>
        <p:spPr>
          <a:xfrm>
            <a:off x="685800" y="4648320"/>
            <a:ext cx="1701720" cy="1863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3561480" y="426960"/>
            <a:ext cx="26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Водовоз вез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Из - под водопро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684600" y="4923000"/>
            <a:ext cx="31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Мама мыла Милу мы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Мила мыло не люб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298240" y="271296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Шла Саша по шо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И сосала с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Развиваем сценическое масте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981080" y="1295280"/>
            <a:ext cx="516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99ff"/>
                </a:solidFill>
                <a:latin typeface="Comic Sans MS"/>
              </a:rPr>
              <a:t>Повторяем скороговор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99ff"/>
                </a:solidFill>
                <a:latin typeface="Comic Sans MS"/>
              </a:rPr>
              <a:t>в различных образ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99ff"/>
                </a:solidFill>
                <a:latin typeface="Comic Sans MS"/>
              </a:rPr>
              <a:t>и с эмоциями, присущими персонаж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99ff"/>
                </a:solidFill>
                <a:latin typeface="Comic Sans MS"/>
              </a:rPr>
              <a:t>изображенному на карти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:\Documents and Settings\xxx\Рабочий стол\i - 24.jpg"/>
          <p:cNvPicPr/>
          <p:nvPr/>
        </p:nvPicPr>
        <p:blipFill>
          <a:blip r:embed="rId2"/>
          <a:stretch/>
        </p:blipFill>
        <p:spPr>
          <a:xfrm>
            <a:off x="533520" y="3657600"/>
            <a:ext cx="1244520" cy="1419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Documents and Settings\xxx\Рабочий стол\i - 25.jpg"/>
          <p:cNvPicPr/>
          <p:nvPr/>
        </p:nvPicPr>
        <p:blipFill>
          <a:blip r:embed="rId3"/>
          <a:stretch/>
        </p:blipFill>
        <p:spPr>
          <a:xfrm>
            <a:off x="3862440" y="2714760"/>
            <a:ext cx="149076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Documents and Settings\xxx\Рабочий стол\i - 26.jpg"/>
          <p:cNvPicPr/>
          <p:nvPr/>
        </p:nvPicPr>
        <p:blipFill>
          <a:blip r:embed="rId4"/>
          <a:stretch/>
        </p:blipFill>
        <p:spPr>
          <a:xfrm>
            <a:off x="7077240" y="4038480"/>
            <a:ext cx="2066760" cy="1428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344520" y="499428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веселый за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551040" y="415620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грустный ще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42160" y="547524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довольный к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424240" y="45165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847240" y="5027760"/>
            <a:ext cx="2683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укушка кукушо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упила капю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ак в капюш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он сме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Молодцы!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Вы замечательно выполнили все зад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:\Documents and Settings\xxx\Рабочий стол\i. - 4jpg.jpg"/>
          <p:cNvPicPr/>
          <p:nvPr/>
        </p:nvPicPr>
        <p:blipFill>
          <a:blip r:embed="rId2"/>
          <a:stretch/>
        </p:blipFill>
        <p:spPr>
          <a:xfrm>
            <a:off x="2514600" y="2057400"/>
            <a:ext cx="4206960" cy="31561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65040" y="5608800"/>
            <a:ext cx="81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Не забудьте повторить упражнения и завт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8:00:48Z</dcterms:created>
  <dc:creator>xxx</dc:creator>
  <dc:description/>
  <dc:language>en-US</dc:language>
  <cp:lastModifiedBy>User</cp:lastModifiedBy>
  <dcterms:modified xsi:type="dcterms:W3CDTF">2019-12-23T00:13:34Z</dcterms:modified>
  <cp:revision>12</cp:revision>
  <dc:subject/>
  <dc:title>Заголовок слайда отсутствует</dc:title>
</cp:coreProperties>
</file>