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770-9C7A-4536-AFD7-27626A32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032-B7CA-4F4A-B366-1D3C47F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5C2-9636-4465-A558-8F37D6DC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738-81A5-4683-84E1-9D5CD2D0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F6F-ABEA-4BF9-AAD0-DAE52886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3F57-E671-46AC-8C39-8E8EA80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D072-2D29-4995-B390-75DFBDF6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D140-88F2-4B6A-94F5-2044F7B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5DA-D0A7-437C-8868-40D2D12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6C54-FACB-448F-8BC0-89501B9C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CEE7-A18F-4E5F-B62A-14ABCD5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B11-B7FB-49A7-B163-9FCE8487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129-A6EB-4968-8369-0C0DCCB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2B92-FF20-49EB-8F10-CD2AAB9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CA9-0CBD-40AB-B9B1-28F9A2E7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27ED-1E1A-4DA2-B28A-3882460F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A11-1B21-4F85-9E6F-5C391CA4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E2E-F5A2-4533-A3A8-D140BC21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3E4-7FC4-460A-99F0-82B0C2D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7E1-D585-4FA2-A606-F16A728C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B31-99F9-432D-85D2-25556B37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8CB-E9D2-44B7-BD77-59E1551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78-4402-4E55-95E6-F509C1B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6AF-136C-4E71-A8B3-CB9DFDC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7EE1-A091-4895-9123-30A2A8140C9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360"/>
              <a:ext cx="3622320" cy="6129000"/>
              <a:chOff x="5408280" y="63360"/>
              <a:chExt cx="362232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920"/>
                <a:ext cx="905760" cy="843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40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608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6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92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080" y="293040"/>
              <a:ext cx="889200" cy="834120"/>
              <a:chOff x="565308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468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920" y="5253480"/>
              <a:ext cx="1062720" cy="834840"/>
              <a:chOff x="96192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784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088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328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9E57-32AD-4A40-A691-775CDB37D5D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961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cc0000"/>
              </a:solidFill>
              <a:latin typeface="Verdana"/>
            </a:endParaRPr>
          </a:p>
        </p:txBody>
      </p:sp>
      <p:pic>
        <p:nvPicPr>
          <p:cNvPr id="169" name="Picture 3" descr="C:\Users\Computer\Desktop\i (2).jpg"/>
          <p:cNvPicPr/>
          <p:nvPr/>
        </p:nvPicPr>
        <p:blipFill>
          <a:blip r:embed="rId1"/>
          <a:stretch/>
        </p:blipFill>
        <p:spPr>
          <a:xfrm>
            <a:off x="304920" y="176040"/>
            <a:ext cx="4548240" cy="606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Danil\Desktop\Валентин_Распутин.jpg"/>
          <p:cNvPicPr/>
          <p:nvPr/>
        </p:nvPicPr>
        <p:blipFill>
          <a:blip r:embed="rId2"/>
          <a:stretch/>
        </p:blipFill>
        <p:spPr>
          <a:xfrm>
            <a:off x="4853160" y="182520"/>
            <a:ext cx="402264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24000" y="40464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Пожар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Живи и помни»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Уроки французского»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Прощание с Матерой»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Последний срок»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Век живи – век люби»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еньги для Марии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очь Ивана, мать Ивана» и мн. др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Это всего лишь небольшая часть произведе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н болел за Родину, за свою Сибирь, за Ангару, за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. Г. Минее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н от веку обречен на мучения и подвиг духа, на совесть, взыскующую добра, на вечное стремление к идеалу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 Астафье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 Г. Распутин – выдающийся русский писатель, публицист, общественный деятел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 Г. Распутин – советский, российский писател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-1314360"/>
            <a:ext cx="82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Однородные и неоднородные определения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1314360"/>
            <a:ext cx="82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7343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  <a:ea typeface="Calibri"/>
              </a:rPr>
              <a:t>1. Обочинка была маленькой, идти было не совсем удобно, да еще зонтик и мелкий дождишко, но больше не он мешал,  резкий, порывистый ветер.  2) Это была большая бетонная площадка, где стояла скамейка, спинкой к автотрассе.  3) Мы присели.  4) Впереди, перед глазами, был какой-то бетонный откос, который, был испещрен страстными, восторженными и безнадежными признаниями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49360" y="260280"/>
          <a:ext cx="8281800" cy="21319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1800"/>
                <a:gridCol w="2070000"/>
              </a:tblGrid>
              <a:tr h="21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мизинец – хочу для себя выяснить…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езымянный – моя оценка психологической атмосферы…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редний – мне было интересно, легко… / скучно, неинтересно, трудно, не понравилось…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указательный – я получил конкретные рекомендации… / я не узнал для себя ничего нового…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17" descr=""/>
          <p:cNvPicPr/>
          <p:nvPr/>
        </p:nvPicPr>
        <p:blipFill>
          <a:blip r:embed="rId1"/>
          <a:stretch/>
        </p:blipFill>
        <p:spPr>
          <a:xfrm>
            <a:off x="2809800" y="2849400"/>
            <a:ext cx="3848040" cy="353232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20"/>
          <p:cNvCxnSpPr/>
          <p:nvPr/>
        </p:nvCxnSpPr>
        <p:spPr>
          <a:xfrm>
            <a:off x="7124400" y="9278640"/>
            <a:ext cx="943560" cy="123876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181" name="Прямая со стрелкой 21"/>
          <p:cNvCxnSpPr/>
          <p:nvPr/>
        </p:nvCxnSpPr>
        <p:spPr>
          <a:xfrm flipV="1">
            <a:off x="5186520" y="1934280"/>
            <a:ext cx="2232720" cy="1605960"/>
          </a:xfrm>
          <a:prstGeom prst="straightConnector1">
            <a:avLst/>
          </a:prstGeom>
          <a:ln w="9360">
            <a:solidFill>
              <a:srgbClr val="003333"/>
            </a:solidFill>
            <a:miter/>
            <a:tailEnd len="med" type="arrow" w="med"/>
          </a:ln>
        </p:spPr>
      </p:cxnSp>
      <p:cxnSp>
        <p:nvCxnSpPr>
          <p:cNvPr id="182" name="Прямая со стрелкой 22"/>
          <p:cNvCxnSpPr/>
          <p:nvPr/>
        </p:nvCxnSpPr>
        <p:spPr>
          <a:xfrm flipV="1">
            <a:off x="4691160" y="1934280"/>
            <a:ext cx="496080" cy="1126440"/>
          </a:xfrm>
          <a:prstGeom prst="straightConnector1">
            <a:avLst/>
          </a:prstGeom>
          <a:ln w="9360">
            <a:solidFill>
              <a:srgbClr val="003333"/>
            </a:solidFill>
            <a:miter/>
            <a:tailEnd len="med" type="arrow" w="med"/>
          </a:ln>
        </p:spPr>
      </p:cxnSp>
      <p:cxnSp>
        <p:nvCxnSpPr>
          <p:cNvPr id="183" name="Прямая со стрелкой 23"/>
          <p:cNvCxnSpPr/>
          <p:nvPr/>
        </p:nvCxnSpPr>
        <p:spPr>
          <a:xfrm flipH="1" flipV="1">
            <a:off x="3850560" y="1934280"/>
            <a:ext cx="96120" cy="1605960"/>
          </a:xfrm>
          <a:prstGeom prst="straightConnector1">
            <a:avLst/>
          </a:prstGeom>
          <a:ln w="9360">
            <a:solidFill>
              <a:srgbClr val="003333"/>
            </a:solidFill>
            <a:miter/>
            <a:tailEnd len="med" type="arrow" w="med"/>
          </a:ln>
        </p:spPr>
      </p:cxnSp>
      <p:cxnSp>
        <p:nvCxnSpPr>
          <p:cNvPr id="184" name="Прямая со стрелкой 24"/>
          <p:cNvCxnSpPr/>
          <p:nvPr/>
        </p:nvCxnSpPr>
        <p:spPr>
          <a:xfrm flipH="1" flipV="1">
            <a:off x="1533240" y="1934280"/>
            <a:ext cx="1599120" cy="1955160"/>
          </a:xfrm>
          <a:prstGeom prst="straightConnector1">
            <a:avLst/>
          </a:prstGeom>
          <a:ln w="9360">
            <a:solidFill>
              <a:srgbClr val="003333"/>
            </a:solidFill>
            <a:miter/>
            <a:tailEnd len="med" type="arrow" w="med"/>
          </a:ln>
        </p:spPr>
      </p:cxnSp>
      <p:sp>
        <p:nvSpPr>
          <p:cNvPr id="185" name="Rectangle 35"/>
          <p:cNvSpPr/>
          <p:nvPr/>
        </p:nvSpPr>
        <p:spPr>
          <a:xfrm>
            <a:off x="1533600" y="2392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6015240" y="2391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153360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6657840" y="4500360"/>
            <a:ext cx="23068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большой 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 для меня это важно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Calibri"/>
              </a:rPr>
              <a:t>…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Calibri"/>
              </a:rPr>
              <a:t>/ неважно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Домашнее задание: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Знать отличия однородных и неоднородных определений, Упр. 243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1:24:56Z</dcterms:created>
  <dc:creator>Admin</dc:creator>
  <dc:description/>
  <dc:language>en-US</dc:language>
  <cp:lastModifiedBy>user</cp:lastModifiedBy>
  <dcterms:modified xsi:type="dcterms:W3CDTF">2018-01-25T05:48:11Z</dcterms:modified>
  <cp:revision>31</cp:revision>
  <dc:subject/>
  <dc:title>Повторение  изученного  по теме</dc:title>
</cp:coreProperties>
</file>