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9B208-C495-4CDB-94E8-2CCE70837C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3963600"/>
            <a:ext cx="7923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F2A66-E566-4F41-92D1-3BA667A0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3963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9200" y="3963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90815-0A4E-44DE-8A54-655AFF26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39636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7880" y="39636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000" y="39636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AA0D3-7B6C-4A69-908C-BC113CAF18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31153-14D0-4B10-86FA-70B8D40DFF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27320-733E-4124-97CB-A0A13A62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B6C5F-8626-4641-8D4D-07747E6C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C3379-9179-47BC-B0B5-D50991B2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7E7FE-92CC-4D9A-B9BB-EFA90B1A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120" y="274680"/>
            <a:ext cx="79232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C7911-B348-4EB3-A99C-94F334A42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120" y="3963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24C1F-F22E-4FFC-ADDA-30B9E728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9ADBE-12BB-4EE8-933D-B6F52713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9200" y="3963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BA0CF-999F-4EF8-B483-9F6573B5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120" y="3963600"/>
            <a:ext cx="7923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BDB5D-B168-4614-9C8F-2A7E06D8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120" y="3963600"/>
            <a:ext cx="7923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1B033-E955-45C2-8178-FB38BE69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120" y="3963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9200" y="3963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A63C3-D02B-4F29-A6B4-DCEC245D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120" y="39636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7880" y="39636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7000" y="39636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F36E2-0131-488B-9456-A8A0F7B988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3A02-46FA-4594-98BA-5D4C837091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F97D-755F-4677-A8B8-DF0FCBD5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DAF4-A50F-488E-AE8B-B2CEA6AD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1074-61C1-41AA-98D4-08533F54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3F76-D839-4739-A204-0DA51F782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6C3FA-1414-41D3-949D-63F166AF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120" y="274680"/>
            <a:ext cx="79232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E868-3AF1-4696-B2AC-1B72574B8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120" y="3963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411D-56DA-4A30-8684-33CBDC0F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9200" y="3963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E282-7FB0-4547-A410-2E190ED4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120" y="3963600"/>
            <a:ext cx="7923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36A5-35E6-465C-A2BE-E2104866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120" y="3963600"/>
            <a:ext cx="7923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2A0A-DF8C-4833-A362-AE6AFE1C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120" y="3963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9200" y="3963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6700-CF16-4E5C-B7F4-D285DACE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120" y="39636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7880" y="39636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7000" y="39636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F643-4F45-4780-ABDE-F04B3E2DDE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78FF25-02D2-43D0-957F-C466606B2D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F28489-3957-4C8B-8ECF-89653ABC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CF350D-1807-471B-B640-4493216E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4B920-7BDC-4500-AF7C-5A4C933C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83C654-DE82-4B29-942B-FDA60DF0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ADD17B-5EE3-4351-A905-5B3489AF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120" y="274680"/>
            <a:ext cx="79232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B9289F-26D0-4939-9770-EC258E657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120" y="3963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37CDB8-9E83-4E1A-8BCD-64449156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9200" y="3963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EABBCA-BC57-4B5C-947A-89F7B844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120" y="3963600"/>
            <a:ext cx="7923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FDF9B0-C999-4E7D-B50B-1F68F9EA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120" y="3963600"/>
            <a:ext cx="7923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5127CE-2D54-4BD7-B384-00BFFD90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120" y="3963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9200" y="3963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0ECFB0-C318-4981-9921-90334CF6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120" y="39636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7880" y="39636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7000" y="39636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A18489-85FE-4D9E-AD98-F25A90331B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63E26-3409-4513-87F5-2519ED2B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274680"/>
            <a:ext cx="79232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CB983-30EF-4C7B-A845-54965525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3963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C96D4-1F66-42BC-8565-63EA979E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9200" y="3963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B00AC-1974-4534-8A4C-83BE8906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3963600"/>
            <a:ext cx="7923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1BDB7-F058-4148-894F-2B438317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4360"/>
            <a:ext cx="1522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6094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543440" y="6354360"/>
            <a:ext cx="988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CB585A-790A-4F99-9EC4-67FA3FAF666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7093291-06F7-424C-BB03-2E28313DEFF5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B482C5B-E14D-40C2-BF13-6DC23A285DA5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8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5440927-A09A-406F-BC1D-9350D270224A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685800" y="460440"/>
            <a:ext cx="777240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rial Narrow"/>
              </a:rPr>
              <a:t>ЛЮДВИГ ВАН БЕТХОВЕН</a:t>
            </a:r>
            <a:endParaRPr b="0" lang="en-US" sz="9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609480" y="274680"/>
            <a:ext cx="792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ЛЮДВИГ ВАН БЕТХОВЕН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(1770-1827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6084720" y="1600200"/>
            <a:ext cx="2951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Narrow"/>
              </a:rPr>
              <a:t>Великий немецкий композитор, дирижёр и пианист 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576108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Его  отец – певец. Учил Людвига игре на различных инструментах. Хотел сделать из него второго Моцарта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В 1780 году Бетховен познакомился со своим учителем Кристианом Готлибом Нефе, органистом и композитором, обнаружившим в ученике талант. Благодаря Нефе, Батховен познакомился с музыкой Баха, Гайдна, Моцарта, произведениями Генделя. Тогда Бетховен написал первое сочинение, Вариации на тему марша Дресслера. На тот момент ему было 12, и в тот момент он уже подрабатывал помощником придворного органиста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609480" y="260280"/>
            <a:ext cx="4178520" cy="54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90000"/>
              </a:lnSpc>
              <a:spcBef>
                <a:spcPts val="774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 Narrow"/>
              </a:rPr>
              <a:t>Следует признать, что уже с самого начала пребывания в Вене Бетховен приобрел славу пианиста-виртуоза. Слушатели были поражены его игрой. На их взгляд, она была подобна извержению вулкана, а Бетховен напоминал им Наполеона.</a:t>
            </a:r>
            <a:endParaRPr b="0" lang="en-US" sz="31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4932360" y="404640"/>
            <a:ext cx="385596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Он был недоволен малейшими признаками неуважения к себе, тут же заявляя об этом, не скрывая чувств. Однажды непосредственно во время выступления Бетховен увидел, как один из гостей заговорил с дамой. Обозвал гостя, он прекратил игру, и так и не продолжил играть, несмотря на всего уговоры и извинения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609480" y="260280"/>
            <a:ext cx="7925040" cy="54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.Прослушав импровизацию Бетховена, Моцарт воскликнул: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«Он всех заставит говорить о себе!»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680400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609480" y="404640"/>
            <a:ext cx="4106880" cy="53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1796 год Бетховен начинает терять слух (воспаление внутреннего уха, которое приводило к звону в ушах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Несмотря на глухоту Бетховен продолжал писать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4979880" y="3429000"/>
            <a:ext cx="4014720" cy="2448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4759200" y="476280"/>
            <a:ext cx="424836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457200" y="2852640"/>
            <a:ext cx="81471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«Он был художник, но также и человек, человек в высшем смысле этого слова… О нем можно сказать, как ни о ком другом: он совершил великое, в нем не было ничего дурного»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2771640" y="115920"/>
            <a:ext cx="4248360" cy="273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18:03:48Z</dcterms:created>
  <dc:creator>1</dc:creator>
  <dc:description/>
  <dc:language>en-US</dc:language>
  <cp:lastModifiedBy>Иван</cp:lastModifiedBy>
  <dcterms:modified xsi:type="dcterms:W3CDTF">2018-04-19T19:05:55Z</dcterms:modified>
  <cp:revision>5</cp:revision>
  <dc:subject/>
  <dc:title>Людвиг ван Бетховен</dc:title>
</cp:coreProperties>
</file>