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159-E0B9-4830-A12E-A1E3E430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06C-A709-48E8-94A5-A0B9B3FA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31D-0600-4FA6-BE53-BC0E73D0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6AD-4608-44FC-9B83-D9E8AAEE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E14-2452-4CB9-BB5E-CDF9F1C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B15-5763-4084-80D5-EC1E85C3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A6A-7E0D-44C9-B8BE-4BB2082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B21-2D93-46A3-81B8-9A937871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285-2174-4E1B-8270-9EB3D1DB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BF1-44C3-4E7D-8DF0-A9160FB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28C-8B63-41BC-9810-EB47CCC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584-4251-422A-81FC-FA20A8B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1CA-AF9D-4065-BB6B-8AC84204B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ownloads\рамка проекта 4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Весело играем, звуки, буквы изучаем!»</a:t>
            </a:r>
            <a:br>
              <a:rPr sz="32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200400" y="5410080"/>
            <a:ext cx="2438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990720" y="232560"/>
            <a:ext cx="6400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ДОУ  «ЦРР- детский сад № 56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льяновской области г. Димитровгра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990720" y="46483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рукова А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5" descr=""/>
          <p:cNvPicPr/>
          <p:nvPr/>
        </p:nvPicPr>
        <p:blipFill>
          <a:blip r:embed="rId1"/>
          <a:stretch/>
        </p:blipFill>
        <p:spPr>
          <a:xfrm>
            <a:off x="133200" y="3956040"/>
            <a:ext cx="8877600" cy="2755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98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Вертикальный свиток 5"/>
          <p:cNvSpPr/>
          <p:nvPr/>
        </p:nvSpPr>
        <p:spPr>
          <a:xfrm>
            <a:off x="228600" y="457200"/>
            <a:ext cx="8686800" cy="49528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Такая целенаправленная комплексная работа, разнообразие и вариативность дидактического материала, использование продуктивной игровой деятельности при обучении детей на разных этапах помогает формированию коммуникативных навыков, преодолению недоразвития фонетико-фонематических средств языка , а значит, и успешному усвоению программ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В результате работы дети чётко различают на слух все звуки родного языка - гласные и согласные, в том числе и близкие по своим акустическим характеристикам: глухие и звонкие, твердые и мягкие; формируются навыки звукового анализа слов; нормализуется звукопроизношение; прочно усваиваются основы чтения и грам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User\Downloads\рамка проекта 5.jpg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Данный проект принимал участие в конкурсе им. Л.С.Выгот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User\Downloads\Я участвую в #КонкурсВыготского2017.png"/>
          <p:cNvPicPr/>
          <p:nvPr/>
        </p:nvPicPr>
        <p:blipFill>
          <a:blip r:embed="rId2"/>
          <a:stretch/>
        </p:blipFill>
        <p:spPr>
          <a:xfrm>
            <a:off x="228600" y="4419720"/>
            <a:ext cx="411480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User\Downloads\выготский.jpg"/>
          <p:cNvPicPr/>
          <p:nvPr/>
        </p:nvPicPr>
        <p:blipFill>
          <a:blip r:embed="rId3"/>
          <a:stretch/>
        </p:blipFill>
        <p:spPr>
          <a:xfrm>
            <a:off x="4648320" y="1066680"/>
            <a:ext cx="4190760" cy="54104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C:\Documents and Settings\Для всей семьи)))\Мои документы\veselyie-rebyata-shablon-prevyu-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8" descr=""/>
          <p:cNvPicPr/>
          <p:nvPr/>
        </p:nvPicPr>
        <p:blipFill>
          <a:blip r:embed="rId2"/>
          <a:stretch/>
        </p:blipFill>
        <p:spPr>
          <a:xfrm>
            <a:off x="1523880" y="1042920"/>
            <a:ext cx="6718320" cy="3395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ownloads\рамка проекта 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"/>
          <p:cNvPicPr/>
          <p:nvPr/>
        </p:nvPicPr>
        <p:blipFill>
          <a:blip r:embed="rId2"/>
          <a:stretch/>
        </p:blipFill>
        <p:spPr>
          <a:xfrm>
            <a:off x="365040" y="176040"/>
            <a:ext cx="7274160" cy="562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User\Downloads\рамка проекта 5.jpg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285840" y="2266920"/>
            <a:ext cx="8682120" cy="163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ownloads\рамка проекта 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User\Desktop\Мои разработки\Проект\Light_Log\IMG_0895.jpg"/>
          <p:cNvPicPr/>
          <p:nvPr/>
        </p:nvPicPr>
        <p:blipFill>
          <a:blip r:embed="rId3"/>
          <a:stretch/>
        </p:blipFill>
        <p:spPr>
          <a:xfrm>
            <a:off x="457200" y="3962520"/>
            <a:ext cx="400356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acc6"/>
                </a:solidFill>
                <a:latin typeface="Calibri"/>
                <a:ea typeface="Arabic Typesetting"/>
              </a:rPr>
              <a:t>Огромная роль в развитии и воспитании ребенка принадлежит игре - важнейшему виду деятельности. «Игра – генетическая основа, источник, корень всякого творчества, его подготовительная ступень» (Л. С. Выготск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Users\User\Desktop\Мои разработки\Проект\Light_Log\IMG_0876.jpg"/>
          <p:cNvPicPr/>
          <p:nvPr/>
        </p:nvPicPr>
        <p:blipFill>
          <a:blip r:embed="rId4"/>
          <a:stretch/>
        </p:blipFill>
        <p:spPr>
          <a:xfrm>
            <a:off x="4800600" y="396252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4" descr=""/>
          <p:cNvPicPr/>
          <p:nvPr/>
        </p:nvPicPr>
        <p:blipFill>
          <a:blip r:embed="rId1"/>
          <a:stretch/>
        </p:blipFill>
        <p:spPr>
          <a:xfrm>
            <a:off x="231840" y="212760"/>
            <a:ext cx="8753400" cy="35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Мои разработки\Проект\Light_Log\IMG_0904.jpg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User\Desktop\Мои разработки\Проект\Light_Log\IMG_0887.jpg"/>
          <p:cNvPicPr/>
          <p:nvPr/>
        </p:nvPicPr>
        <p:blipFill>
          <a:blip r:embed="rId3"/>
          <a:stretch/>
        </p:blipFill>
        <p:spPr>
          <a:xfrm>
            <a:off x="4724280" y="365760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5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577360" cy="642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Мои разработки\Проект\Light_Log\IMG_0872.jpg"/>
          <p:cNvPicPr/>
          <p:nvPr/>
        </p:nvPicPr>
        <p:blipFill>
          <a:blip r:embed="rId2"/>
          <a:stretch/>
        </p:blipFill>
        <p:spPr>
          <a:xfrm>
            <a:off x="152280" y="3505320"/>
            <a:ext cx="464832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ownloads\рамка проекта 5.jpg"/>
          <p:cNvPicPr/>
          <p:nvPr/>
        </p:nvPicPr>
        <p:blipFill>
          <a:blip r:embed="rId1"/>
          <a:stretch/>
        </p:blipFill>
        <p:spPr>
          <a:xfrm>
            <a:off x="1143000" y="5715000"/>
            <a:ext cx="8001000" cy="1143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4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"/>
          <p:cNvPicPr/>
          <p:nvPr/>
        </p:nvPicPr>
        <p:blipFill>
          <a:blip r:embed="rId2"/>
          <a:stretch/>
        </p:blipFill>
        <p:spPr>
          <a:xfrm>
            <a:off x="517680" y="146160"/>
            <a:ext cx="8723160" cy="573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ser\Downloads\рамка проекта 5.jpg"/>
          <p:cNvPicPr/>
          <p:nvPr/>
        </p:nvPicPr>
        <p:blipFill>
          <a:blip r:embed="rId3"/>
          <a:srcRect l="-8554" t="0" r="0" b="0"/>
          <a:stretch/>
        </p:blipFill>
        <p:spPr>
          <a:xfrm>
            <a:off x="-15228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1974960" y="907920"/>
            <a:ext cx="6997680" cy="545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Downloads\рамка проекта 5.jpg"/>
          <p:cNvPicPr/>
          <p:nvPr/>
        </p:nvPicPr>
        <p:blipFill>
          <a:blip r:embed="rId2"/>
          <a:srcRect l="-8588" t="0" r="0" b="0"/>
          <a:stretch/>
        </p:blipFill>
        <p:spPr>
          <a:xfrm>
            <a:off x="-228600" y="0"/>
            <a:ext cx="152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04480" y="875880"/>
            <a:ext cx="7162920" cy="3886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c0504d"/>
            </a:solidFill>
            <a:miter/>
          </a:ln>
        </p:spPr>
        <p:txBody>
          <a:bodyPr anchor="ctr">
            <a:normAutofit fontScale="82000"/>
          </a:bodyPr>
          <a:p>
            <a:pPr marL="281160" indent="-28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дети чётко различают на слух все зву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родного языка - гласные и согласные, в том числе и близкие по своим  акустическим характеристикам: глухие и звонкие, твердые и мягк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формируются навыки звукового анализа сл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ормализуется звукопроизношен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рочно усваиваются основы чтения и грам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Реализация проекта осуществляется на логопедических   занятиях (подгрупповых и индивидуальных), в совместной деятельности воспитателей с детьми, в свободной игровой деятельност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ownloads\рамка проекта 5.jpg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5" descr=""/>
          <p:cNvPicPr/>
          <p:nvPr/>
        </p:nvPicPr>
        <p:blipFill>
          <a:blip r:embed="rId1"/>
          <a:stretch/>
        </p:blipFill>
        <p:spPr>
          <a:xfrm>
            <a:off x="212760" y="689040"/>
            <a:ext cx="8852040" cy="59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1676520" y="216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Calibri"/>
              </a:rPr>
              <a:t>Вся работа - игра ведется поэтапно, последова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9-12-23T20:12:32Z</dcterms:modified>
  <cp:revision>162</cp:revision>
  <dc:subject/>
  <dc:title>Слайд 1</dc:title>
</cp:coreProperties>
</file>