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FFB9-3024-42EF-A1C0-FCA107C6D543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2389-7AC4-4344-AF71-1AA9EA8FD367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D40-5591-45AA-B6F4-2C0ED6BB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38E-C24C-4AE4-95FE-EFE0D1B4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F77-8A7C-4EDD-8014-15ACF3D9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4B5-A1DD-4592-803B-9E6386F3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8E73-14E1-4736-B7D7-596CD6D5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0333-E870-4567-BF73-A437B7E7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A856-4AF2-4577-89E5-E5DB165D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6484-E452-4E94-B632-E5C10694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151E-9F17-48F5-8413-35EE5ABB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2DA5-1243-4D9A-9A3F-5C434D82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18B1-E143-41C1-840B-B5B54E66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07B8-8D00-4673-A501-177DEC0A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DA52-8240-4CFD-9FD1-A6278002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B245-3E4E-446F-A56E-CB075865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F78E-14BF-410E-9789-421D3651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8D14-2142-4AF7-8AD2-9E587B75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2D50-68C6-494C-BDA0-DAF8F44F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D6B-3127-4472-B727-D272A81A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C6D-CC65-42A7-AF4A-5C8EE6A7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345-6BBC-41D6-A049-4F963B09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A30-9B03-4B7A-A3CB-29E78FEF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CC55-A9C4-4315-A0F5-CC701A5A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5870-82BD-4DB5-93F4-80EFF4CE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E0C7-77D3-44EE-AAC0-761E25F2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16F5-16F1-44DF-8A75-30D301E53EF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39160" y="506520"/>
                  <a:ext cx="43164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35680" y="26928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35520" y="141012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64320"/>
                  <a:ext cx="29052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79320" y="199440"/>
                  <a:ext cx="28692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F396-EE2B-4D05-9543-31B1CE79319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8" descr="282782--47311546-m750x740-ua6d2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8560" y="1773360"/>
            <a:ext cx="687060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азвитие творческих способностей детей младшего возраста по средствам применения нетрадиционных техник рисова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86160" y="4642920"/>
            <a:ext cx="48578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зентацию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хиня Юлия Юрье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643040" y="214200"/>
            <a:ext cx="64785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785880" y="42876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БДОУ « Детский сад комбинированного вида №1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2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15920"/>
            <a:ext cx="6870600" cy="16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Цель: развитие творческих способностей дошкольного </a:t>
            </a:r>
            <a:br>
              <a:rPr sz="2000"/>
            </a:br>
            <a:r>
              <a:rPr b="0" lang="ru-RU" sz="20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возраста через использование нетрадиционных техник изобразительной деятель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вшись с методической литературой различных авторов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х как пособие А.В. Никитиной, И.А. Лыковой, Т.Н.Дороховой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Г.Казаковой я нашла  очень много интересных идей и поставили перед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ой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активности и самостоятельности детей в ИЗО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мелкой моторики рук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воображения, творческих способностей у детей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интерес к созданию новых образцов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формировать у детей технические навыки рисован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комить детей с различными нетрадиционными техникам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учить создавать свой неповторимый образ, в рисунках по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радиционному рисованию используя различные техник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566e"/>
            </a:gs>
            <a:gs pos="50000">
              <a:srgbClr val="a0baee"/>
            </a:gs>
            <a:gs pos="100000">
              <a:srgbClr val="4a566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187280" y="3573000"/>
            <a:ext cx="763128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260280"/>
            <a:ext cx="7634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дение занятий с использованием нетрадиционных техник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ствует снятию детских страх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ет уверенность в своих силах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ет пространственное мышлени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 детей свободно выражать свой замысел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буждает детей к творческим поискам и решениям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 детей работать с разнообразным материалом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ет чувство композиции, ритма,  колорита, цвето- восприятия; чувство фактурности и объём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ет мелкую моторику рук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ет творческие способности, воображение и  полёт фантаз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6f2f"/>
            </a:gs>
            <a:gs pos="50000">
              <a:srgbClr val="ffef66"/>
            </a:gs>
            <a:gs pos="100000">
              <a:srgbClr val="766f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908000" y="333000"/>
            <a:ext cx="61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техники по возрастным группам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ьми младшего дошкольног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раста рекомендуется использовать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пальчиками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ладошка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среднего дошкольног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раста можно знакомить с более сложными техниками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чок жесткой полусухой кистью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ть поролоном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ть пробками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ковые мелки + акварель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ча + акварель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ечатки листьев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и из ладошки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ватными палочками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ксография с трубочко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старшем дошкольном возраст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и уже  могут освоить еще более трудные методы и техники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ксография с трубочкой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типия пейзажная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ть по трафарету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типия предметная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ксография обычная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линограф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13880" y="2142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 рисования ладошками и пальчиками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Рисунок 1" descr=""/>
          <p:cNvPicPr/>
          <p:nvPr/>
        </p:nvPicPr>
        <p:blipFill>
          <a:blip r:embed="rId2"/>
          <a:stretch/>
        </p:blipFill>
        <p:spPr>
          <a:xfrm>
            <a:off x="1704960" y="1419120"/>
            <a:ext cx="5734080" cy="5143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Объект 5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129200" cy="3097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Users\Вова\Desktop\(Работа) Моё личное\Фто 1 младшая\P90529-104052.jpg"/>
          <p:cNvPicPr/>
          <p:nvPr/>
        </p:nvPicPr>
        <p:blipFill>
          <a:blip r:embed="rId2"/>
          <a:stretch/>
        </p:blipFill>
        <p:spPr>
          <a:xfrm>
            <a:off x="4859280" y="836640"/>
            <a:ext cx="36226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4"/>
          <p:cNvSpPr/>
          <p:nvPr/>
        </p:nvSpPr>
        <p:spPr>
          <a:xfrm>
            <a:off x="4859280" y="260280"/>
            <a:ext cx="36432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я занятия по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традиционному рисованию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помнить, что для успешного овладения детьми умениями и навыками необходимо учитывать возрастные и индивидуальные особенности детей, их желания и интересы. С возрастом ребёнка расширяется содержание, усложняются элементы, форма бумаги, выделяются новые средства выразительности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728640" y="646200"/>
            <a:ext cx="3816360" cy="468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2587921_nina19[1]"/>
          <p:cNvPicPr/>
          <p:nvPr/>
        </p:nvPicPr>
        <p:blipFill>
          <a:blip r:embed="rId1"/>
          <a:stretch/>
        </p:blipFill>
        <p:spPr>
          <a:xfrm>
            <a:off x="4211640" y="1268280"/>
            <a:ext cx="4079880" cy="5589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280" y="1125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пасибо за 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08:43:37Z</dcterms:created>
  <dc:creator>user</dc:creator>
  <dc:description/>
  <dc:language>en-US</dc:language>
  <cp:lastModifiedBy>Вова</cp:lastModifiedBy>
  <dcterms:modified xsi:type="dcterms:W3CDTF">2019-12-06T16:53:27Z</dcterms:modified>
  <cp:revision>86</cp:revision>
  <dc:subject/>
  <dc:title>Слайд 1</dc:title>
</cp:coreProperties>
</file>