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209-77B0-4D4D-A70A-6C875D1C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FA5-CAB8-46C1-8E9A-D00606DE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2007-C3E0-4B51-9B96-7136878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8776-23B8-482B-A004-2349924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70A63-3547-4E30-B31F-21D6FBE7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B0631-E354-4BAF-9815-2EDC91A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5D8B0-8CE4-4446-A094-1FDCE62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5B548-18A5-4492-A3CF-D793A13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90D0D-0837-4EC2-AA67-86111AE9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45815-58C3-46DE-8DBD-C3878583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3144A-0DB6-48DB-869D-C99D0C1E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82594-5555-43F1-9281-96912855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4E2-16E1-4256-80EC-B3984110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9CA06-5181-415D-8EA2-9C4D8E88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7F56D-CE28-4EFD-B723-272217E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4F8D5-CB82-4813-88CE-AA2324E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61D1D-C318-4A97-97BD-3C818273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81BA3-6DF8-4276-87A3-6B6779B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4D78-ED7B-4F22-B9E4-96E5D89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B2936-507D-43B5-818D-D828A8C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70AD-9EBA-495F-BA2F-6F3FE9A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94747-E5E6-489D-9BD3-E4EAAF2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A1A89-FFB4-4813-800B-C925F13E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D8E-B299-4A6A-856B-35AFAC3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883EB-7A33-441D-A081-E2AFCAE3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2F90-2DB6-4C3E-BEED-C8C0D739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EF08F-C39F-4E59-B8CC-6DAB8BC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E12B1-5878-406A-9F94-DDCBDE7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B240-28C5-445F-A531-21B7579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1A686-95B1-43D5-AD11-F1E7DEE0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05BAC-D514-48D0-965C-808EEDF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EB560-FEFF-41A3-8685-CBF490E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BCDC9-69C5-49A1-9A7F-E93B93C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0A26A-DE0C-4885-BAAA-9E62C08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BB2D-80D6-4ED6-A495-CA7C6961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6C803-31DF-42B4-8F2A-5E7C22AF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FD443-7126-4615-8EF4-6062B2D2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1A5ED-299F-4BFA-96D5-4ED67587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0958D-1D68-4E22-803B-A7CE29FC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A6969-8C57-498F-AA5D-78FA420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C8083-6E8B-4043-9F1D-5AE758AD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2B1CA-0D2D-4240-9775-F9A068F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F0A4B-8B12-4899-A73E-E6390D7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FCEEF-7A12-4180-B3D3-8F9054EF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9884D-C6AD-4FB8-ABD4-F3D4D22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3168-ABF2-4BF8-8E14-70FE85AF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70C80-7878-4A71-844B-F79AA3E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8A27D-D5B2-47C7-9115-9AEAC89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5D801-9667-4969-9473-14E02D2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ADC76-C1D9-40AA-B489-7AABA3C6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00751-56E6-4727-B4C5-E97CB223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70EC-33B5-4F47-A5D3-25228CA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6B64-BC05-4087-8518-43508FF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186-3DA3-4812-B0A0-B114064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26ED-CEBB-45C0-B8B9-5CACCD9C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2F87-1C04-4E57-BD68-53D2068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E2F-4565-4FA9-9FBB-6A5445C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6EC-69F2-44A4-AA5B-81015E5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2C04-A1DC-453E-A67B-901DE5BA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9E0-37AE-441E-A515-1A49EC6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F88-1448-4F84-8534-86D8A10B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F74-3613-46FA-85C1-64EA23EB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98D9-2EA2-43C2-B166-88CE5FD4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DA73-D804-4941-9609-3DAB2F8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433C-0412-4FD7-BF57-39E29F3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1E7D-7D90-4253-BC4F-8A9069D3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2B10-CF7A-4152-B51A-663B20F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163-FB03-4A6E-9CF7-DF16925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34D7-A5B0-43E3-A911-AB0E451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FEA8-916B-4E4B-87EC-24FB22F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0EBE-9DB1-46B5-93FD-9EE1B21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3817-5652-478F-A42A-EA41EA4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936B-5689-442C-8BAB-7A2EFF0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D8AC-5BD6-4A11-B109-C418D9B9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90A5-B064-4D84-A540-E053240E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1775-2E8E-41E0-9BF8-76021E5B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437A-01F3-43AA-B3CC-5C083C2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7EF4-328C-4D33-8BDE-D7AC27D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5FC-F7CA-4B97-ABC7-1197ED3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C8A7-260E-4A11-9C11-06F18DD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FE7E-3AA0-457E-8645-687CE389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C638-B231-471E-8802-AF85C6C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D83C-4F4D-4EE6-B531-C1DB97E2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CE53-8753-429F-8178-8DA8BB7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DCB7-46B3-4763-B72A-43700BA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4C45-6992-49C1-845C-6E5A5210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7DAB-24AA-4194-B5A9-4EB30277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3922-DE6C-4505-90CC-1AC25438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F210-0C0A-4AA1-8BB5-8DEBCD3D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EE5-F0F0-4245-85A2-D99D694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0978-B754-4C07-A81D-152A1CD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D0FA-DA69-47F0-A86E-A2ABFBD5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D17A-CE20-4701-9F31-BFA0D581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CABA-51B4-4539-B099-62C77A58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61DC4-E8C9-46CF-8393-B0A84A0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17D6-29E3-4601-8224-99EC813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8020-56AD-4BB5-9D05-07946F6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56BD-08C5-4E76-AE2C-115FB68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B4A5-B6DF-492B-B7F9-0CC02BE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64C9-30A3-4FB0-A5A7-D5C895DE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D4C-6624-48E7-B510-C9B2D808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0C2F-871B-4794-A643-A66048DC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FF0A-35A6-4F8B-A96D-189E8A44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97AC-D0AC-41F6-BAFA-60E1407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9140-CC0A-4294-B6BF-F1ADC72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61CD-8060-42A4-A3CD-FE8BEC2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3998-D31E-4CB0-89BB-D09F3EBF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32DC-4D0F-4041-8A21-B258F15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121E-B649-485D-A3A0-55F8FA4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7680-5A17-4FA2-8D6C-A44A54C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83E0-2AB3-42D5-88E4-AB858BD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ACF-5E17-49A1-8512-63F3678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0EDA-F66E-4BDC-A150-E062CC10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D0DC-12F5-4782-856C-6FD2108F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8ED5-D507-4489-9F15-EBE980A9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D10E7-BC76-457B-B81C-562EA140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7C7C-34B7-4BA8-BF68-44BD1C42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FD31-C507-4487-B0F7-3C8A8C19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CA20-9624-4500-93B1-7F30BD4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66C5-F849-4EF1-8EC2-13A6C4AA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5F7B-2A72-4FE0-987B-5A2BB18A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AAEF-7231-4E24-9869-7C42732A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410-58BF-44D9-BB05-3F6B561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D6F4-9EA6-46CC-9B38-834B0DA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B701-ACC4-4B44-BFD1-B60E22C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211B-4F1E-4B87-9FAB-A7A45B5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AE9A-8808-4CBB-88D4-D7DEDAA1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C7EE4-19F8-4AE1-A609-B1DF23C4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F720-AC09-4CDE-B178-5079A368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BDD8A-84B6-413A-B56A-0EA3D14B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8458-9EDF-4DD3-9928-A51ED31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0281-7994-4CF1-8CCF-5CD420E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C1942-5A48-423A-B351-3FCE128E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591-AD08-4D1E-BAAB-A93DF402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671E-74D5-4D63-8EFA-A4553C28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CBCB-418E-4DAA-ABFF-7BB38D3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95028-AF32-4639-B964-E573E58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CB1F-9455-460F-B69D-8E22446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00D5C-E99A-42FA-ACC8-B5370A4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65C2-C6CA-4DE0-BC62-119AEAF6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853B-4E9B-43DA-9945-3C329974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92E13-B382-42BB-BB3F-29B18AFE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77A6-36D9-4EB0-8E71-BF5985F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1F835-B86F-4A90-BA03-7CE2887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3C96-C358-4D0F-AB43-6C456F91E3F1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9FE-EC8D-4F7A-93C3-56089C297A44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1B4-9359-4A99-8BF9-54DFB86921F3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C0E-54C1-487E-9447-420839CBC753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0BA-5A06-4E3D-82A2-42C5A49FF04E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F58-0EF7-4997-8C78-3ACAF95B679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9B1-F09E-47BC-B3AA-45A1D01E5D6A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46C-0004-4BD0-816D-C7B0155A79FF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90D-9392-41DA-BA5C-BD25CBABD316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4D2C-DF31-4906-A66D-6C37C818613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A9D-8A17-4EC3-B4EF-F478C479DBD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72a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8b7c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8b7c3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e50e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CD5-4E34-4AA7-9538-27B10B5A4A2D}" type="slidenum">
              <a:rPr b="0" lang="ru-RU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sportal.ru/detskiy-sad/okruzhayushchiy-mir/2014/09/27/svetofor-i-ego-druzya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iteach.ru/index.php/&#1048;&#1079;&#1086;&#1073;&#1088;&#1072;&#1078;&#1077;&#1085;&#1080;&#1077;:Svetofor1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nsp.nnov.ru/gallery/data/media/22/IMG_741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regart.ru/articl/articl7/pril_a/Gr52290-2004-prA.files/image212.gif" TargetMode="External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72a7"/>
                </a:solidFill>
                <a:latin typeface="Verdana"/>
              </a:rPr>
              <a:t>                  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7172a7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br>
              <a:rPr sz="3200"/>
            </a:br>
            <a:endParaRPr b="1" lang="en-US" sz="32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714240" y="3567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24000"/>
          </a:bodyPr>
          <a:p>
            <a:pPr marL="63360" indent="-6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 № 8 «Снеговичо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ить виды светофоров, место установки каждого вида светофора и назнач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-63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lang="en-US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https://nsportal.ru/detskiy-sad/okruzhayushchiy-mir/2014/09/27/svetofor-i-ego-druz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Необычные светофоры в мире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pic>
        <p:nvPicPr>
          <p:cNvPr id="574" name="Picture 7" descr="Изображение"/>
          <p:cNvPicPr/>
          <p:nvPr/>
        </p:nvPicPr>
        <p:blipFill>
          <a:blip r:embed="rId1"/>
          <a:stretch/>
        </p:blipFill>
        <p:spPr>
          <a:xfrm>
            <a:off x="826920" y="1379520"/>
            <a:ext cx="2953080" cy="4998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0" descr="Изображение"/>
          <p:cNvPicPr/>
          <p:nvPr/>
        </p:nvPicPr>
        <p:blipFill>
          <a:blip r:embed="rId2"/>
          <a:stretch/>
        </p:blipFill>
        <p:spPr>
          <a:xfrm>
            <a:off x="4788000" y="1413000"/>
            <a:ext cx="383688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Необычные светофоры в мире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pic>
        <p:nvPicPr>
          <p:cNvPr id="577" name="Picture 4" descr="Изображение"/>
          <p:cNvPicPr/>
          <p:nvPr/>
        </p:nvPicPr>
        <p:blipFill>
          <a:blip r:embed="rId1"/>
          <a:stretch/>
        </p:blipFill>
        <p:spPr>
          <a:xfrm>
            <a:off x="826920" y="1981080"/>
            <a:ext cx="3240360" cy="4114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Изображение"/>
          <p:cNvPicPr/>
          <p:nvPr/>
        </p:nvPicPr>
        <p:blipFill>
          <a:blip r:embed="rId2"/>
          <a:stretch/>
        </p:blipFill>
        <p:spPr>
          <a:xfrm>
            <a:off x="4788000" y="1981080"/>
            <a:ext cx="3308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Сигналы  светофора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435280" y="2060640"/>
            <a:ext cx="3313080" cy="4008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7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ЫЙ глаз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ядит на на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СТОП!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сит его приказ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ЁЛТЫЙ глаз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ядит на нас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СТОРОЖНО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ЗЕЛЁНЫЙ глаз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нас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МОЖНО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ведёт свой разговор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чаливый СВЕТОФО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1035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2" name="Picture 8" descr="Pravila_lico"/>
          <p:cNvPicPr/>
          <p:nvPr/>
        </p:nvPicPr>
        <p:blipFill>
          <a:blip r:embed="rId1"/>
          <a:stretch/>
        </p:blipFill>
        <p:spPr>
          <a:xfrm>
            <a:off x="900000" y="1773360"/>
            <a:ext cx="434664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Как появились дорожные знаки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47640" y="1628640"/>
            <a:ext cx="5256360" cy="4538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дорожные указатели появились практически одновременно с возникновением дорог. Для обозначения маршрута первобытные путешественники надламывали сучья и делали метки на коре деревьев, устанавливали вдоль дорог камни определённой фор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ая в мире система дорожных указателей возникла в Древнем Риме в III в. до н.э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5" descr="История дорожных знаков"/>
          <p:cNvPicPr/>
          <p:nvPr/>
        </p:nvPicPr>
        <p:blipFill>
          <a:blip r:embed="rId1"/>
          <a:stretch/>
        </p:blipFill>
        <p:spPr>
          <a:xfrm>
            <a:off x="684360" y="1268280"/>
            <a:ext cx="236988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Пешеходный переход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3200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земный перехо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й день спешит нар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водитель, не грусти, пешехода пропу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12" descr="Стихи о дорожных знаках. Дорожный знак. Пешеходный переход."/>
          <p:cNvPicPr/>
          <p:nvPr/>
        </p:nvPicPr>
        <p:blipFill>
          <a:blip r:embed="rId1"/>
          <a:stretch/>
        </p:blipFill>
        <p:spPr>
          <a:xfrm>
            <a:off x="539640" y="1916280"/>
            <a:ext cx="4044960" cy="39607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9"/>
          <p:cNvSpPr/>
          <p:nvPr/>
        </p:nvSpPr>
        <p:spPr>
          <a:xfrm>
            <a:off x="0" y="2139840"/>
            <a:ext cx="7920" cy="7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69840" y="762120"/>
            <a:ext cx="73389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a326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5fa326"/>
                </a:solidFill>
                <a:latin typeface="Monotype Corsiva"/>
              </a:rPr>
              <a:t>Подземный переход</a:t>
            </a:r>
            <a:endParaRPr b="1" lang="en-US" sz="48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716360" y="1413000"/>
            <a:ext cx="3741840" cy="446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00996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0" y="2940120"/>
            <a:ext cx="7920" cy="7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4" name="Picture 7" descr="zn_5_36_2"/>
          <p:cNvPicPr/>
          <p:nvPr/>
        </p:nvPicPr>
        <p:blipFill>
          <a:blip r:embed="rId1"/>
          <a:stretch/>
        </p:blipFill>
        <p:spPr>
          <a:xfrm>
            <a:off x="755640" y="1773360"/>
            <a:ext cx="3492360" cy="352872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0"/>
          <p:cNvSpPr/>
          <p:nvPr/>
        </p:nvSpPr>
        <p:spPr>
          <a:xfrm>
            <a:off x="4500720" y="260604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ет каждый пешех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 подземный этот х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он не украша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машинам не мешает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4152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Переходи дорогу правильно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003640" y="836280"/>
            <a:ext cx="3097440" cy="287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0" y="1714680"/>
            <a:ext cx="3889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рогу так перехожу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ачала влево погляж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, если нет маши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у до середи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ом смотрю внимательн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аво обязательн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, если нет движ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аю без сомн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0" y="2058840"/>
            <a:ext cx="7920" cy="7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00" name="Picture 6" descr="pravila_dor_dvig"/>
          <p:cNvPicPr/>
          <p:nvPr/>
        </p:nvPicPr>
        <p:blipFill>
          <a:blip r:embed="rId1"/>
          <a:stretch/>
        </p:blipFill>
        <p:spPr>
          <a:xfrm>
            <a:off x="1042920" y="1557360"/>
            <a:ext cx="266724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931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Правила движения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зде и всюду прави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х надо знать всегд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них не выйдут в плавань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гавани суд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ходят в рейс по правила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ярник и пило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и имеют прави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офер и пешехо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68360" y="1557000"/>
            <a:ext cx="7989840" cy="453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oldmos.ru/photo/view/6855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autotravel.ru/otklik.php/318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ledresource.ru/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ru.freepik.com/free-photos-vectors/traffic-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inpic.ru/image/3276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metrophot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100dorog.ru/photo/47993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Для чего нужны светофоры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16360" y="1483920"/>
            <a:ext cx="5394240" cy="453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етофоры были изобретены для того, чтобы регулировать безопасность движения на улицах. Широкое распространение получили они после изобретения автомобиля. Когда улицы заполнились быстрыми и шумными автомобилями, стало очевидно, что регулировать уличное движение необходимо. Светофоры, которые заставляли останавливаться одних, давая возможность двигаться другим, представляли один из способов защитить автомобили и пешеходов от столкновений и избежать образования транспортных пробок.</a:t>
            </a:r>
            <a:br>
              <a:rPr sz="2200"/>
            </a:b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Picture 4" descr="svetofor"/>
          <p:cNvPicPr/>
          <p:nvPr/>
        </p:nvPicPr>
        <p:blipFill>
          <a:blip r:embed="rId1"/>
          <a:stretch/>
        </p:blipFill>
        <p:spPr>
          <a:xfrm>
            <a:off x="611280" y="1268280"/>
            <a:ext cx="216036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684360" y="486900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й светофор в России появился в Москв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 декабря 1929  года на углу улиц Петровка и Кузнецкий мос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1" name="Picture 14" descr="301903"/>
          <p:cNvPicPr/>
          <p:nvPr/>
        </p:nvPicPr>
        <p:blipFill>
          <a:blip r:embed="rId1"/>
          <a:stretch/>
        </p:blipFill>
        <p:spPr>
          <a:xfrm>
            <a:off x="826920" y="620640"/>
            <a:ext cx="3673800" cy="4194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301904"/>
          <p:cNvPicPr/>
          <p:nvPr/>
        </p:nvPicPr>
        <p:blipFill>
          <a:blip r:embed="rId2"/>
          <a:stretch/>
        </p:blipFill>
        <p:spPr>
          <a:xfrm>
            <a:off x="5003640" y="620640"/>
            <a:ext cx="33116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Автомобильный светофор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39280" y="1413000"/>
            <a:ext cx="4537080" cy="468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машин закон та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сигнала – путь го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одител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жен знать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ль еха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ь  стоять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ный свет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рет движенью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тый свет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риготовлень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зеленый свет горит Проезжайте, путь открыт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6" descr="1213023245_svetofor"/>
          <p:cNvPicPr/>
          <p:nvPr/>
        </p:nvPicPr>
        <p:blipFill>
          <a:blip r:embed="rId1"/>
          <a:stretch/>
        </p:blipFill>
        <p:spPr>
          <a:xfrm>
            <a:off x="4859280" y="1557360"/>
            <a:ext cx="37022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6551640" cy="949320"/>
          </a:xfrm>
          <a:prstGeom prst="rect">
            <a:avLst/>
          </a:prstGeom>
          <a:noFill/>
          <a:ln w="9360">
            <a:solidFill>
              <a:srgbClr val="ccedb1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Пешеходный   светофор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pic>
        <p:nvPicPr>
          <p:cNvPr id="557" name="Picture 15" descr="14-07-09_svetofor"/>
          <p:cNvPicPr/>
          <p:nvPr/>
        </p:nvPicPr>
        <p:blipFill>
          <a:blip r:embed="rId1"/>
          <a:stretch/>
        </p:blipFill>
        <p:spPr>
          <a:xfrm>
            <a:off x="539640" y="1700280"/>
            <a:ext cx="3556080" cy="35560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8"/>
          <p:cNvSpPr/>
          <p:nvPr/>
        </p:nvSpPr>
        <p:spPr>
          <a:xfrm>
            <a:off x="4859280" y="1773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ики идут и дети—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егут и не спеш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фор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всех на све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ящий друг и бр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игналу светофо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улицу ид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кивают нам шофер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роходите, подождем»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7"/>
          <p:cNvSpPr/>
          <p:nvPr/>
        </p:nvSpPr>
        <p:spPr>
          <a:xfrm>
            <a:off x="5148360" y="1429920"/>
            <a:ext cx="295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нодорожные светофоры предназначены для регулирования движения поездов, маневровых составов: красный — проезд запрещён; жёлтый — проезд разрешён с ограничением скорости;  зелёный — проезд разрешён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60" name="Picture 30" descr="Svetofor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628640"/>
            <a:ext cx="3744720" cy="41054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Железнодорожный светофор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Трамвайный светофор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477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5076720" y="1840680"/>
            <a:ext cx="36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мвайные светофоры предназначены для регулирования движения трамваев. Трамвайные светофоры имеют 2 сигнала: красный и зеленый. Красный сигнал-путь закрыт, зеленый сигнал- путь свободен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65" name="Picture 17" descr="IMG_74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16280"/>
            <a:ext cx="4248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Речные светофоры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чные светофоры предназначены для регулирования движения речных судов. В основном используются для регулирования прохода судов через шлюзы. Такие светофоры имеют сигналы 2-х цветов — красного и зелёног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12" descr="Neues_Schiffshebewerk_Henrichenburg"/>
          <p:cNvPicPr/>
          <p:nvPr/>
        </p:nvPicPr>
        <p:blipFill>
          <a:blip r:embed="rId1"/>
          <a:stretch/>
        </p:blipFill>
        <p:spPr>
          <a:xfrm>
            <a:off x="4640400" y="1992240"/>
            <a:ext cx="3597120" cy="39607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2875680" y="2565360"/>
            <a:ext cx="3392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5400" tIns="46800" bIns="17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88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    </a:t>
            </a:r>
            <a:r>
              <a:rPr b="1" lang="ru-RU" sz="5400" spc="-1" strike="noStrike">
                <a:solidFill>
                  <a:srgbClr val="5fa326"/>
                </a:solidFill>
                <a:latin typeface="Monotype Corsiva"/>
              </a:rPr>
              <a:t>Памятник светофору</a:t>
            </a:r>
            <a:r>
              <a:rPr b="1" lang="ru-RU" sz="5400" spc="-1" strike="noStrike">
                <a:solidFill>
                  <a:srgbClr val="5fa326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7172a7"/>
              </a:solidFill>
              <a:latin typeface="Verdana"/>
            </a:endParaRPr>
          </a:p>
        </p:txBody>
      </p:sp>
      <p:pic>
        <p:nvPicPr>
          <p:cNvPr id="571" name="Picture 5" descr="светофор"/>
          <p:cNvPicPr/>
          <p:nvPr/>
        </p:nvPicPr>
        <p:blipFill>
          <a:blip r:embed="rId1"/>
          <a:stretch/>
        </p:blipFill>
        <p:spPr>
          <a:xfrm>
            <a:off x="684360" y="1125360"/>
            <a:ext cx="4032000" cy="50356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5219640" y="1039680"/>
            <a:ext cx="331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мятник светофору установлен в 2006 году в городе Новосибирске. Именно на этом перекрестке 1940-х годах появился один из первых светофоров города. Памятник представляет собой забавного постового, приветствующего светофор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46:51Z</dcterms:created>
  <dc:creator>владелец</dc:creator>
  <dc:description/>
  <dc:language>en-US</dc:language>
  <cp:lastModifiedBy>Юлия</cp:lastModifiedBy>
  <dcterms:modified xsi:type="dcterms:W3CDTF">2019-12-23T15:22:47Z</dcterms:modified>
  <cp:revision>59</cp:revision>
  <dc:subject/>
  <dc:title>Слайд 1</dc:title>
</cp:coreProperties>
</file>