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3.jpeg" ContentType="image/jpeg"/>
  <Override PartName="/ppt/media/drumroll.wav" ContentType="audio/x-wav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3E4-62EE-42A4-9328-E126EBE2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1ABD-3752-478E-8B88-90592ABA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02B3A-D7FA-4031-8FF8-CA9B65C5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4A7DF-C78A-462D-8C9E-5AC82A61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F0AA1-DEF4-4A9C-995F-E9CD0697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2FFB7-1F64-4452-985C-37FE0DB8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09B87-4C13-45EB-8F19-D1703810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53440-550A-4999-808F-390E3FC2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30AB1-CACB-4329-BB2F-CE023B97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7006B-41E6-42EF-A8A7-9A0C3EF9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035CC-8490-4411-9BE9-FA3D4DE3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9CEB1-981C-4D63-A62E-36B9F419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E84-4E7F-4644-BFE1-5DC9C3AF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07873-253A-4BB3-9A26-A2F08304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7B44B-762E-4458-9406-96F4874F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5A607-A349-4329-91CD-F3BEA159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A5C40-E17D-42B2-8730-FE5B2317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04D00-96A6-4364-B0C6-D8E6D2CE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7E1E1-4191-48AF-9097-117FF6B9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0FECA-223A-40AB-813E-FE2C6FEA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8D0CA-733F-4DB9-BADD-A984FE2B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A2BE6-FC7E-41FB-8A34-3380235E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5E7EC-1CD5-48C8-8CFF-ADB02CF3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323-40C2-4B9D-BE4F-249D02E8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92ADB-29FA-463A-8D25-6BDA39DB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D6202-95A2-4736-B2C2-AA8116DE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4A9C5-58DB-4243-AF36-21D87E8B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82BD5-E9B7-42AB-9703-88CDB7E6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108D6-0626-470C-A217-17DC55E2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76765-43E4-4D70-BA8A-613B73A2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5C3AB-18E7-42CA-82AB-34C9920E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40633-B341-403B-951F-360EF16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B6D6D-F06B-4D0A-81EA-9629BA7D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57462-0503-4E16-8AC0-6EA3326F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B494-3BC2-4CF8-A6F3-5AB9F436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D67AB-A3A0-444D-921E-97CEC73C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241CD-2AA7-4FA6-8186-8C8782EB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70E2B-3794-41C9-81FB-5D64DD3D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53A7E-4FF7-4900-9A3E-8C52DCF9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97783-04A3-44CF-8C45-F8D75185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2C469-5079-4B84-AC81-F3A79A5B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A0D5D-8CB9-46E5-8E6D-DCED1E06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6C9AA-C34D-4DD9-809D-10F249D0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1696C-64B1-4D88-81FA-7B0B3434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AF596-F258-4E10-A0C5-1A7BF618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0393-EE45-42B4-9FFA-B9DE5DD8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38535-3ADC-4DA9-A9F0-C30D6366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5C713-FA8B-41C5-9000-3CA62268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5703E-C485-4E14-841F-20CB0B58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2D2AA-4233-4871-907A-0969BC80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53CA3-134A-42E5-B5BD-DB76F59D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BA21-183A-46A5-A462-A67E7C7E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5587-18F0-4E08-8CB0-9FF1F3A9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5966-F00F-42B9-B678-E667B8C5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1120-043C-47DE-AA6E-10808C7B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9FA0-D627-4E73-84F0-9A5A3973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879-51DE-4AAC-8E98-F9841235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421C-6159-4199-978F-9A61F265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D692-8A80-4ECE-8993-7D6CE3DB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3AE1-CCE5-42FF-9FD9-077243F2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AD5D-9AA1-473E-BCAA-78B71519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EE02-7472-492A-81EA-DFD55017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E16E6-AE3E-46F2-85CD-C213B68D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3AF12-734F-4C4E-ACAC-8D6BC7C3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A455E-83AD-4CA3-8EC9-629CD48F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FFC4-842D-4E31-896C-A8BE837E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C0732-1167-4837-AF89-015A2D06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C7FE-F5B8-450E-A941-DDFBB603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3BEBD-AC53-45FF-BC77-7F9A5712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10CF4-3F06-4A48-B0CD-8F33E37D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24F5E-A8CE-4A8A-AACF-90DF52F6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1BA6-6A56-4C92-B92B-1E75A063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7A7FD-B49D-432E-9E5D-C16C75DD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B65C2-BFCB-4DD8-A0C0-1C919A26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6079F-74DC-42C8-9231-FD9B2009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FB61F-D511-4C69-BBD6-03FBECA9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AF207-C2F2-47F6-8E31-24086D89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04C4C-A352-41ED-BB02-160DBC49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FA0-D657-47B9-B7E2-ADB7B7CD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5DB11-1F21-400E-8BA2-7FA25BA1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E69F8-1CD9-4761-9EE1-3DB3B711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5EFF3-16AD-4DFB-9146-02D59B86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C5882-375E-4364-A53C-002E16A6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25131-157F-4F72-905B-D4255D11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0ECEA-48E3-4D73-85E5-A3E1E78B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1C011-575D-4C5E-B9A3-ECA58648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B4073-9738-41C8-A7FE-1E773D26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7166D-A697-4D7C-8543-3563FCE3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6C49F-4F54-4131-A983-16A02040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C27-ACD4-40BE-A8F9-313ECBB7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E3928-31C7-4BC3-95F1-49C9CB17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767E5-D976-40CD-BEB6-7023BD43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7FF7F-3131-41E2-87B9-888AF922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B670A-1962-4FE4-A1CE-B3CC42A5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02979-AFBD-425D-A73F-26A74FD3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38E83-1F78-4CC7-BB8B-546523B6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08CA9-EC26-4852-8FCB-C969F756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58768-164B-4DE2-A676-ACCEE60D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26DC8-9C10-49B3-B0EA-254AC514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BD9E2-156F-4E02-B503-D4114A01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4B7-8DF8-40FB-9439-0B9E6F1C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DE6E3-BE6F-4CDE-A30C-3677CF10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E6653-64C6-478D-873D-3A429A62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D8DFB-866E-433E-8953-657D5DB8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7A0C1-332E-4B04-B038-1E4D0045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17F8F-631E-434C-A7B0-9EC72663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E2619-3F81-42EF-AFB7-F0FBC06B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ACF8B-DCE0-4371-96A0-13CA323E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D4A69-EFFF-4FA1-B970-E89819CF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AE11B-82B6-4151-9787-81485953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A4F44-E7A6-45FC-B9A7-0083F118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BCD-2C75-4D3A-AC07-E332084B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A95F3-0FB2-486C-B384-FA2A4894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415AD-B7AB-4786-A64F-D9582393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A97DE-5C4D-45AC-B3DD-24FD1767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44BEA-0F40-47FE-A97F-8D415E22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62C10-7A6A-4819-8155-425B1BBB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DCEC3-3068-4CB0-8E81-B91B2A80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0E236-AA46-47EA-8ABB-560E498E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E634E-E4A4-4364-848D-6F757680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41860-E4EC-4699-AAED-E160B8EB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11E1A-47CB-4FD8-AB67-61B6B06F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3E5-CA7F-4E13-9039-5D0301CF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21B69-E4AA-4D3F-AA08-857FEBD1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7BF31-3639-4787-9479-FFA7C60E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E480E-18EE-4479-9679-39A43EB6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EDA2B-69A1-4809-B4F7-D03973C7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B9713-52F9-42F9-8E11-99D9AF6A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E58BD-3F76-45BB-AEFC-82082F8E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0B691-E570-462B-BA61-3A8838FA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445CD-6A54-43CE-8BE7-91B5DC02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735C6-F1B1-4B86-8AFC-04B3F199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441A2-3D67-4DE7-A1B3-C1152349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B60-1853-4AEF-9EDA-93948F14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6C406-D3DF-424E-A174-F6CAC585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7E45B-2077-4CBF-9483-F79FAF8C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2BBAF-B74C-464C-B103-609E8FFB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1A130-657B-41A9-BAF1-04DF504F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2B6AC-D53C-47C9-8F72-7A9E3ED1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E6193-AF0A-4FC3-8252-2F1826AF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A308F-FF35-462F-8D3F-F27E2333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803D4-91E7-4092-8698-FB5909F2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72C9F-27EA-4F37-98F0-A77930C6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ED155-7676-4FF8-B197-65AC8279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20F8-7698-4B26-843B-3DC5650171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3EE7-E4D8-43DE-9B03-18CDE694C4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BABB-6DE3-4C35-A59F-701CC0E905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15F3-12F1-425F-B505-B2E8923147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5E24-D812-4CBA-B65A-CFAD323455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4990-E92F-4989-9AE1-132B14D347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29E0-7BC9-4A08-8EDF-49772012CA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E159-5503-44DC-8603-5FEB2CDBBB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BDFD-AB7B-4439-B688-1156233A19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E9BA-7B14-450B-A2C0-A639309BDE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4837-D6D3-42C6-9155-F0DFE8815F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1F60-AA75-4A6E-B4BE-CD66E465B0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nsportal.ru/detskiy-sad/raznoe/2019/06/05/puteshestvie-k-dinozavram" TargetMode="External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детский сад  № 8 «Снеговичок» </a:t>
            </a:r>
            <a:br>
              <a:rPr sz="211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30: Путешествие в прошлое динозавры и мамон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Ввести понятие «прошлое»на примере животного мира, живших в далеком прошлом и отсутствующих сегодня (динозавры), формирование интереса к истории мира, расширение кругозор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: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://nsportal.ru/detskiy-sad/raznoe/2019/06/05/puteshestvie-k-dinozav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ая груп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ижневартов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Рисунок 5" descr="Stegosaurus.jpg"/>
          <p:cNvPicPr/>
          <p:nvPr/>
        </p:nvPicPr>
        <p:blipFill>
          <a:blip r:embed="rId1"/>
          <a:stretch/>
        </p:blipFill>
        <p:spPr>
          <a:xfrm>
            <a:off x="1116000" y="260280"/>
            <a:ext cx="7201080" cy="529596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250560" y="5589360"/>
            <a:ext cx="889308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стегозавр. У стегозавра было большое туловище и совсем крохотная голова. Чтобы защищаться от прожорливых хищников, на спине стегозавра имелись костяные пластины, которые росли в два ряда от головы до хво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2000">
    <p:wipe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0" y="522936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ицератопс был похож на носорога, однако имел размер большого трактора. У трицератопса был обширный костяной «воротник» — щит, которым ящер отпугивал своих против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Рисунок 4" descr="Triceratops_FULL2.jpg"/>
          <p:cNvPicPr/>
          <p:nvPr/>
        </p:nvPicPr>
        <p:blipFill>
          <a:blip r:embed="rId1"/>
          <a:stretch/>
        </p:blipFill>
        <p:spPr>
          <a:xfrm>
            <a:off x="971640" y="189000"/>
            <a:ext cx="7516800" cy="49291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285560" y="557172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терода́ктили и птеродонты – это динозавры, которые имели крылья из кожи, умели летать и охотиться на лету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Рисунок 5" descr="Ptero.jpg"/>
          <p:cNvPicPr/>
          <p:nvPr/>
        </p:nvPicPr>
        <p:blipFill>
          <a:blip r:embed="rId1"/>
          <a:stretch/>
        </p:blipFill>
        <p:spPr>
          <a:xfrm>
            <a:off x="611280" y="189000"/>
            <a:ext cx="8103960" cy="54021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ipe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4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7129440" cy="486864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5"/>
          <p:cNvSpPr/>
          <p:nvPr/>
        </p:nvSpPr>
        <p:spPr>
          <a:xfrm>
            <a:off x="395280" y="508464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ках и озёрах, морях и океанах нашей планеты обитали ихтиозавры, или «рыбоящеры». Самые маленькие были ростом со взрослого человека, а для крупных не составляло труда проглотить акулу цел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ipe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395280" y="209520"/>
            <a:ext cx="8424720" cy="46465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5"/>
          <p:cNvSpPr/>
          <p:nvPr/>
        </p:nvSpPr>
        <p:spPr>
          <a:xfrm>
            <a:off x="0" y="515772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динозавры вымерли в древние времена из-за различных природных катастроф. Сейчас люди находят лишь кости этих древних созд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ipe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5"/>
          <p:cNvSpPr/>
          <p:nvPr/>
        </p:nvSpPr>
        <p:spPr>
          <a:xfrm>
            <a:off x="539640" y="5445000"/>
            <a:ext cx="79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 динозавров дошёл до наших дней в сказках про драконов, которые есть у всех народов Зем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1498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Picture 8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8032680" cy="6024600"/>
          </a:xfrm>
          <a:prstGeom prst="rect">
            <a:avLst/>
          </a:prstGeom>
          <a:ln w="0">
            <a:noFill/>
          </a:ln>
        </p:spPr>
      </p:pic>
      <p:sp>
        <p:nvSpPr>
          <p:cNvPr id="496" name="Прямоугольник 4"/>
          <p:cNvSpPr/>
          <p:nvPr/>
        </p:nvSpPr>
        <p:spPr>
          <a:xfrm>
            <a:off x="928800" y="428760"/>
            <a:ext cx="757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Динозавры: какими они бы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58560" y="4724280"/>
            <a:ext cx="70722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о «динозавр» означает «ужасная ящерица» в переводе с греческого языка. Динозавры жили очень давно, когда ещё не было первобытного человека, но на суше и в морях существовали эти страшные животны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Рисунок 4" descr="s7-velociraptor1.jpg"/>
          <p:cNvPicPr/>
          <p:nvPr/>
        </p:nvPicPr>
        <p:blipFill>
          <a:blip r:embed="rId1"/>
          <a:stretch/>
        </p:blipFill>
        <p:spPr>
          <a:xfrm>
            <a:off x="1547640" y="189000"/>
            <a:ext cx="6883560" cy="45846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85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385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385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385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68000" y="5084280"/>
            <a:ext cx="8675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пециально обустроенных гнёздах динозавры откладывали яйца, часто до десяти штук за раз! Эти яйца, круглые или овальные , покрытые твёрдой скорлупой, были довольно маленькими по сравнению с самими ящер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Рисунок 5" descr="dino.jpg"/>
          <p:cNvPicPr/>
          <p:nvPr/>
        </p:nvPicPr>
        <p:blipFill>
          <a:blip r:embed="rId1"/>
          <a:stretch/>
        </p:blipFill>
        <p:spPr>
          <a:xfrm>
            <a:off x="1116000" y="189000"/>
            <a:ext cx="7272360" cy="48481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5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79280" y="494172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нозавры были очень разные. Одни жили  на суше, другие - в воде, третьи летали по воздуху. Одни были огромными, а другие - мелки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аждой среде обитания были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хищни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растительноядны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Picture 7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46227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143760" y="620280"/>
            <a:ext cx="30002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ираннозавр был самым крупным хищником эпохи динозавров. Ростом он был с фонарный столб, а длиной – как большой грузовик. У этого страшного хищника были острые, как кинжалы зубы и когти, каждый размером с ногу взрослого челове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Рисунок 5" descr="tiranosaur1.jpg"/>
          <p:cNvPicPr/>
          <p:nvPr/>
        </p:nvPicPr>
        <p:blipFill>
          <a:blip r:embed="rId1"/>
          <a:stretch/>
        </p:blipFill>
        <p:spPr>
          <a:xfrm>
            <a:off x="603360" y="549360"/>
            <a:ext cx="5184720" cy="568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925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1925" fill="hold"/>
                                        <p:tgtEl>
                                          <p:spTgt spid="5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1925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1925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285560" y="557172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мпсогнат – самый маленький из всех динозавров. Этот хищник ростом с индюка питался насекомыми и ящерицам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Рисунок 4" descr="Compsognathus.jpg"/>
          <p:cNvPicPr/>
          <p:nvPr/>
        </p:nvPicPr>
        <p:blipFill>
          <a:blip r:embed="rId1"/>
          <a:stretch/>
        </p:blipFill>
        <p:spPr>
          <a:xfrm>
            <a:off x="826920" y="301680"/>
            <a:ext cx="7632720" cy="52308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0" y="5084640"/>
            <a:ext cx="9144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игантские динозавры, такие, как Бронтозавры, были растительноядными. Чтобы не умереть с голоду, им приходилось съедать за день почти тонну листьев. Шея бронтозавра достигала высоты семиэтажного дома, тело было длинным, как вагон поезда, а весил он больше, чем 20 слонов. Благодаря длинной шее он мог дотягиваться до листьев на верхушках деревье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Рисунок 5" descr="diplodocus-5.jpg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48927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5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" descr="AS"/>
          <p:cNvPicPr/>
          <p:nvPr/>
        </p:nvPicPr>
        <p:blipFill>
          <a:blip r:embed="rId1"/>
          <a:stretch/>
        </p:blipFill>
        <p:spPr>
          <a:xfrm>
            <a:off x="755640" y="189000"/>
            <a:ext cx="7777080" cy="548316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5"/>
          <p:cNvSpPr/>
          <p:nvPr/>
        </p:nvSpPr>
        <p:spPr>
          <a:xfrm>
            <a:off x="539640" y="55897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ртинке изображены слева направо: взрослый бронтозавр (1), новорожденный детёныш бронтозавра (2), слон и слонята (3). Сравните их раз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3976560" y="1066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6589440" y="3500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7526160" y="3357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ipe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0:23:02Z</dcterms:created>
  <dc:creator>user</dc:creator>
  <dc:description/>
  <dc:language>en-US</dc:language>
  <cp:lastModifiedBy>Юлия</cp:lastModifiedBy>
  <dcterms:modified xsi:type="dcterms:W3CDTF">2019-12-22T15:21:53Z</dcterms:modified>
  <cp:revision>34</cp:revision>
  <dc:subject/>
  <dc:title>Слайд 1</dc:title>
</cp:coreProperties>
</file>