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C09-CB5B-468B-99BF-8D990E2C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2D2-7DD5-40A8-9074-78F8008E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B57-9584-4A2B-A4F4-9C337214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771-D110-49A8-92F4-D0DB2127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BF8D-888A-4EE0-BD4F-4F4D53FB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8234-5AA3-4124-A540-3092B00D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1AF9-ED0F-4061-9A9A-6EA534C3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36C9-C429-475A-854B-28F77EB1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B845-6BC7-4093-A76D-BB254DD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0E11-99CF-4E41-88BA-576BC6ED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2C60-7DD6-44E3-AD06-BAAB88B0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F71-4D11-41F9-88B9-E96CEF47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E988-22CD-41F5-890D-E3F6CF4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30AF-F1AB-4CD5-A9EE-8852E4EC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7DD5-4760-474A-8C30-A1254722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A5A8-1503-4A92-8124-8142C8ED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3CAB-4169-428B-93A9-6D04BC53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87BC-8E46-4020-8C68-813C7A6B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56DE4-EB99-4D85-A63E-F6877962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88F4-6E55-4241-9999-8CC779FD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8B8D-831D-43A0-BC5C-8E7C9648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8D17-E77D-4A7C-A32A-8156C577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253-47E6-4A92-96FD-177F2FBF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CC4A-56A7-424C-8156-97FFC1AB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5A0B-C81D-4158-AF92-E47CE2D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221E-2115-48F0-A6DE-5C71BCF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9A36-730A-4914-9B15-8C2B151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D29D-7C91-4C83-966A-C97EC6B9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5713-6DFD-4E7A-9721-94A1C7F2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42B9A-5723-4E7A-88DA-3EF12244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4E884-71D1-4A49-8BC4-3A40994C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21A0-FADD-49C1-AD84-A62195F4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511D5-62AC-4244-90C3-A1F95EDF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4E7-9322-4CAD-A357-DEE7A3D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BCED-F185-440D-AF90-A8F003C5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7DF1-63BB-4D19-AC55-4746A58F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CD93-9909-4762-8B20-CD50F164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A8EE5-D32D-4423-AC5D-8F86EE2D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D56C-DF5A-4070-9E84-C9575E3F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8CEC-6E3C-474E-B648-28BF21EE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1861-D465-48C7-9FB2-6302D2CA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0BDA-021D-49A8-9B90-6D366170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1EE28-B362-4678-BC5C-F6EB884C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487E7-9B6D-4262-817C-9ECEDDD7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E42-BA51-417A-9B2C-552FEE2F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664D4-4056-41AC-9371-CD7BD243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4FF10-19E8-49EA-B69D-AB67C775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ABA5C-E352-4331-8A5E-6D8E8896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2EC0E-F712-4C6F-89E9-2BDABF7C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E0A0-E7AB-4594-8AF6-F5BEF0BE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171A-5798-4A4B-95DA-D2F573A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2EEC0-1048-4D47-A4BA-61C9D93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1249-0BB2-4219-87DB-AC8B59B7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69A2-0BFB-409F-B041-DAECB61B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6A2BC-56EC-4EF8-AC38-A604A4DD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8E8-00B5-4F18-8261-F9600B5A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6CDF-983C-4269-8765-FCB38603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96C7D-F77B-4533-8F73-47B18BE7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60F2D-D079-42BF-81F2-AC94ACB3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91028-AA52-40B8-A1DC-E3731AE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1268-6973-48BB-8520-110E5CF6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63E6B-C9BB-4E3F-86D1-338A24BE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0BDC-20CA-43DE-AE7F-23CB2E58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51EE-FBFE-4206-8DE2-21ADDEA9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D7406-8F35-4AE9-9ACF-BDD66337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3469-4584-4580-B11D-DE07A3DD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301-8CCB-48FD-9C49-0D8F64B1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F246-1DFA-4A9E-8352-E9DD8337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0F958-6449-4171-B39A-BC137439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1EFE8-C38E-4E43-ABAA-4C542729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D70E-AC2E-46D3-8BA4-A7934B8B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B3EE0-E260-4844-8A1B-E9FC5074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12C6F-54AE-4D90-A966-70C87E03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AD071-BED6-4E41-A13D-7F47B835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F9167-074D-4507-91D2-FE75B390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275F-01DE-47B6-8CFD-6BA374A8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91C97-1272-4A5B-9F5F-C15DA3B9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B5E-BD86-4275-BCE6-BF694FED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17FF8-4B5C-4E51-8AF8-5EA10697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18C51-DACA-4130-B87F-6B06B3C7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EA72-3DA5-4923-B9B5-9E1317D1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8BAE-BA61-455B-BFB2-B17271A9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3FC9-6AD6-4080-815F-7B84B25D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E7E-DA0C-44F6-98A6-24E4E422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62F-D18B-45D4-A177-7F4BAA4321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A8AC-3302-4399-9B9B-6088D6B605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9BDB-D21D-453B-91B7-C3122A55A7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BECB-BBF7-41A0-A05C-2E4E3856C5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A27F-397D-4BF1-8FD2-9B0DF0F1B2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8C9F-190D-4F21-99A5-0FEA64789D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ED40-9071-4387-A03C-73B1BE8F5E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450036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униципальное бюджетное 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обще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«Центр образования посёлка Беринговского»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Анадырского района Чукотского автономного округа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казка 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«Большое путешествие маленького медвежонка»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гиональный конкурс «Сохраним и приумножим»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оминация «Обитатели заповедных земель»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полнила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итова Елизавета Константиновна,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ченица 2 класса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БОУ «Центр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посёлка Беринговского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уководитель работы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тухова Алёна Васильевна,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читель начальных классов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                                         2016 г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5" descr="Лиза.png"/>
          <p:cNvPicPr/>
          <p:nvPr/>
        </p:nvPicPr>
        <p:blipFill>
          <a:blip r:embed="rId1"/>
          <a:stretch/>
        </p:blipFill>
        <p:spPr>
          <a:xfrm>
            <a:off x="5643720" y="1500120"/>
            <a:ext cx="320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Умка и Лулу  подружились и отправились искать Чукотское Царство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5" descr="5.jpg"/>
          <p:cNvPicPr/>
          <p:nvPr/>
        </p:nvPicPr>
        <p:blipFill>
          <a:blip r:embed="rId1"/>
          <a:stretch/>
        </p:blipFill>
        <p:spPr>
          <a:xfrm>
            <a:off x="1157400" y="1000080"/>
            <a:ext cx="77007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Умка и Лулу нашли новых друзей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5" descr="4.jpg"/>
          <p:cNvPicPr/>
          <p:nvPr/>
        </p:nvPicPr>
        <p:blipFill>
          <a:blip r:embed="rId1"/>
          <a:stretch/>
        </p:blipFill>
        <p:spPr>
          <a:xfrm>
            <a:off x="1173240" y="928800"/>
            <a:ext cx="7678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Умка и Лулу поспешили домой к родным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5" descr="6.jpg"/>
          <p:cNvPicPr/>
          <p:nvPr/>
        </p:nvPicPr>
        <p:blipFill>
          <a:blip r:embed="rId1"/>
          <a:stretch/>
        </p:blipFill>
        <p:spPr>
          <a:xfrm>
            <a:off x="1143000" y="1143000"/>
            <a:ext cx="7780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книга Чукотского автономного округа. Том 1. Животные.И.А. Черешнев и др.- Издательство  «Дикий Север», 2008 г . с. 172-173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2:56:10Z</dcterms:created>
  <dc:creator>Завуч</dc:creator>
  <dc:description/>
  <dc:language>en-US</dc:language>
  <cp:lastModifiedBy>dns</cp:lastModifiedBy>
  <dcterms:modified xsi:type="dcterms:W3CDTF">2019-12-23T15:40:40Z</dcterms:modified>
  <cp:revision>5</cp:revision>
  <dc:subject/>
  <dc:title>Слайд 1</dc:title>
</cp:coreProperties>
</file>