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3A9-3DA4-4049-919F-75E12F0D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7A9-C7EA-4E26-BD11-0240F0BC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300-DCF2-4AE9-B7D9-F13E6456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C00-F90A-46A4-8BB7-D3119524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7BF2-3F4B-446B-94AC-9F7021E0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2029-A645-401C-AA7B-94929B9A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94FA-24E2-4C66-9594-69B2AF9A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2A6C-86B1-46A0-874D-15C9F092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5938-1E56-4544-8224-0D45F814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D677-9B92-40D1-9B90-A0E17D44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2F14-1637-4FFF-9742-88A4BE76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404-189B-497F-B666-4F64B88D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9F51-700E-4682-B1A2-FF5788DE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6861-BD0E-434D-B13A-2A318CA5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F7BB-C76F-4A4F-9766-5982FB53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853A-1D16-4676-9C11-2E07A3F2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F8CE-0BE9-4B13-9C55-0C3FACBC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8959-4ED5-4C2C-806C-6681FA7D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AD86-04D2-487A-A82A-378B5D3C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F0DDC-1344-41F0-93CF-CC053BDF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992E-F65D-4A23-AEBB-D7206988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E2D3-6675-40A9-B73A-10D6100C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BB4-35FC-453D-B864-1C5EDCAA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7837-AB9E-4ABF-88EB-9625FF7A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D12B-E818-4853-8368-C28E2E8E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D2C6-2A5B-4F2B-B110-E58F062B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22806-3CB8-4509-B5E1-99C0F2A0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F659-2DE6-4BD9-A337-641B14E2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FF7E4-E82F-48C2-AF90-DD3B99B0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9B6C-745B-41A8-A585-AB8152A1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AF1FA-C84A-44F7-B745-A12E31A6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7E2A-FF93-4BFB-9FBE-B3614512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D14C-5D40-4352-801F-0512BE5D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31D-8F05-496C-B77C-3F0CBCA2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A767-4AC1-4733-B62F-56E2CFD7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535B-5A95-45E4-B383-26AAD181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88AE-6BB9-4723-A662-C8A3B4C9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0758-815C-43DA-9EAF-105193A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F263-A436-4CD6-8A09-7DA8D32A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A541-7433-4CF0-9BD2-82A17DA8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3772-A6A5-4506-A09C-53136320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2DF65-DB29-428B-9FA7-914468D6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EF66-DEB7-4FC0-A249-1E429B0C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A6770-DF2B-4F80-BF0F-7D8603EF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677-75AC-4148-894A-E2105AC0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75564-4170-475E-9F16-CE578126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4C45-730E-4DC1-8F24-CF3FE5B9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FA6D9-2081-4130-9CDE-03200018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95CC-2230-4967-82A2-75F3E266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26F11-18C8-4D5B-942E-BBFC94B9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5CF6-EFC5-4FE3-B4CF-33A1F250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7582-388F-4CBD-99B0-E262227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1B56C-38A9-490C-BDF1-8DE4A5CE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5E123-67BF-4F4B-9D8C-C90E7A57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2EE8E-1411-4740-B5FE-12BE3B36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85C-3BC8-4379-B5BF-690FB02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17DF7-CDC6-4A47-8C02-4A2827AC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913-69FB-4424-9E06-BC1EAA51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D02-EFD0-4BE5-BC01-D5E1BC2A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CDA-A07E-4541-BBC7-4FC20A8B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E817-0F71-4E1D-AE0B-2D53616A8AA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C1E1-E125-4DF0-9531-A602146A6C5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64CA-F291-4D3B-8B3A-C17191E0C22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C4D8-82A4-460A-8BBF-133200FB1BA1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3458-563C-49E7-9311-A35153E420A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C:\Users\sony\Downloads\вит.jpg"/>
          <p:cNvPicPr/>
          <p:nvPr/>
        </p:nvPicPr>
        <p:blipFill>
          <a:blip r:embed="rId2"/>
          <a:stretch/>
        </p:blipFill>
        <p:spPr>
          <a:xfrm>
            <a:off x="398520" y="312840"/>
            <a:ext cx="7286400" cy="61434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sony\Desktop\ФОТО  ПО ЗАНЯТИЮ\DSC_1937.JPG"/>
          <p:cNvPicPr/>
          <p:nvPr/>
        </p:nvPicPr>
        <p:blipFill>
          <a:blip r:embed="rId1"/>
          <a:stretch/>
        </p:blipFill>
        <p:spPr>
          <a:xfrm>
            <a:off x="23760" y="1689120"/>
            <a:ext cx="5164200" cy="34797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2"/>
          <p:cNvSpPr/>
          <p:nvPr/>
        </p:nvSpPr>
        <p:spPr>
          <a:xfrm>
            <a:off x="5148360" y="1517760"/>
            <a:ext cx="350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но утром на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руг за другом мы ид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все дружно по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пражнения начн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 - подняться, подтяну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ва - согнуться, разогну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ри - в ладоши три хлоп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оловою три ки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 четыре - руки ши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ять - руками помахать</a:t>
            </a:r>
            <a:r>
              <a:rPr b="0" lang="ru-RU" sz="2000" spc="-1" strike="noStrike">
                <a:solidFill>
                  <a:srgbClr val="00b0f0"/>
                </a:solidFill>
                <a:latin typeface="Trebuchet MS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2484360" y="26028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C:\Users\sony\Desktop\IMAG0977.jpg"/>
          <p:cNvPicPr/>
          <p:nvPr/>
        </p:nvPicPr>
        <p:blipFill>
          <a:blip r:embed="rId1"/>
          <a:stretch/>
        </p:blipFill>
        <p:spPr>
          <a:xfrm>
            <a:off x="1879560" y="660240"/>
            <a:ext cx="4527720" cy="3121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"/>
          <p:cNvSpPr/>
          <p:nvPr/>
        </p:nvSpPr>
        <p:spPr>
          <a:xfrm>
            <a:off x="4143240" y="4214880"/>
            <a:ext cx="41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сли хочешь быть зд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авильно питай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шь побольше 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 болезнями не зна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357120" y="4214880"/>
            <a:ext cx="3786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т полезнее продук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кусных овощей и фру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Сережке, и Марин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сем полезны витаминк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олилиния 6"/>
          <p:cNvSpPr/>
          <p:nvPr/>
        </p:nvSpPr>
        <p:spPr>
          <a:xfrm>
            <a:off x="-2141640" y="2141640"/>
            <a:ext cx="25560" cy="79200"/>
          </a:xfrm>
          <a:custGeom>
            <a:avLst/>
            <a:gdLst/>
            <a:ahLst/>
            <a:rect l="l" t="t" r="r" b="b"/>
            <a:pathLst>
              <a:path w="26126" h="78377">
                <a:moveTo>
                  <a:pt x="26126" y="0"/>
                </a:moveTo>
                <a:lnTo>
                  <a:pt x="0" y="78377"/>
                </a:lnTo>
              </a:path>
            </a:pathLst>
          </a:custGeom>
          <a:noFill/>
          <a:ln w="11520">
            <a:solidFill>
              <a:srgbClr val="b83d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sony\Desktop\IMAG0981.jpg"/>
          <p:cNvPicPr/>
          <p:nvPr/>
        </p:nvPicPr>
        <p:blipFill>
          <a:blip r:embed="rId1"/>
          <a:stretch/>
        </p:blipFill>
        <p:spPr>
          <a:xfrm>
            <a:off x="1763640" y="1744560"/>
            <a:ext cx="5400720" cy="4276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8"/>
          <p:cNvSpPr/>
          <p:nvPr/>
        </p:nvSpPr>
        <p:spPr>
          <a:xfrm>
            <a:off x="1476360" y="404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резание и наклейка «витамин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1962000" y="812880"/>
            <a:ext cx="55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 мелкой мото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sony\Desktop\IMAG0983.jpg"/>
          <p:cNvPicPr/>
          <p:nvPr/>
        </p:nvPicPr>
        <p:blipFill>
          <a:blip r:embed="rId1"/>
          <a:stretch/>
        </p:blipFill>
        <p:spPr>
          <a:xfrm>
            <a:off x="1289160" y="333360"/>
            <a:ext cx="6072120" cy="41432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1476360" y="4724280"/>
            <a:ext cx="56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ы запомним навсегд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здоровья нам нужна витаминная еда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sony\Downloads\здоровье.jpg"/>
          <p:cNvPicPr/>
          <p:nvPr/>
        </p:nvPicPr>
        <p:blipFill>
          <a:blip r:embed="rId1"/>
          <a:stretch/>
        </p:blipFill>
        <p:spPr>
          <a:xfrm>
            <a:off x="179280" y="404640"/>
            <a:ext cx="771552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8:03:26Z</dcterms:created>
  <dc:creator>Татьяна Николаева</dc:creator>
  <dc:description/>
  <dc:language>en-US</dc:language>
  <cp:lastModifiedBy>RePack by Diakov</cp:lastModifiedBy>
  <dcterms:modified xsi:type="dcterms:W3CDTF">2019-12-23T07:51:07Z</dcterms:modified>
  <cp:revision>30</cp:revision>
  <dc:subject/>
  <dc:title>«Витамины укрепляют организм</dc:title>
</cp:coreProperties>
</file>