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711-F619-4050-8027-52AC1DC8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6E6-ABD2-481D-80E5-2A1ADD0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30A-8882-4E99-A767-AF27A4B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BAF-338B-44F2-839A-87474D65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89D2-DD18-4E2B-98A3-C79FF41B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0293-67C8-4528-84F6-31F34B5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6606-6936-4577-9DA0-1B705359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CF2F-E14B-4CFD-81DF-BE8BEF76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B8A-893E-4078-BBC0-B53394D3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5C39-061B-43A3-9619-E9C8EB8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FF1A-51F8-4F8B-9506-71815BA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E7D-F6AA-47A3-9A3B-29B7967B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D67-AB1D-4877-AE93-E54ED71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690B-9441-4C6B-AC8A-07FD244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DD4-67F4-4988-AAC2-F2352853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9787-83CB-41B3-9254-15C529E5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66C4-E68E-4415-8ADF-99414A2D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5F6-EEC0-487F-8EA7-FF5C930F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BB9-DE8E-4994-A3ED-C47F6989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E09-581D-4679-8AD4-B3A7DC9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5B1-8B92-4692-8F5A-9CACB47D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5CA-5437-4613-81AA-CB85A09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1F5-4DC4-415E-90BB-EFA95DB5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AEF-4742-46C6-AE28-D4AD47D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03F-A98D-4545-9609-6023DF74E0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6C9A-9AFF-495E-BD41-A291B76B24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4" descr="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105160" y="3000240"/>
            <a:ext cx="4343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 учитель начальных классов Батищева Н.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2"/>
          <a:stretch/>
        </p:blipFill>
        <p:spPr>
          <a:xfrm>
            <a:off x="195120" y="549360"/>
            <a:ext cx="8809200" cy="24494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manny_sundalo_by_mariannedee-d7k53om.png"/>
          <p:cNvPicPr/>
          <p:nvPr/>
        </p:nvPicPr>
        <p:blipFill>
          <a:blip r:embed="rId3"/>
          <a:stretch/>
        </p:blipFill>
        <p:spPr>
          <a:xfrm>
            <a:off x="2819520" y="1523880"/>
            <a:ext cx="2985840" cy="4578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года длилась вой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941-1945г.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тиметр за сантиметром наши войска гнали врага прочь с нашей земли. И вот, наконец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0 апреля 1945г. над поверженным фашистским Рейхстагом в Берлине наши солд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горов М.А.и  Кантария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рузили Знамя Побе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K:\азбука войны в картинках\463AF3B60B12B.jpg"/>
          <p:cNvPicPr/>
          <p:nvPr/>
        </p:nvPicPr>
        <p:blipFill>
          <a:blip r:embed="rId1"/>
          <a:stretch/>
        </p:blipFill>
        <p:spPr>
          <a:xfrm>
            <a:off x="914400" y="838080"/>
            <a:ext cx="3048120" cy="2286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92" name="Picture 2" descr="K:\азбука войны в картинках\38046478.jpg"/>
          <p:cNvPicPr/>
          <p:nvPr/>
        </p:nvPicPr>
        <p:blipFill>
          <a:blip r:embed="rId2"/>
          <a:stretch/>
        </p:blipFill>
        <p:spPr>
          <a:xfrm>
            <a:off x="1143000" y="3352680"/>
            <a:ext cx="2486160" cy="3276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9 мая мы празднуем День побе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picture1"/>
          <p:cNvPicPr/>
          <p:nvPr/>
        </p:nvPicPr>
        <p:blipFill>
          <a:blip r:embed="rId1"/>
          <a:stretch/>
        </p:blipFill>
        <p:spPr>
          <a:xfrm>
            <a:off x="609480" y="1600200"/>
            <a:ext cx="3591000" cy="443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hoca_thumb_l_Красная площадь в день парада"/>
          <p:cNvPicPr/>
          <p:nvPr/>
        </p:nvPicPr>
        <p:blipFill>
          <a:blip r:embed="rId2"/>
          <a:stretch/>
        </p:blipFill>
        <p:spPr>
          <a:xfrm>
            <a:off x="4419720" y="1752480"/>
            <a:ext cx="4419360" cy="2828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96" name="Text Box 7"/>
          <p:cNvSpPr/>
          <p:nvPr/>
        </p:nvSpPr>
        <p:spPr>
          <a:xfrm>
            <a:off x="5105520" y="4800600"/>
            <a:ext cx="26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мая 1945 года- первый парад в честь Дня побед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den_pobedy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Лев Лещенко - День Победы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75 лет прошло со дня окончания этой страшной вой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 велик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 год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 слав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андирам и бойц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маршалам стра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рядов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мертвым, и жив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м тем, 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бывать нельз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лонимся, поклонимся, друзь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Содержимое 3" descr="003-01.jpg"/>
          <p:cNvPicPr/>
          <p:nvPr/>
        </p:nvPicPr>
        <p:blipFill>
          <a:blip r:embed="rId1"/>
          <a:stretch/>
        </p:blipFill>
        <p:spPr>
          <a:xfrm>
            <a:off x="0" y="1447920"/>
            <a:ext cx="5029200" cy="3108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123345"/>
          <p:cNvPicPr/>
          <p:nvPr/>
        </p:nvPicPr>
        <p:blipFill>
          <a:blip r:embed="rId2"/>
          <a:stretch/>
        </p:blipFill>
        <p:spPr>
          <a:xfrm>
            <a:off x="0" y="4495680"/>
            <a:ext cx="5029200" cy="23623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22 июня 1941 г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кресное утро выдалось солнечным, тёплым, тихим. Но вдруг в мирную тишину ворвался из уличных репродукторов тревожный громкий гол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манские войска без предупреждения напали на нашу стра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Й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p5"/>
          <p:cNvPicPr/>
          <p:nvPr/>
        </p:nvPicPr>
        <p:blipFill>
          <a:blip r:embed="rId1"/>
          <a:stretch/>
        </p:blipFill>
        <p:spPr>
          <a:xfrm>
            <a:off x="4965840" y="1600200"/>
            <a:ext cx="3402000" cy="4530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876920" y="22856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ысячи мужчин в возрасте от 23 до 36 лет уходили на фро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p12"/>
          <p:cNvPicPr/>
          <p:nvPr/>
        </p:nvPicPr>
        <p:blipFill>
          <a:blip r:embed="rId1"/>
          <a:stretch/>
        </p:blipFill>
        <p:spPr>
          <a:xfrm>
            <a:off x="304920" y="990720"/>
            <a:ext cx="4419360" cy="4419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72" name="Военные песни - Военные песни - Военные песни_ вставай страна огромная... (mp3ostrov.com)-1.mp3" descr=""/>
          <p:cNvPicPr/>
          <p:nvPr/>
        </p:nvPicPr>
        <p:blipFill>
          <a:blip r:embed="rId2"/>
          <a:stretch/>
        </p:blipFill>
        <p:spPr>
          <a:xfrm>
            <a:off x="7162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ись кровопролитные бои за освобождение нашей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p23"/>
          <p:cNvPicPr/>
          <p:nvPr/>
        </p:nvPicPr>
        <p:blipFill>
          <a:blip r:embed="rId1"/>
          <a:stretch/>
        </p:blipFill>
        <p:spPr>
          <a:xfrm>
            <a:off x="228600" y="1600200"/>
            <a:ext cx="4067280" cy="3054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75" name="Picture 5" descr="p31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205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и шли на земле, на воде и в воздух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p103"/>
          <p:cNvPicPr/>
          <p:nvPr/>
        </p:nvPicPr>
        <p:blipFill>
          <a:blip r:embed="rId1"/>
          <a:stretch/>
        </p:blipFill>
        <p:spPr>
          <a:xfrm>
            <a:off x="4800600" y="3505320"/>
            <a:ext cx="4191120" cy="314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78" name="Picture 5" descr="p108"/>
          <p:cNvPicPr/>
          <p:nvPr/>
        </p:nvPicPr>
        <p:blipFill>
          <a:blip r:embed="rId2"/>
          <a:stretch/>
        </p:blipFill>
        <p:spPr>
          <a:xfrm>
            <a:off x="380880" y="1676520"/>
            <a:ext cx="4191120" cy="3124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цы старались разрушить наши города, сёла, мосты. Они с самолёт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нём и ночью бомбили наши 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p41"/>
          <p:cNvPicPr/>
          <p:nvPr/>
        </p:nvPicPr>
        <p:blipFill>
          <a:blip r:embed="rId1"/>
          <a:stretch/>
        </p:blipFill>
        <p:spPr>
          <a:xfrm>
            <a:off x="380880" y="1752480"/>
            <a:ext cx="4267440" cy="3203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81" name="Picture 5" descr="p117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317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010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фронте не хватало оружия, а в тылу день и ночь работали заводы- делали танки, самолёты, автоматы. Их под бомбёжками доставляли на фронт на бронепоездах, машинах и даже на собака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p76"/>
          <p:cNvPicPr/>
          <p:nvPr/>
        </p:nvPicPr>
        <p:blipFill>
          <a:blip r:embed="rId1"/>
          <a:stretch/>
        </p:blipFill>
        <p:spPr>
          <a:xfrm>
            <a:off x="228600" y="2209680"/>
            <a:ext cx="4343400" cy="32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84" name="Picture 5" descr="p227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3090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Блокадный Ленингра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ых 900 дней жил город в окруж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нём и ночью немцы обстреливали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сячи жителей поги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голода и хол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p120"/>
          <p:cNvPicPr/>
          <p:nvPr/>
        </p:nvPicPr>
        <p:blipFill>
          <a:blip r:embed="rId1"/>
          <a:stretch/>
        </p:blipFill>
        <p:spPr>
          <a:xfrm>
            <a:off x="304920" y="1828800"/>
            <a:ext cx="4495680" cy="3376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 advTm="1300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1738440" y="304920"/>
            <a:ext cx="566892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USER</cp:lastModifiedBy>
  <dcterms:modified xsi:type="dcterms:W3CDTF">2019-12-23T16:44:3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