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BC0-9887-4F2C-A291-CB03B0C7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CF9-236F-4761-BFCE-ACBDBE3A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C6C-E858-4B90-8B14-E4720EE2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29D-9305-4B50-8C37-016359AE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D11-2B1E-4355-BA4B-CD8675D3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9EF-801B-4472-BD9A-9BDFF3D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41F-5DBF-4324-BA0D-721F65F6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083-50C2-4829-8FC8-2BFA9E4C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A7A-76CC-41E9-AD83-13C60EE8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E6E-D371-4352-9752-73BE2BC0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90A-DE1C-47C7-9EA2-2461527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293-6E4D-47A8-A5D2-1E15753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3C8-B50E-4174-AB7A-44A63B43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FXTswqQ"/>
          <p:cNvPicPr/>
          <p:nvPr/>
        </p:nvPicPr>
        <p:blipFill>
          <a:blip r:embed="rId1"/>
          <a:stretch/>
        </p:blipFill>
        <p:spPr>
          <a:xfrm>
            <a:off x="-457200" y="-76212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учреждение детский сад комбинированного вида №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МАСТЕР –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оздание условий для формирования основ финансовой грамотности у детей старшего дошкольного возрас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Автор: Васильева Юлия Анато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воспитатель МБДОУ №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Ангарск, 2019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Объект 2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350532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2362320"/>
            <a:ext cx="280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ловые,                        сюжетно-роле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з поступков героев художественных произвед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ttps://zabavnik.club/wp-content/uploads/2018/02/Muha-Cokotuha_1_07090524.jpg"/>
          <p:cNvPicPr/>
          <p:nvPr/>
        </p:nvPicPr>
        <p:blipFill>
          <a:blip r:embed="rId2"/>
          <a:stretch/>
        </p:blipFill>
        <p:spPr>
          <a:xfrm>
            <a:off x="152280" y="1523880"/>
            <a:ext cx="4038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седы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0060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вес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1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38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9112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скурсии (реальные и виртуаль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306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ты для самостоя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Объект 1" descr=""/>
          <p:cNvPicPr/>
          <p:nvPr/>
        </p:nvPicPr>
        <p:blipFill>
          <a:blip r:embed="rId2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Объект 1" descr=""/>
          <p:cNvPicPr/>
          <p:nvPr/>
        </p:nvPicPr>
        <p:blipFill>
          <a:blip r:embed="rId2"/>
          <a:stretch/>
        </p:blipFill>
        <p:spPr>
          <a:xfrm>
            <a:off x="1460520" y="1600200"/>
            <a:ext cx="622296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1" descr=""/>
          <p:cNvPicPr/>
          <p:nvPr/>
        </p:nvPicPr>
        <p:blipFill>
          <a:blip r:embed="rId2"/>
          <a:stretch/>
        </p:blipFill>
        <p:spPr>
          <a:xfrm>
            <a:off x="1758960" y="1600200"/>
            <a:ext cx="562608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Деньги- это одно из воплощений силы. Но еще большей силой обладает финансовое образование. Деньги приходят и уходят, 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вам извес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они работают, то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жете управлять 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становиться богач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берт Кийос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1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1" descr=""/>
          <p:cNvPicPr/>
          <p:nvPr/>
        </p:nvPicPr>
        <p:blipFill>
          <a:blip r:embed="rId2"/>
          <a:stretch/>
        </p:blipFill>
        <p:spPr>
          <a:xfrm>
            <a:off x="3527280" y="1600200"/>
            <a:ext cx="424512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2"/>
          <a:stretch/>
        </p:blipFill>
        <p:spPr>
          <a:xfrm>
            <a:off x="2438280" y="1447920"/>
            <a:ext cx="376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382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Объект 1" descr=""/>
          <p:cNvPicPr/>
          <p:nvPr/>
        </p:nvPicPr>
        <p:blipFill>
          <a:blip r:embed="rId2"/>
          <a:stretch/>
        </p:blipFill>
        <p:spPr>
          <a:xfrm>
            <a:off x="1525680" y="1600200"/>
            <a:ext cx="609264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Объект 1" descr=""/>
          <p:cNvPicPr/>
          <p:nvPr/>
        </p:nvPicPr>
        <p:blipFill>
          <a:blip r:embed="rId2"/>
          <a:stretch/>
        </p:blipFill>
        <p:spPr>
          <a:xfrm>
            <a:off x="2825640" y="1600200"/>
            <a:ext cx="349272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2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5753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Объект 1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2838600" cy="4700520"/>
          </a:xfrm>
          <a:prstGeom prst="rect">
            <a:avLst/>
          </a:prstGeom>
          <a:ln w="0">
            <a:noFill/>
          </a:ln>
        </p:spPr>
      </p:pic>
      <p:pic>
        <p:nvPicPr>
          <p:cNvPr id="146" name="Объект 2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-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Объект 1" descr=""/>
          <p:cNvPicPr/>
          <p:nvPr/>
        </p:nvPicPr>
        <p:blipFill>
          <a:blip r:embed="rId2"/>
          <a:stretch/>
        </p:blipFill>
        <p:spPr>
          <a:xfrm>
            <a:off x="-76320" y="2743200"/>
            <a:ext cx="4038840" cy="304812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2" descr=""/>
          <p:cNvPicPr/>
          <p:nvPr/>
        </p:nvPicPr>
        <p:blipFill>
          <a:blip r:embed="rId3"/>
          <a:stretch/>
        </p:blipFill>
        <p:spPr>
          <a:xfrm>
            <a:off x="5119560" y="1476360"/>
            <a:ext cx="40388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СЕМЕЙНЫ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ЮДЖ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Объект 1" descr=""/>
          <p:cNvPicPr/>
          <p:nvPr/>
        </p:nvPicPr>
        <p:blipFill>
          <a:blip r:embed="rId3"/>
          <a:stretch/>
        </p:blipFill>
        <p:spPr>
          <a:xfrm>
            <a:off x="1908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156" name="Объект 2" descr=""/>
          <p:cNvPicPr/>
          <p:nvPr/>
        </p:nvPicPr>
        <p:blipFill>
          <a:blip r:embed="rId2"/>
          <a:stretch/>
        </p:blipFill>
        <p:spPr>
          <a:xfrm>
            <a:off x="1295280" y="274680"/>
            <a:ext cx="6858000" cy="5851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89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вар-Услу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://files.netall.ru/static/8494.jpg"/>
          <p:cNvPicPr/>
          <p:nvPr/>
        </p:nvPicPr>
        <p:blipFill>
          <a:blip r:embed="rId2"/>
          <a:stretch/>
        </p:blipFill>
        <p:spPr>
          <a:xfrm>
            <a:off x="-152280" y="2209680"/>
            <a:ext cx="4495680" cy="3679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https://adukar.by/images/photo/parikmaher_9.jpg"/>
          <p:cNvPicPr/>
          <p:nvPr/>
        </p:nvPicPr>
        <p:blipFill>
          <a:blip r:embed="rId3"/>
          <a:stretch/>
        </p:blipFill>
        <p:spPr>
          <a:xfrm>
            <a:off x="4572000" y="1459080"/>
            <a:ext cx="44956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https://img.ma-shops.com/vanberkom/pic/bul_p.114_unc_a.jpg"/>
          <p:cNvPicPr/>
          <p:nvPr/>
        </p:nvPicPr>
        <p:blipFill>
          <a:blip r:embed="rId2"/>
          <a:stretch/>
        </p:blipFill>
        <p:spPr>
          <a:xfrm>
            <a:off x="228600" y="1676520"/>
            <a:ext cx="4724280" cy="2306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https://sobiratel.com/wa-data/public/shop/products/43/50/5043/images/13702/13702.970.jpg"/>
          <p:cNvPicPr/>
          <p:nvPr/>
        </p:nvPicPr>
        <p:blipFill>
          <a:blip r:embed="rId3"/>
          <a:stretch/>
        </p:blipFill>
        <p:spPr>
          <a:xfrm>
            <a:off x="4648320" y="3505320"/>
            <a:ext cx="4038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http://banknoter.com/uploads/register/vars/2815351978.jpg"/>
          <p:cNvPicPr/>
          <p:nvPr/>
        </p:nvPicPr>
        <p:blipFill>
          <a:blip r:embed="rId2"/>
          <a:stretch/>
        </p:blipFill>
        <p:spPr>
          <a:xfrm>
            <a:off x="27000" y="1450800"/>
            <a:ext cx="4038480" cy="2022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https://pics.meshok.net/pics/47743601.jpg"/>
          <p:cNvPicPr/>
          <p:nvPr/>
        </p:nvPicPr>
        <p:blipFill>
          <a:blip r:embed="rId3"/>
          <a:stretch/>
        </p:blipFill>
        <p:spPr>
          <a:xfrm>
            <a:off x="4648320" y="2843280"/>
            <a:ext cx="40384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https://collect-online.ru/published/publicdata/COLLECTDB/attachments/SC/products_pictures/NT-0129_enl.jpg"/>
          <p:cNvPicPr/>
          <p:nvPr/>
        </p:nvPicPr>
        <p:blipFill>
          <a:blip r:embed="rId2"/>
          <a:stretch/>
        </p:blipFill>
        <p:spPr>
          <a:xfrm>
            <a:off x="4648320" y="1839960"/>
            <a:ext cx="4038480" cy="404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http://s017.radikal.ru/i404/1303/7c/fe03122f5cc8.jpg"/>
          <p:cNvPicPr/>
          <p:nvPr/>
        </p:nvPicPr>
        <p:blipFill>
          <a:blip r:embed="rId3"/>
          <a:stretch/>
        </p:blipFill>
        <p:spPr>
          <a:xfrm>
            <a:off x="15228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https://bonistika-sale.ru/admin/pictures/34635b.jpg"/>
          <p:cNvPicPr/>
          <p:nvPr/>
        </p:nvPicPr>
        <p:blipFill>
          <a:blip r:embed="rId2"/>
          <a:stretch/>
        </p:blipFill>
        <p:spPr>
          <a:xfrm>
            <a:off x="0" y="1523880"/>
            <a:ext cx="4038480" cy="2065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https://img.ma-shops.ru/mueller/pic/25215_img235.jpg"/>
          <p:cNvPicPr/>
          <p:nvPr/>
        </p:nvPicPr>
        <p:blipFill>
          <a:blip r:embed="rId3"/>
          <a:stretch/>
        </p:blipFill>
        <p:spPr>
          <a:xfrm>
            <a:off x="4695840" y="2908440"/>
            <a:ext cx="39434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https://static.auction.ru/offer_images/2018/08/21/08/big/I/IqitAWL5jHl/vetnam_2000_dong.jpg"/>
          <p:cNvPicPr/>
          <p:nvPr/>
        </p:nvPicPr>
        <p:blipFill>
          <a:blip r:embed="rId2"/>
          <a:stretch/>
        </p:blipFill>
        <p:spPr>
          <a:xfrm>
            <a:off x="0" y="2743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s://www.numizmatix.com/cache/img/70/ba/70ba0ee647140eae50f7e2e7260c56c6_rightxbottom.jpg"/>
          <p:cNvPicPr/>
          <p:nvPr/>
        </p:nvPicPr>
        <p:blipFill>
          <a:blip r:embed="rId3"/>
          <a:stretch/>
        </p:blipFill>
        <p:spPr>
          <a:xfrm>
            <a:off x="5029200" y="1517760"/>
            <a:ext cx="40384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avatars.mds.yandex.net/get-marketpic/204557/market_FuKph0z6OebCdLr70rpImA/orig"/>
          <p:cNvPicPr/>
          <p:nvPr/>
        </p:nvPicPr>
        <p:blipFill>
          <a:blip r:embed="rId2"/>
          <a:stretch/>
        </p:blipFill>
        <p:spPr>
          <a:xfrm>
            <a:off x="-27000" y="2541600"/>
            <a:ext cx="4038480" cy="3584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s://d2gg9evh47fn9z.cloudfront.net/800px_COLOURBOX1223802.jpg"/>
          <p:cNvPicPr/>
          <p:nvPr/>
        </p:nvPicPr>
        <p:blipFill>
          <a:blip r:embed="rId3"/>
          <a:stretch/>
        </p:blipFill>
        <p:spPr>
          <a:xfrm>
            <a:off x="4952880" y="1433520"/>
            <a:ext cx="40388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tailife.net/wp-content/uploads/gallery/dengi-tailanda/dengi-tailanda-2.jpg"/>
          <p:cNvPicPr/>
          <p:nvPr/>
        </p:nvPicPr>
        <p:blipFill>
          <a:blip r:embed="rId2"/>
          <a:stretch/>
        </p:blipFill>
        <p:spPr>
          <a:xfrm>
            <a:off x="-22320" y="2743200"/>
            <a:ext cx="4038840" cy="309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s://pics.meshok.net/pics2/106655764.jpg"/>
          <p:cNvPicPr/>
          <p:nvPr/>
        </p:nvPicPr>
        <p:blipFill>
          <a:blip r:embed="rId3"/>
          <a:stretch/>
        </p:blipFill>
        <p:spPr>
          <a:xfrm>
            <a:off x="4952880" y="1523880"/>
            <a:ext cx="40388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katalog-mo.net/coin/part2/IMG_3471.jpg"/>
          <p:cNvPicPr/>
          <p:nvPr/>
        </p:nvPicPr>
        <p:blipFill>
          <a:blip r:embed="rId2"/>
          <a:stretch/>
        </p:blipFill>
        <p:spPr>
          <a:xfrm>
            <a:off x="23760" y="1430280"/>
            <a:ext cx="4038480" cy="2001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s://ru2.anyfad.com/items/t1@22c6cdab-c6e4-4ea2-a2e9-23aefc202ea4/Kitayskiy-yuan.jpg"/>
          <p:cNvPicPr/>
          <p:nvPr/>
        </p:nvPicPr>
        <p:blipFill>
          <a:blip r:embed="rId3"/>
          <a:stretch/>
        </p:blipFill>
        <p:spPr>
          <a:xfrm>
            <a:off x="4648320" y="1944720"/>
            <a:ext cx="403848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276120" y="3808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2"/>
          <a:stretch/>
        </p:blipFill>
        <p:spPr>
          <a:xfrm>
            <a:off x="289080" y="1905120"/>
            <a:ext cx="426708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6" descr=""/>
          <p:cNvPicPr/>
          <p:nvPr/>
        </p:nvPicPr>
        <p:blipFill>
          <a:blip r:embed="rId3"/>
          <a:stretch/>
        </p:blipFill>
        <p:spPr>
          <a:xfrm>
            <a:off x="5394240" y="1905120"/>
            <a:ext cx="306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ежная ед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oldcurrency.ru/images/product_images/popup_images/1656_1.jpg"/>
          <p:cNvPicPr/>
          <p:nvPr/>
        </p:nvPicPr>
        <p:blipFill>
          <a:blip r:embed="rId2"/>
          <a:stretch/>
        </p:blipFill>
        <p:spPr>
          <a:xfrm>
            <a:off x="4800600" y="2133720"/>
            <a:ext cx="4038480" cy="2136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s://bnews.kz/storage/ed/ed0bdcea7c22caec722a025d72734373.jpg"/>
          <p:cNvPicPr/>
          <p:nvPr/>
        </p:nvPicPr>
        <p:blipFill>
          <a:blip r:embed="rId3"/>
          <a:stretch/>
        </p:blipFill>
        <p:spPr>
          <a:xfrm>
            <a:off x="1522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124080" y="1409760"/>
            <a:ext cx="6019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FXTswqQ"/>
          <p:cNvPicPr/>
          <p:nvPr/>
        </p:nvPicPr>
        <p:blipFill>
          <a:blip r:embed="rId1"/>
          <a:stretch/>
        </p:blipFill>
        <p:spPr>
          <a:xfrm>
            <a:off x="-457200" y="-76212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хема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3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inance-Money-for-Powerpoint-Templates"/>
          <p:cNvPicPr/>
          <p:nvPr/>
        </p:nvPicPr>
        <p:blipFill>
          <a:blip r:embed="rId2"/>
          <a:stretch/>
        </p:blipFill>
        <p:spPr>
          <a:xfrm>
            <a:off x="-15840" y="-1260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3"/>
          <a:stretch/>
        </p:blipFill>
        <p:spPr>
          <a:xfrm>
            <a:off x="0" y="1371600"/>
            <a:ext cx="3860640" cy="4754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4"/>
          <a:stretch/>
        </p:blipFill>
        <p:spPr>
          <a:xfrm>
            <a:off x="5159520" y="1422360"/>
            <a:ext cx="3857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Финансовая грамо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сихологическое качество человека, показывающее степень его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едомл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финансовых  вопросах,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зарабатыв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управлять день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ологическ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кономическое воспитание дошкольников с позиции нравственно-трудового воспитания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.С. Буре, Г.Н. Година, С.А. Козлова, В.И. Логинова, Т.А. Маркова, Д.В. Сергеева, А.Д. Шатова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 Большинство ученых считают, чт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финансовой грамотност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сообразно начинать в ранне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е на начальных ступенях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ой систем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Чумаченко, А.П.Гор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ем раньше дети узнают о роли денег в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ной, семейной и общественной жизни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раньше могут быть сформиров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 финансовые привыч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А.Смоленцева, Г.П. Поварницина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.А.Кисел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Цель данной работы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формировать основы                    финансовой грамотности у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етей старше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школьного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nance-Money-for-Powerpoint-Templates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формировать первичные экономические поня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ить детей правильному отношению к деньгам, способам их зарабатывания и разумному их использов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ъяснить взаимосвязь между экономическими и этическими категориями: труд, товар, деньги, цена, стоимость - с одной стороны и нравственными понятиями, такими, как бережливость, честность, экономность, щедрость и т.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ить детей правильно вести себя в реальных жизненных ситуациях, носящих экономический характер (покупка в магазине, плата за проезд в транспорте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спитывать представления о сущности таких нравственных категорий, как экономность, бережл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5:03:35Z</dcterms:created>
  <dc:creator>1</dc:creator>
  <dc:description/>
  <dc:language>en-US</dc:language>
  <cp:lastModifiedBy>1</cp:lastModifiedBy>
  <dcterms:modified xsi:type="dcterms:W3CDTF">2019-12-24T05:00:3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