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dt" idx="4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5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 type="sldNum" idx="5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1E8A5-23DF-4643-8627-1430171347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0CDF2-6035-4169-A7CE-CAB345EABF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427C0-511F-472C-9EC9-78B76ACBBA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D7703-3952-428F-BC81-6E86A05161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1CAE8-FC0C-4D3B-9231-26ABBBB98A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064E4-805B-4B3E-B3AB-D40038A53C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21989-0ED1-4283-B37D-54B36E8835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1E6C7-7D55-4DF6-AADA-3EB4F8C3C9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D41D1-46AC-4C4E-87C5-FBCCC42313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BCD8D-6659-4767-91F0-F5BB471D5C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73496-D620-4E13-A04D-4CC34AB97C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0F876-7121-4F33-9F43-9D6864A71B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84AE3-7EA1-4B43-84B8-6E4F89B2D7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B3E61-B6F6-41FF-9FA5-932187344A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B03F1-12FE-4792-8B9E-AD25FF6CCF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C638-1BD4-4E8E-AC0F-C1EFB67B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679B4F-E9A8-46A0-B8F2-96E0A0E7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3EF192-44B0-431C-9F01-2F2CF34E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142530-2DFC-43AA-B68F-D148EED5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43E2DE-F857-4596-B597-A73ACAFB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2F0E7E-F6A8-4D3C-AC5C-43ADD66C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402C62-216A-48E6-8014-96B8C6D2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1BAA5C-3877-4D27-AFF1-6F328C0D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BF123D-4D31-4321-8D25-1B553580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9A1CD5-A927-46F0-948E-C0DD36F3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DF0A7-B87F-4958-A611-223D3B7610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D9BFA-52DD-4C06-9522-3FAF2561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4F065-7FF5-4261-BF03-AFE4816F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FC6CF1-5291-4235-A120-D0E80CC7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8FBB71-31DB-4698-A8B6-41100583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D6FF0-B849-43E7-80E1-A4C7365D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F0E226-F967-4AD1-9590-A8AFE66E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F2AEAE-8C28-4AFF-AF2F-B69AED5A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D34DD-451E-4EC3-889D-59BDB414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3B2F0-A4C3-4DAE-A397-050186D9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47072-E10D-4A69-9B2C-83170CC1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A6CEFA-BE6C-4D09-B1FC-2AE7C472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CE8B-958A-47A5-8202-D271F20CBA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62EAA-4A67-45D8-8DC0-DDBC9FB23E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4749C-D6AB-4B14-8DF7-97FAC1DC95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3510F-4327-4266-A556-8F3093FB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0BC2C-13C1-4658-B4AF-06C542FE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BA7EC-E5A6-41C6-806F-D323BCD8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26490-7F26-4022-A6AF-4FB461B4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D110D-AD63-4FC1-AC9F-BB004C70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3FFB0-2A95-49D4-808C-9A7BED50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AD87E-467C-426D-A004-B2BA2292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BFD47-0C34-40E3-B061-88DBB0DB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4CBF9-91E1-40EB-B947-DC6F35F3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619DC-7824-415E-8446-FA7A0FC9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FED7D-E250-47F4-BB26-6FA10DA9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E632B-4D4A-4A46-855B-3BDD97AE10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F0F4C-330F-492E-92D6-9F687E56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E06EA-B138-41A2-B71E-7E7AED75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2F772-F34F-48BD-A3F7-F0ADA99B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2FBA8-EEA5-4AB1-B0E3-EF65B520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487EB-DBE3-47A8-BCCC-868AD0F6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B1A60-0F21-40DC-97AB-AE7F608A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00D2C-3639-44CF-8C79-C28735EF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D1E7D-B75E-4407-A9C5-F3D89F62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56297-8E14-488C-B6E7-2D740201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17EA6-01B5-4562-980D-6E16B523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6504B-A107-4DCD-A641-5D58BF9C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E0767-5E1A-4153-8ADC-A1CC8DDA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A61DE-2762-4DB6-9B13-19C417A5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B50EF-EF72-487F-947B-E2E3FB57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04965-52AD-4211-AB2A-F5BC9754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0412D-5DAE-41F9-8B93-6FDCD35B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57852-2517-4146-8766-B31D88E1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EAC93-90EC-451B-BB04-DA53A500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56DD9-C263-4553-95F0-01272AD7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120E7-5A0F-4053-83BC-90AEE402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451D0-E517-4E15-BC19-D3A9777C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DA3D8-4656-44FD-BBC1-940DE723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3C27E-2804-44BC-BC73-210B12A7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27CF3-4888-4A99-8589-B185BF6B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D8BD9-044E-4FAB-B93C-6F7ECCAC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1701B-1E2A-44EA-8BBE-A6ED9B3C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36440B-5178-4264-A21C-2A2CECA9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738AF-4D6D-4316-95CF-F935E97C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CBA14-FB0A-4363-90AB-7A83DFB0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CD06D-6142-4BCB-98AC-2B94AEDA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67EBD-E305-4D3F-A8E4-07A0D35E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466CC6-8F10-4FB4-9080-AE79F255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3C171-5AF1-4482-B421-6917E0D9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BE41A-87CA-43BE-B28C-8FBA06DA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DBA48-A3F7-476B-A47F-647ED87C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1F053-9F15-4FCC-A20D-87EED803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15B28-1EF5-41D9-9BD1-3CB11D17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4217F-A964-4544-B7EF-9FDB404C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7A27C-AF3B-4AC0-9219-8A623053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3F3E04-21C3-4541-B69C-2A7BE848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5E758-07AE-41FE-9B86-C3DE6769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208D8-F5B2-4B43-80D1-18729A29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C6384F-B4FF-432E-8089-F0191411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421B0A-BBB6-4A9D-A71E-BFC095E4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09E2DA-CA3A-465A-A1BE-8DB8F12F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C9782-4FB4-4F80-A55F-BB7D2109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1FF629-7A28-4D2D-954D-06185A4D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E390B-622C-45BA-8621-DB53496D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7DAA38-D4DD-4A15-B51A-74E78967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6BDBC0-B4FE-485F-843E-3C254BCE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CFB9D-9A17-4C62-9086-8874DAA4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95BF0-FF60-4A45-B0F8-E78AF4E2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3E46A9-B58A-4654-A4A1-C6B9049B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5310F7-F8EC-4931-8828-2407BA97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9F364B-56DB-48D6-B5DC-03C1EE27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DA1459-F8AB-4B6A-A332-FA13365B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AC117-FBC2-43D6-9C08-508B7F4E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25CAFA-C7FF-4CDB-A9A6-69540207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8297A4-14EA-4742-AE48-E79033CE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0368CB-4395-46C5-85FE-3E0146F1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1849C-1E88-4AE0-A135-F682DAD7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2675DF-9EC8-4B7F-B443-D58D4EDF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AE0F0-6CB3-484E-819A-5423A467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2BA26-8A0B-4448-8B5E-CD0D6646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52E974-7B27-4578-85F1-390E8501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FF4DB-6E0C-4F17-A872-ED1DB38B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94A61A-2BD3-425F-A42A-1F75D8F9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53E3BA-7E88-40BA-9B4A-AC041250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9BEBC8-C89E-4A2D-812D-FA124DE4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80586F-0434-46BA-B552-D55828A7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268D1C-9F56-49DE-B7F9-824AE4A8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9C6E1A-39F6-4C10-A92F-7DC99712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D5BFF-69D6-444E-AF48-DFABFB6C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71CF6-2075-41FF-8E81-94B7DF25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4BC48-0AAD-432C-8368-CC0465C6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5ADE8E-A187-4329-83C0-2F95A7D8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8A227D-87E7-4443-815C-106E238D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07A055-6B4A-42E5-BB44-A41DBCA5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4B25EC-B1F0-41EE-968F-008F42B7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6A4721-5E84-4230-B64E-D37D0FFE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C94D1-1BE3-400E-8568-9039AF47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40842-84E8-4065-BAB3-B499724D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48A58-A639-4B82-BC4C-C94A684D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7A8C1-D9BB-4BB9-A84C-867486F9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42025-4C42-48C0-B64D-B933BCF1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885AB-3F70-40E0-BBD9-157B0B43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7DDBB-1826-4DDB-8C2A-31C44C1D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997B6-03AC-4AE2-81DF-B118C4BF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C68FF-2CCD-474C-B4BC-E565222C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2ED6C-0003-4805-9299-A4EA8549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093B7-3C90-4952-A7B8-05AAFFDE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C2568-9A5E-4FFE-B54F-49704DAE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F7699-8249-49CC-B699-E04E0F97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F4684-1353-4AB7-8E45-1FAA61B4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52B2B-3EB8-4E79-85D9-05062028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89448-F8F1-4C39-BFB8-D2B35379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463D0-CD2F-48C1-9D43-C420F3F6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832001-9549-45FB-9931-2571C017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83DB8D-CA86-4DE8-BA48-B49AC62F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581F2-4512-4665-86E2-356A141E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C1687-BBAD-4672-832C-2B3592B6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FFCFB-0CD7-4C44-B5C6-B5C5D1C8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CB1449-9121-4618-9224-DB9A5385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BE88A3-95FF-4835-9593-33A8305A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81C3C6-A7BA-4F87-982B-8B2AD5D0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3E943D-3DA4-49CC-BFD8-3C66E8DF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634A4C-1A3F-4F05-8FC0-BA045675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3FB5B3-8D1B-4DAF-8350-D3ABE6F0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FFFBAF-5C31-446B-8953-E63FD74E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B95AAB-33F4-46E3-84D9-C206AF07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6967D5-D2CA-4512-88EA-C5BF0B08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D3B7-7F29-479D-9EBD-4100644E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B9ED94-6FFF-4B24-BF5A-669D438D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1B995-383F-46CF-92F3-832934F7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DCB68-AF36-476A-9755-EB61C222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11D76-FA55-4ADA-AF00-944CCFE1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77C3A-B1BA-45ED-A49C-DBAF06D3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D09F0-07A3-4B41-89FF-64192702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82C6B-E4C3-4319-8E65-D64CE2F9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9EEC5-DA8E-4032-B8DA-90F80931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E6762C-3ACD-45DA-9FA6-65FCDB75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C59B5-A139-4147-9235-EBA563F1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14CD4-6711-4172-A66C-40ACECAF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DC7E1-3734-408D-B82F-BD3BFBEC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91E0E3-EA58-4B33-9C18-25E0EE66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7CF18-DB40-4B57-AB11-50720EAB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E4070-70A1-4A65-9109-7E7EFD8E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5B250-3DA6-46D9-87EC-2669576C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ED7C0-413F-4EE6-A452-8C3199DF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C19AB-93A4-4FF8-A277-52377B25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59BFC-9E13-4A94-BDD9-AD2C4D57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3E9BCD-60BF-43D9-84C9-371FF113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7612E-D4FC-4BEF-B153-DA79057D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27DF-2EA7-4375-BAC5-58CB8471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FA45D6-482C-426F-92E5-4088CFC7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DD6600-A921-40C5-98A8-F4BD0116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EE8F9E-4B8C-4E9F-ADF6-972DE03D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AC7DF4-0A50-44BD-A6E8-02BAA211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009CE-7519-4F03-9462-EC54A5B5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001C2D-A2C8-471F-A689-69DB52DC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E1A67-FDF1-498D-8427-66513502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3F562-2FAE-467B-813E-4B6D2569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38D62E-72EA-4191-9A0F-4610FA35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2309FA-19C3-4297-AD32-DA825B51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028EB-3C2E-48F7-8C0F-8864F0CE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7D3405-6FC7-4220-99D9-CCDBD84F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BE00F2-EE98-48FC-B360-6F39780E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57A75E-6524-4CE8-AA10-C736C1CC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B55BF2-407B-435E-B62F-82115A2A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C6EAAC-C8A0-4858-A80A-F7B9E095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D654AD-7B55-4BC3-AD5B-C60BF60A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92BA8C-5965-4819-BB48-506A24AA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6855AF-B745-4EC0-B8F3-6A9B2E4B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931A36-55C0-4D7B-A700-94781947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81FE1F-1714-46C8-B4F7-B31DADB5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A88C-4109-4A8B-9165-9C1D812F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3528F6-1F89-4020-A9F4-A7DBEF9F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994A1B-EC20-4D3F-B8AD-68A9E6B9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8FAA2A-6BA5-4829-8B0E-7249E4C0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474101-E533-4394-BF51-0638024F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AB2D37-3396-4CEA-B3BD-80E2A79C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A77749-E2E4-4672-AA87-44C658E3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3D84DB-6B4B-4963-84F8-27FBCF9E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391365-BDB4-4B77-953C-60736D58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1B5358-9E90-42C3-A069-094636E3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F4CBF1-23B6-45BD-9AF2-9541AE72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149400" y="136440"/>
            <a:ext cx="8869320" cy="6583320"/>
          </a:xfrm>
          <a:prstGeom prst="rect">
            <a:avLst/>
          </a:prstGeom>
          <a:noFill/>
          <a:ln w="19080">
            <a:solidFill>
              <a:srgbClr val="cfc6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7200" y="6311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w Cen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  <a:ea typeface="Arial Unicode MS"/>
              </a:rPr>
              <a:t>23.1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830680" y="6311880"/>
            <a:ext cx="348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6552720" y="631188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w Cen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C34A9C-5EE8-4F46-BF41-80D3B74C4380}" type="slidenum">
              <a:rPr b="0" lang="ru-RU" sz="2400" spc="-1" strike="noStrike">
                <a:solidFill>
                  <a:srgbClr val="ffffff"/>
                </a:solidFill>
                <a:latin typeface="Tw Cen MT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743040" indent="-2858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1143000" indent="-2286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600200" indent="-2286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2057400" indent="-2286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2057400" indent="-2286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2057400" indent="-2286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7"/>
          </p:nvPr>
        </p:nvSpPr>
        <p:spPr>
          <a:xfrm>
            <a:off x="457200" y="6311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3.1.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8"/>
          </p:nvPr>
        </p:nvSpPr>
        <p:spPr>
          <a:xfrm>
            <a:off x="6552720" y="631188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DAEB16-AC45-437E-B2D9-D5C54347A5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9"/>
          </p:nvPr>
        </p:nvSpPr>
        <p:spPr>
          <a:xfrm>
            <a:off x="457200" y="6311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3.1.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30"/>
          </p:nvPr>
        </p:nvSpPr>
        <p:spPr>
          <a:xfrm>
            <a:off x="6552720" y="631188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053BB1-8B30-4D3B-8649-996AC04935D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3.1.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05908B-AA04-46A7-AA49-C9CCEE01B8D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3.1.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BD3EF7-8955-4735-8257-D646FDD4387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3.1.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090E67-2F09-4A93-BA01-AAECAE61EBC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3.1.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EF2FB5-0D14-44FB-81B8-29AEAF8D3AE7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3.1.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AF9ABD-6210-4E6B-9337-B59CB9689EC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3.1.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D5B5E7-1474-43B7-A9C8-B9A3B79597B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3.1.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6ADFF6-205A-4C2C-9BA3-7742A2588F3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3.1.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4B02EA-29FB-4A37-A087-0F307551FE8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3.1.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4CCF3C-CFBA-4867-93A3-73B8D47C80E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3.1.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38DC2C-1DD7-4897-8F95-DE918D76C3C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3.1.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1FD368-9733-4D8F-B0FE-F62BB428D76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3.1.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C0F7C7-A53C-4AD7-98EB-3841CB21B7E5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3.1.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4835AD-70D7-44DF-B993-46F603FC6DD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3.1.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3AD1B7-1D28-45AA-8C23-7763DD8A090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537760" cy="266724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383076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fefdfd"/>
                </a:solidFill>
                <a:latin typeface="Comic Sans MS"/>
              </a:rPr>
              <a:t>«Тимбилдинг</a:t>
            </a:r>
            <a:br>
              <a:rPr sz="4000"/>
            </a:br>
            <a:r>
              <a:rPr b="1" lang="ru-RU" sz="4000" spc="-1" strike="noStrike">
                <a:solidFill>
                  <a:srgbClr val="fefdfd"/>
                </a:solidFill>
                <a:latin typeface="Comic Sans MS"/>
              </a:rPr>
              <a:t> дошкольников через познавательную игровую деятельность»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4" name="Rectangle 2"/>
          <p:cNvSpPr/>
          <p:nvPr/>
        </p:nvSpPr>
        <p:spPr>
          <a:xfrm>
            <a:off x="4479840" y="2967120"/>
            <a:ext cx="184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Рисунок 1" descr=""/>
          <p:cNvPicPr/>
          <p:nvPr/>
        </p:nvPicPr>
        <p:blipFill>
          <a:blip r:embed="rId1"/>
          <a:stretch/>
        </p:blipFill>
        <p:spPr>
          <a:xfrm>
            <a:off x="1027080" y="3595680"/>
            <a:ext cx="7273800" cy="2558880"/>
          </a:xfrm>
          <a:prstGeom prst="rect">
            <a:avLst/>
          </a:prstGeom>
          <a:ln w="0">
            <a:noFill/>
          </a:ln>
        </p:spPr>
      </p:pic>
      <p:sp>
        <p:nvSpPr>
          <p:cNvPr id="746" name="Прямоугольник 1"/>
          <p:cNvSpPr/>
          <p:nvPr/>
        </p:nvSpPr>
        <p:spPr>
          <a:xfrm>
            <a:off x="2771640" y="64785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-разработчик: Марченко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286920" y="287280"/>
            <a:ext cx="8567640" cy="34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1800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0000"/>
                </a:solidFill>
                <a:uFillTx/>
                <a:latin typeface="Calibri"/>
              </a:rPr>
              <a:t>Этап 2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оспитатель рассказывает интересные факты о том месте, которое выбрали дети на карте.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Например, дети выбрали заповедник «Ростовский». Воспитатель ведет рассказ-диалог с детьми, включая вопросы по теме.   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1" name="AutoShape 2"/>
          <p:cNvSpPr/>
          <p:nvPr/>
        </p:nvSpPr>
        <p:spPr>
          <a:xfrm>
            <a:off x="457200" y="4332240"/>
            <a:ext cx="401472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2571840" y="3857760"/>
            <a:ext cx="383544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1"/>
          <p:cNvSpPr/>
          <p:nvPr/>
        </p:nvSpPr>
        <p:spPr>
          <a:xfrm>
            <a:off x="179280" y="0"/>
            <a:ext cx="8655120" cy="30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w Cen MT"/>
              </a:rPr>
              <a:t>Этап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В рамках путешествия,  детям предлагается поиграть в лото «Красная книга Ростовской области» и познакомиться с животными и птицами занесенными в Красную книг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2" descr=""/>
          <p:cNvPicPr/>
          <p:nvPr/>
        </p:nvPicPr>
        <p:blipFill>
          <a:blip r:embed="rId1"/>
          <a:stretch/>
        </p:blipFill>
        <p:spPr>
          <a:xfrm>
            <a:off x="730080" y="3743280"/>
            <a:ext cx="3470400" cy="26020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3" descr=""/>
          <p:cNvPicPr/>
          <p:nvPr/>
        </p:nvPicPr>
        <p:blipFill>
          <a:blip r:embed="rId2"/>
          <a:stretch/>
        </p:blipFill>
        <p:spPr>
          <a:xfrm>
            <a:off x="4952880" y="374328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766" name="Прямоугольник 1"/>
          <p:cNvSpPr/>
          <p:nvPr/>
        </p:nvSpPr>
        <p:spPr>
          <a:xfrm>
            <a:off x="324000" y="6408720"/>
            <a:ext cx="86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то «Красная книга Ростовской области»: автор-разработчик Марченко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331920" y="495000"/>
            <a:ext cx="842328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18000" anchor="t">
            <a:normAutofit/>
          </a:bodyPr>
          <a:p>
            <a:pPr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осле чего приглашают ребят на донскую рыбалку в игру-мемори. Следует обращать внимание ребят на те виды рыб, названия которых написаны красным цветом: такую рыбу ловить категорически запрещено.</a:t>
            </a:r>
            <a:endParaRPr b="0" lang="en-US" sz="33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68" name="Picture 2" descr=""/>
          <p:cNvPicPr/>
          <p:nvPr/>
        </p:nvPicPr>
        <p:blipFill>
          <a:blip r:embed="rId1"/>
          <a:stretch/>
        </p:blipFill>
        <p:spPr>
          <a:xfrm>
            <a:off x="779400" y="3598920"/>
            <a:ext cx="3368880" cy="25272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" descr=""/>
          <p:cNvPicPr/>
          <p:nvPr/>
        </p:nvPicPr>
        <p:blipFill>
          <a:blip r:embed="rId2"/>
          <a:stretch/>
        </p:blipFill>
        <p:spPr>
          <a:xfrm>
            <a:off x="4994280" y="3598920"/>
            <a:ext cx="3373560" cy="2530440"/>
          </a:xfrm>
          <a:prstGeom prst="rect">
            <a:avLst/>
          </a:prstGeom>
          <a:ln w="0">
            <a:noFill/>
          </a:ln>
        </p:spPr>
      </p:pic>
      <p:sp>
        <p:nvSpPr>
          <p:cNvPr id="770" name="Прямоугольник 1"/>
          <p:cNvSpPr/>
          <p:nvPr/>
        </p:nvSpPr>
        <p:spPr>
          <a:xfrm>
            <a:off x="779400" y="6435720"/>
            <a:ext cx="80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-мемори «Донская рыбалка»: автор-разработчик Марченко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1" descr=""/>
          <p:cNvPicPr/>
          <p:nvPr/>
        </p:nvPicPr>
        <p:blipFill>
          <a:blip r:embed="rId1"/>
          <a:stretch/>
        </p:blipFill>
        <p:spPr>
          <a:xfrm>
            <a:off x="431640" y="2468520"/>
            <a:ext cx="2649600" cy="198756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" descr=""/>
          <p:cNvPicPr/>
          <p:nvPr/>
        </p:nvPicPr>
        <p:blipFill>
          <a:blip r:embed="rId2"/>
          <a:stretch/>
        </p:blipFill>
        <p:spPr>
          <a:xfrm>
            <a:off x="4211640" y="2432160"/>
            <a:ext cx="2649600" cy="1985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3" descr=""/>
          <p:cNvPicPr/>
          <p:nvPr/>
        </p:nvPicPr>
        <p:blipFill>
          <a:blip r:embed="rId3"/>
          <a:stretch/>
        </p:blipFill>
        <p:spPr>
          <a:xfrm>
            <a:off x="5992920" y="4149720"/>
            <a:ext cx="2649600" cy="198612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4" descr=""/>
          <p:cNvPicPr/>
          <p:nvPr/>
        </p:nvPicPr>
        <p:blipFill>
          <a:blip r:embed="rId4"/>
          <a:stretch/>
        </p:blipFill>
        <p:spPr>
          <a:xfrm>
            <a:off x="1922400" y="4149720"/>
            <a:ext cx="2649600" cy="198612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5"/>
          <p:cNvSpPr/>
          <p:nvPr/>
        </p:nvSpPr>
        <p:spPr>
          <a:xfrm>
            <a:off x="431640" y="287280"/>
            <a:ext cx="828072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ctr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Детям старшего дошкольного возраста сложно запоминать символику, для выполнения данной задачи мною был модифиципрован «Куб Воскобович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Прямоугольник 1"/>
          <p:cNvSpPr/>
          <p:nvPr/>
        </p:nvSpPr>
        <p:spPr>
          <a:xfrm>
            <a:off x="87480" y="62866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ификация куба Воскобовича «Символика родного края»: автор-разработчик Марченко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Прямоугольник 2"/>
          <p:cNvSpPr/>
          <p:nvPr/>
        </p:nvSpPr>
        <p:spPr>
          <a:xfrm>
            <a:off x="611280" y="404640"/>
            <a:ext cx="807228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Методическая разработка, насколько бы она не была ценной, не сможет стать эффективной без грамотно организованного педагогического воз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Рисунок 2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1"/>
          <p:cNvSpPr/>
          <p:nvPr/>
        </p:nvSpPr>
        <p:spPr>
          <a:xfrm>
            <a:off x="360360" y="189000"/>
            <a:ext cx="8496360" cy="49924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fefdfd"/>
                </a:solidFill>
                <a:uFillTx/>
                <a:latin typeface="Tw Cen MT"/>
              </a:rPr>
              <a:t>Актуа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efdfd"/>
                </a:solidFill>
                <a:latin typeface="Tw Cen MT"/>
              </a:rPr>
              <a:t>В настоящее время социализации уделяется особое внимание. Не случайно социально-коммуникативное развитие и воспитание дошкольников является одним из основных компонентов ФГОС Д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efdfd"/>
                </a:solidFill>
                <a:latin typeface="Tw Cen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1"/>
          <p:cNvSpPr/>
          <p:nvPr/>
        </p:nvSpPr>
        <p:spPr>
          <a:xfrm>
            <a:off x="647640" y="836640"/>
            <a:ext cx="7848720" cy="187164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fefdfd"/>
                </a:solidFill>
                <a:uFillTx/>
                <a:latin typeface="Comic Sans MS"/>
              </a:rPr>
              <a:t>Цель</a:t>
            </a:r>
            <a:r>
              <a:rPr b="0" lang="ru-RU" sz="3600" spc="-1" strike="noStrike">
                <a:solidFill>
                  <a:srgbClr val="fefdfd"/>
                </a:solidFill>
                <a:latin typeface="Comic Sans MS"/>
              </a:rPr>
              <a:t>: формирование дружног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efdfd"/>
                </a:solidFill>
                <a:latin typeface="Comic Sans MS"/>
              </a:rPr>
              <a:t>сплоченного коллектива до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Рисунок 1" descr=""/>
          <p:cNvPicPr/>
          <p:nvPr/>
        </p:nvPicPr>
        <p:blipFill>
          <a:blip r:embed="rId1"/>
          <a:stretch/>
        </p:blipFill>
        <p:spPr>
          <a:xfrm>
            <a:off x="3276720" y="2924280"/>
            <a:ext cx="236376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1"/>
          <p:cNvSpPr/>
          <p:nvPr/>
        </p:nvSpPr>
        <p:spPr>
          <a:xfrm>
            <a:off x="214200" y="214200"/>
            <a:ext cx="8696520" cy="530244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fefdfd"/>
                </a:solidFill>
                <a:uFillTx/>
                <a:latin typeface="Tw Cen MT"/>
              </a:rPr>
              <a:t>Методическая ц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efdfd"/>
                </a:solidFill>
                <a:latin typeface="Tw Cen MT"/>
              </a:rPr>
              <a:t>Для реализации задач социально-коммуникативного развития для детей дошкольного возраста необходимо создавать специальное игровое пространство, в котором бы ребенок мог не просто вступать во взаимоотношения со сверстниками и близкими взрослыми, но и активно усваивать зна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efdfd"/>
                </a:solidFill>
                <a:latin typeface="Tw Cen MT"/>
              </a:rPr>
              <a:t>нормы, правила общества, иными словами формироваться как социально-компетентная лич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1"/>
          <p:cNvSpPr/>
          <p:nvPr/>
        </p:nvSpPr>
        <p:spPr>
          <a:xfrm>
            <a:off x="568440" y="227160"/>
            <a:ext cx="8113680" cy="59785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fefdfd"/>
                </a:solidFill>
                <a:uFillTx/>
                <a:latin typeface="Tw Cen MT"/>
              </a:rPr>
              <a:t>Область приме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efdfd"/>
                </a:solidFill>
                <a:latin typeface="Tw Cen MT"/>
              </a:rPr>
              <a:t> </a:t>
            </a:r>
            <a:r>
              <a:rPr b="0" lang="ru-RU" sz="3200" spc="-1" strike="noStrike">
                <a:solidFill>
                  <a:srgbClr val="fefdfd"/>
                </a:solidFill>
                <a:latin typeface="Tw Cen MT"/>
              </a:rPr>
              <a:t>Игра может чередоваться с занятиями, когда необходимо усилить самостоятельную деятельность детей, организовать применение усвоенного в игровой деятельности, подвести итог, обобщить изученный на занятиях матери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efdfd"/>
                </a:solidFill>
                <a:latin typeface="Tw Cen MT"/>
              </a:rPr>
              <a:t>Данная разработка предполагает сотрудничество ребят, совместный выбор маршрутов, обсуждение, что способствует активизации имеющихся у детей знаний, способов их при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1"/>
          <p:cNvSpPr/>
          <p:nvPr/>
        </p:nvSpPr>
        <p:spPr>
          <a:xfrm>
            <a:off x="611280" y="981000"/>
            <a:ext cx="8064360" cy="1440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ctr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efdfd"/>
                </a:solidFill>
                <a:latin typeface="Tw Cen MT"/>
              </a:rPr>
              <a:t>Дидактическая игра рассчитана на детей старшего дошкольного возраст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Рисунок 1" descr=""/>
          <p:cNvPicPr/>
          <p:nvPr/>
        </p:nvPicPr>
        <p:blipFill>
          <a:blip r:embed="rId1"/>
          <a:stretch/>
        </p:blipFill>
        <p:spPr>
          <a:xfrm>
            <a:off x="2498760" y="2822400"/>
            <a:ext cx="4146480" cy="32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1"/>
          <p:cNvSpPr/>
          <p:nvPr/>
        </p:nvSpPr>
        <p:spPr>
          <a:xfrm>
            <a:off x="503280" y="360360"/>
            <a:ext cx="8280360" cy="59785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fefdfd"/>
                </a:solidFill>
                <a:uFillTx/>
                <a:latin typeface="Tw Cen MT"/>
              </a:rPr>
              <a:t>Краткое опис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efdfd"/>
                </a:solidFill>
                <a:latin typeface="Tw Cen MT"/>
              </a:rPr>
              <a:t>Данная разработка соответствует принципам, в соответствии с ФГОС ДО, предполагающим единство социальных и предметных средств обеспечения разнообразной деятельности ребен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-</a:t>
            </a:r>
            <a:r>
              <a:rPr b="0" lang="ru-RU" sz="3200" spc="-1" strike="noStrike">
                <a:solidFill>
                  <a:srgbClr val="fefdfd"/>
                </a:solidFill>
                <a:latin typeface="Tw Cen MT"/>
              </a:rPr>
              <a:t>насыщенности сре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efdfd"/>
                </a:solidFill>
                <a:latin typeface="Tw Cen MT"/>
              </a:rPr>
              <a:t>-трансформируем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efdfd"/>
                </a:solidFill>
                <a:latin typeface="Tw Cen MT"/>
              </a:rPr>
              <a:t>-полифункциона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efdfd"/>
                </a:solidFill>
                <a:latin typeface="Tw Cen MT"/>
              </a:rPr>
              <a:t>-вариатив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efdfd"/>
                </a:solidFill>
                <a:latin typeface="Tw Cen MT"/>
              </a:rPr>
              <a:t>-доступ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efdfd"/>
                </a:solidFill>
                <a:latin typeface="Tw Cen MT"/>
              </a:rPr>
              <a:t>-безопас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1"/>
          <p:cNvSpPr/>
          <p:nvPr/>
        </p:nvSpPr>
        <p:spPr>
          <a:xfrm>
            <a:off x="431640" y="216000"/>
            <a:ext cx="8280720" cy="570204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ctr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efdfd"/>
                </a:solidFill>
                <a:latin typeface="Tw Cen MT"/>
              </a:rPr>
              <a:t>Комплексная дидактическая игра представляет собой пазлы-карту Ростовской области с флажками. Игра развивает визуальную память, воображение, наглядно-образное мышление, кроме того дает азы в области географии и т.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efdfd"/>
                </a:solidFill>
                <a:latin typeface="Tw Cen MT"/>
              </a:rPr>
              <a:t>Игра проходит в три этап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304920" y="233280"/>
            <a:ext cx="8385120" cy="284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1800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0000"/>
                </a:solidFill>
                <a:uFillTx/>
                <a:latin typeface="Calibri"/>
              </a:rPr>
              <a:t>Этап 1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383076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Дети совместно собирают пазл, (требуется первое время помощь воспитателя)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Затем выбирают на карте место, с которым хотят познакомиться, и ставят флажок.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57" name="Picture 2" descr=""/>
          <p:cNvPicPr/>
          <p:nvPr/>
        </p:nvPicPr>
        <p:blipFill>
          <a:blip r:embed="rId1"/>
          <a:stretch/>
        </p:blipFill>
        <p:spPr>
          <a:xfrm>
            <a:off x="636480" y="3382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3" descr=""/>
          <p:cNvPicPr/>
          <p:nvPr/>
        </p:nvPicPr>
        <p:blipFill>
          <a:blip r:embed="rId2"/>
          <a:stretch/>
        </p:blipFill>
        <p:spPr>
          <a:xfrm>
            <a:off x="4849920" y="3382920"/>
            <a:ext cx="3662280" cy="2746440"/>
          </a:xfrm>
          <a:prstGeom prst="rect">
            <a:avLst/>
          </a:prstGeom>
          <a:ln w="0">
            <a:noFill/>
          </a:ln>
        </p:spPr>
      </p:pic>
      <p:sp>
        <p:nvSpPr>
          <p:cNvPr id="759" name="Прямоугольник 1"/>
          <p:cNvSpPr/>
          <p:nvPr/>
        </p:nvSpPr>
        <p:spPr>
          <a:xfrm>
            <a:off x="565200" y="6407280"/>
            <a:ext cx="80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а – пазл с флажками указателями: автор-разработчик Марченко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ПК Колледж</cp:lastModifiedBy>
  <dcterms:modified xsi:type="dcterms:W3CDTF">2019-12-24T08:59:11Z</dcterms:modified>
  <cp:revision>12</cp:revision>
  <dc:subject/>
  <dc:title> «Тимбилдинг  дошкольников»</dc:title>
</cp:coreProperties>
</file>