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1E353-5925-4808-9F72-A85C3DE59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21734-E10E-4114-9639-356558D56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E66DE-43BB-46D9-AAD7-71BBF99C5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557DB-B224-440D-BCBA-C31F56E0C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78B49-150F-4AD7-8E2A-82C3F0CB0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5893F-6C25-4505-8A67-0504E74D7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B881E-D084-4856-A9FF-9A531B772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76FB5-64E0-45DD-BC4C-A290DDCBD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833AE-FF58-4054-BFCD-803D0099A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376F6-2D03-4CB6-9057-0A4A0FCE8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A0850-22FC-473A-A4AC-1854CB651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D6AC9-1139-46D7-9C77-6C5321320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D7A8E-4A99-4FCC-BB6D-728A38CB519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Лирика поэтов – участников Великой Отечественной войны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1130400" y="1600200"/>
            <a:ext cx="68832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Муса Джалил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3133800" y="1757520"/>
            <a:ext cx="2876400" cy="42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оэтические образы стих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1533600" y="1654200"/>
          <a:ext cx="6076800" cy="6450120"/>
        </p:xfrm>
        <a:graphic>
          <a:graphicData uri="http://schemas.openxmlformats.org/drawingml/2006/table">
            <a:tbl>
              <a:tblPr/>
              <a:tblGrid>
                <a:gridCol w="3038400"/>
                <a:gridCol w="3038400"/>
              </a:tblGrid>
              <a:tr h="280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э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этические образ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01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льга Бергголь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ист снарядов, в бомбоубежищах уснули дети, смертная угроза, бессонные ночи, страх, мольба, обугленное сердце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Юлия Друни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ымные сны, друг убит на войне, замолкшее сердце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1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мён Гудзенк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смерть идут, снег изрыт минами, вмёрзшая в снега пехота, умирает друг, лейтенант хрипит, под ногтями чужая кровь, я притягиваю мины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ргей Орл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рыли в шар земной, грома тяжёлые гремя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62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са Джали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гневой шквал, забинтованные раны, раскалённый свинец, сразил осколок мины, на носилках девушка лежит, час кровавый, посмертная слава, ресницы затенили взор лучистый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1116000" y="1484280"/>
          <a:ext cx="6494400" cy="5235480"/>
        </p:xfrm>
        <a:graphic>
          <a:graphicData uri="http://schemas.openxmlformats.org/drawingml/2006/table">
            <a:tbl>
              <a:tblPr/>
              <a:tblGrid>
                <a:gridCol w="3456000"/>
                <a:gridCol w="3038400"/>
              </a:tblGrid>
              <a:tr h="489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э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веренность в победе, вера в лучше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66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льга Берггольц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с, граждан Ленинграда, не поколеблет грохот канонад, и если завтра будут баррикады- мы не покинем наших баррикад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 женщины с бойцами встанут рядом, и дети нам патроны поднесут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Юлия Друнин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ыл и есть у России вечной прочности вечный запа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1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мён Гудзенк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12529"/>
                          </a:solidFill>
                          <a:latin typeface="Times New Roman"/>
                          <a:ea typeface="Calibri"/>
                        </a:rPr>
                        <a:t>А когда мы вернёмся,- а мы возвратимся с победой, все, как черти, упрямы, как люди, живучи и злы,- (нас не нужно жалеть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ргей Орлов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12529"/>
                          </a:solidFill>
                          <a:latin typeface="Times New Roman"/>
                          <a:ea typeface="Calibri"/>
                        </a:rPr>
                        <a:t>И ничего не может статься С весной и Русью никогд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са Джалил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 больше недруг не войдёт в стран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Используемая литература: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Б.А. Ланин, Л.Ю. Устинова, В.М. Шамчикова «Литература»  7 класс . Часть 2. М. Издательский центр «Вентана- Граф». 2015 г. Стр. 92-103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fb.ru/article/84661/poetyi-..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вторы: Новодворский Дмитрий, Попова Алина, Саркисян Артём, Спирина Анастасия (7 «Б» класс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уководитель Волкова А.Ф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Цель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: показать, как поэты - участники Великой Отечественной войны раскрывают тему войн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Задачи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: проанализировать лирические произведения поэтов - участников Великой Отечественной войны, подчеркнуть особенности художественного метода каждого, найти обще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Гипотеза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: в лирике поэтов-участников Великой Отечественной войны много общего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Методы работы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: анализ лирических произведений (определение темы, идеи, нахождение художественных средств, определение их роли в тексте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Более 1000 человек из писательской организации ушло на фронт. 500 из них были награждены орденами и медалями, 18 стали героями Советского Союза, 275 мастеров слова не вернулись с поля боя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Объект 3" descr="http://900igr.net/datas/literatura/Poety-o-vojne/0007-007-Bolee-tysjachi-pisatelej-i-poetov-ushli-na-front.jpg"/>
          <p:cNvPicPr/>
          <p:nvPr/>
        </p:nvPicPr>
        <p:blipFill>
          <a:blip r:embed="rId1"/>
          <a:stretch/>
        </p:blipFill>
        <p:spPr>
          <a:xfrm>
            <a:off x="108000" y="1628640"/>
            <a:ext cx="446400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Берггольц Ольга Фёдоровна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2700360" y="1557360"/>
            <a:ext cx="352728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Друнина Юлия Владимировна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3036960" y="1600200"/>
            <a:ext cx="30700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Гудзенко Семён Петрович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2770200" y="1600200"/>
            <a:ext cx="3603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рлов Сергей Сергеевич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2771640" y="1484280"/>
            <a:ext cx="345600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teacher9</dc:creator>
  <dc:description/>
  <dc:language>en-US</dc:language>
  <cp:lastModifiedBy>Волков Роман</cp:lastModifiedBy>
  <dcterms:modified xsi:type="dcterms:W3CDTF">2019-05-15T16:44:42Z</dcterms:modified>
  <cp:revision>49</cp:revision>
  <dc:subject/>
  <dc:title>Обобщающий урок в 6 классе по теме  “Мягкий знак после шипящих в разных частях речи”</dc:title>
</cp:coreProperties>
</file>