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F175-7E90-4B9F-87DF-0BF3DF3ED7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2F1B-81EA-456E-9D63-A02B0003C7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F05F-A527-4629-8783-95E8323956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27B0-FB53-4F19-BF01-945E1FD4CC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42D6-7F31-4C71-A559-C2773B2A7E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2CBE-2BC1-4C27-B7E1-35603B6FE3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9486-C2EA-44FD-9282-52E2014726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26A2-2A4C-4453-9B3C-96B740BB29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18D0-B98A-4DCF-8AD9-31272F62A2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0300-E95F-4B08-BB02-50BDEAC2C1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87BC-EA86-406F-B9BF-69A2177767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205D-7241-4610-9AD6-E2BD5D9B74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97C0-32C7-48B4-A53F-9DED85EFB4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8921-6F09-478E-AF61-295AB2F653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12B3-F889-4FD0-8119-2999E6A56F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C9AC-9745-4954-A0ED-6C5C97F581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C49F-B9CE-4DB4-A2F3-0C1D7DA98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B205-B32B-4EC8-A077-A3B9E864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4902-9907-4EF6-B2B7-C906C8E99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A007-6D33-426D-9539-EB85F80ED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A004-3BC9-4BAE-8BF0-31D3928D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0B73-7480-4A4B-BB72-B6088458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6526-73FF-4ED2-9DF9-99C2395F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5C2E-6DBB-49D9-A1CD-2CC43D7D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BAB7-91A2-4153-81F8-D05E67B0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7CB6-17C0-4B02-B131-398CE97C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C88D-54F4-4E3E-AA64-DFB9EE12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045A-BE3D-4B88-89C9-4A3669B7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DAEE-F5CF-49AB-B92E-47ADBF60F4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http://lettersandnumbers.org/oldenglish-style/numbers/oldenglish-number-12.jpg"/>
          <p:cNvPicPr/>
          <p:nvPr/>
        </p:nvPicPr>
        <p:blipFill>
          <a:blip r:embed="rId2"/>
          <a:srcRect l="5941" t="8715" r="3365" b="16040"/>
          <a:stretch/>
        </p:blipFill>
        <p:spPr>
          <a:xfrm>
            <a:off x="1979640" y="1619280"/>
            <a:ext cx="532908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2"/>
          <p:cNvSpPr/>
          <p:nvPr/>
        </p:nvSpPr>
        <p:spPr>
          <a:xfrm>
            <a:off x="2627280" y="1413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ётные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"/>
          <p:cNvSpPr/>
          <p:nvPr/>
        </p:nvSpPr>
        <p:spPr>
          <a:xfrm rot="21331200">
            <a:off x="3187800" y="2455920"/>
            <a:ext cx="9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70c0"/>
                </a:solidFill>
                <a:latin typeface="Comic Sans MS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"/>
          <p:cNvSpPr/>
          <p:nvPr/>
        </p:nvSpPr>
        <p:spPr>
          <a:xfrm rot="321000">
            <a:off x="5508720" y="2276640"/>
            <a:ext cx="78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70c0"/>
                </a:solidFill>
                <a:latin typeface="Comic Sans MS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900000" y="1773360"/>
            <a:ext cx="96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70c0"/>
                </a:solidFill>
                <a:latin typeface="Comic Sans MS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 rot="21048600">
            <a:off x="831240" y="3527280"/>
            <a:ext cx="107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70c0"/>
                </a:solidFill>
                <a:latin typeface="Comic Sans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8"/>
          <p:cNvSpPr/>
          <p:nvPr/>
        </p:nvSpPr>
        <p:spPr>
          <a:xfrm rot="443400">
            <a:off x="3092040" y="4100760"/>
            <a:ext cx="1197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b050"/>
                </a:solidFill>
                <a:latin typeface="Comic Sans MS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9"/>
          <p:cNvSpPr/>
          <p:nvPr/>
        </p:nvSpPr>
        <p:spPr>
          <a:xfrm rot="20637600">
            <a:off x="4970880" y="465300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0"/>
          <p:cNvSpPr/>
          <p:nvPr/>
        </p:nvSpPr>
        <p:spPr>
          <a:xfrm rot="930600">
            <a:off x="6586920" y="3625200"/>
            <a:ext cx="1163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1"/>
          <p:cNvSpPr/>
          <p:nvPr/>
        </p:nvSpPr>
        <p:spPr>
          <a:xfrm>
            <a:off x="7524720" y="213372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2"/>
          <p:cNvSpPr/>
          <p:nvPr/>
        </p:nvSpPr>
        <p:spPr>
          <a:xfrm rot="20448000">
            <a:off x="1518840" y="5072040"/>
            <a:ext cx="115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7"/>
          <p:cNvSpPr/>
          <p:nvPr/>
        </p:nvSpPr>
        <p:spPr>
          <a:xfrm>
            <a:off x="7020000" y="544500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b050"/>
                </a:solidFill>
                <a:latin typeface="Comic Sans MS"/>
              </a:rPr>
              <a:t>2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2"/>
          <p:cNvSpPr/>
          <p:nvPr/>
        </p:nvSpPr>
        <p:spPr>
          <a:xfrm>
            <a:off x="3276720" y="148428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Кратные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395280" y="2205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250920" y="3789360"/>
            <a:ext cx="129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250920" y="5805360"/>
            <a:ext cx="246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5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8084520" y="198900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8028000" y="306864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8101080" y="436572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1"/>
          <p:cNvSpPr/>
          <p:nvPr/>
        </p:nvSpPr>
        <p:spPr>
          <a:xfrm>
            <a:off x="8172360" y="5877000"/>
            <a:ext cx="9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2"/>
          <p:cNvSpPr/>
          <p:nvPr/>
        </p:nvSpPr>
        <p:spPr>
          <a:xfrm>
            <a:off x="1547640" y="2349360"/>
            <a:ext cx="62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 умножении чётных чисел на 5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делите число на 2 и умножьте на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3"/>
          <p:cNvSpPr/>
          <p:nvPr/>
        </p:nvSpPr>
        <p:spPr>
          <a:xfrm>
            <a:off x="1619280" y="4221000"/>
            <a:ext cx="612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70c0"/>
                </a:solidFill>
                <a:uFillTx/>
                <a:latin typeface="Comic Sans MS"/>
              </a:rPr>
              <a:t>24 ·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omic Sans MS"/>
              </a:rPr>
              <a:t>24 : 2 · 10 = 12 · 10 = 1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2700360" y="1413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множение на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468360" y="2133720"/>
            <a:ext cx="828036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тобы умножить любое двухзначное число на 11, нужно сложить первую и последнюю цифры этого числа, а результат (сумму) вписать посередине (между первой и последней цифра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множим на 11 число </a:t>
            </a:r>
            <a:r>
              <a:rPr b="0" lang="ru-RU" sz="2800" spc="-1" strike="noStrike">
                <a:solidFill>
                  <a:srgbClr val="0070c0"/>
                </a:solidFill>
                <a:latin typeface="Comic Sans MS"/>
              </a:rPr>
              <a:t>15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Цифры 1 и 5 пишем с пробелом: </a:t>
            </a:r>
            <a:r>
              <a:rPr b="0" lang="ru-RU" sz="2800" spc="-1" strike="noStrike">
                <a:solidFill>
                  <a:srgbClr val="0070c0"/>
                </a:solidFill>
                <a:latin typeface="Comic Sans MS"/>
              </a:rPr>
              <a:t>1_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кладываем 1 и 5: </a:t>
            </a:r>
            <a:r>
              <a:rPr b="0" lang="ru-RU" sz="2800" spc="-1" strike="noStrike">
                <a:solidFill>
                  <a:srgbClr val="0070c0"/>
                </a:solidFill>
                <a:latin typeface="Comic Sans MS"/>
              </a:rPr>
              <a:t>1 + 5 = 6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Цифру 6 вписываем между единичкой и пятеркой: получаем </a:t>
            </a:r>
            <a:r>
              <a:rPr b="0" lang="ru-RU" sz="2800" spc="-1" strike="noStrike" u="sng">
                <a:solidFill>
                  <a:srgbClr val="0070c0"/>
                </a:solidFill>
                <a:uFillTx/>
                <a:latin typeface="Comic Sans MS"/>
              </a:rPr>
              <a:t>1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6</a:t>
            </a:r>
            <a:r>
              <a:rPr b="0" lang="ru-RU" sz="2800" spc="-1" strike="noStrike" u="sng">
                <a:solidFill>
                  <a:srgbClr val="0070c0"/>
                </a:solidFill>
                <a:uFillTx/>
                <a:latin typeface="Comic Sans MS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То есть, 15 х 11 = 16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1"/>
          <p:cNvSpPr/>
          <p:nvPr/>
        </p:nvSpPr>
        <p:spPr>
          <a:xfrm>
            <a:off x="2771640" y="18900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Умножение на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1332000" y="3716280"/>
            <a:ext cx="7127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бы умножить на число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99, 999), умножь его на 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100, 1000) и из полученного      результата вычти само чис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2195640" y="1197000"/>
            <a:ext cx="66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mic Sans MS"/>
              </a:rPr>
              <a:t>45 · 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45 · 10 – 45 = 450 – 45 = 4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1979640" y="2349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5"/>
          <p:cNvSpPr/>
          <p:nvPr/>
        </p:nvSpPr>
        <p:spPr>
          <a:xfrm>
            <a:off x="2268360" y="2637000"/>
            <a:ext cx="304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mic Sans MS"/>
              </a:rPr>
              <a:t>45 · 9 = 4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4"/>
          <p:cNvSpPr/>
          <p:nvPr/>
        </p:nvSpPr>
        <p:spPr>
          <a:xfrm>
            <a:off x="1979640" y="2349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2"/>
          <p:cNvSpPr/>
          <p:nvPr/>
        </p:nvSpPr>
        <p:spPr>
          <a:xfrm>
            <a:off x="2324160" y="222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2"/>
          <p:cNvSpPr/>
          <p:nvPr/>
        </p:nvSpPr>
        <p:spPr>
          <a:xfrm>
            <a:off x="1547640" y="2781360"/>
            <a:ext cx="734544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mic Sans MS"/>
              </a:rPr>
              <a:t>«Я люблю математику не только потому, что она находит применение в технике, но и потому, что она красива»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. Пе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4"/>
          <p:cNvSpPr/>
          <p:nvPr/>
        </p:nvSpPr>
        <p:spPr>
          <a:xfrm>
            <a:off x="1908000" y="692280"/>
            <a:ext cx="65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omic Sans MS"/>
              </a:rPr>
              <a:t>«Математика — царица нау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b050"/>
                </a:solidFill>
                <a:latin typeface="Comic Sans MS"/>
              </a:rPr>
              <a:t>Карл Фридрих Гаусс</a:t>
            </a:r>
            <a:r>
              <a:rPr b="0" lang="ru-RU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2"/>
          <p:cNvSpPr/>
          <p:nvPr/>
        </p:nvSpPr>
        <p:spPr>
          <a:xfrm>
            <a:off x="1619280" y="981000"/>
            <a:ext cx="712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Математика заключает в себе не только истину, но и высочайшую красоту – красоту холодную и строгую, подобную красоте скульптур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ертран Расс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1979640" y="2349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"/>
          <p:cNvSpPr/>
          <p:nvPr/>
        </p:nvSpPr>
        <p:spPr>
          <a:xfrm>
            <a:off x="2324160" y="222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2" descr="http://itd2.mycdn.me/image?id=877128024198&amp;t=20&amp;plc=WEB&amp;tkn=*_2ZCh5y0HgLRZNOfWdPW-328LPE"/>
          <p:cNvPicPr/>
          <p:nvPr/>
        </p:nvPicPr>
        <p:blipFill>
          <a:blip r:embed="rId2"/>
          <a:stretch/>
        </p:blipFill>
        <p:spPr>
          <a:xfrm>
            <a:off x="1619280" y="1773360"/>
            <a:ext cx="5905440" cy="4032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3" descr="https://avatars.mds.yandex.net/get-pdb/939428/5fec5dc1-6c87-4a31-b62f-c801e4649935/s1200"/>
          <p:cNvPicPr/>
          <p:nvPr/>
        </p:nvPicPr>
        <p:blipFill>
          <a:blip r:embed="rId3"/>
          <a:stretch/>
        </p:blipFill>
        <p:spPr>
          <a:xfrm>
            <a:off x="2124000" y="1628640"/>
            <a:ext cx="5400720" cy="41054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http://www.playcast.ru/uploads/2017/11/01/23785779.png"/>
          <p:cNvPicPr/>
          <p:nvPr/>
        </p:nvPicPr>
        <p:blipFill>
          <a:blip r:embed="rId4"/>
          <a:stretch/>
        </p:blipFill>
        <p:spPr>
          <a:xfrm rot="21131400">
            <a:off x="250920" y="3429000"/>
            <a:ext cx="2449440" cy="32274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http://itd3.mycdn.me/image?id=856706245617&amp;t=20&amp;plc=WEB&amp;tkn=*Z0fSVM_mSAaap_KniCzz81FPUGU"/>
          <p:cNvPicPr/>
          <p:nvPr/>
        </p:nvPicPr>
        <p:blipFill>
          <a:blip r:embed="rId5"/>
          <a:stretch/>
        </p:blipFill>
        <p:spPr>
          <a:xfrm rot="547200">
            <a:off x="6523200" y="199800"/>
            <a:ext cx="2271600" cy="35431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http://skupiknigi.ru/image/Large/multimedia/books_covers/1011822969.jpg"/>
          <p:cNvPicPr/>
          <p:nvPr/>
        </p:nvPicPr>
        <p:blipFill>
          <a:blip r:embed="rId6"/>
          <a:stretch/>
        </p:blipFill>
        <p:spPr>
          <a:xfrm rot="21194400">
            <a:off x="583920" y="276120"/>
            <a:ext cx="2520720" cy="33703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"/>
          <p:cNvPicPr/>
          <p:nvPr/>
        </p:nvPicPr>
        <p:blipFill>
          <a:blip r:embed="rId7"/>
          <a:stretch/>
        </p:blipFill>
        <p:spPr>
          <a:xfrm>
            <a:off x="2411280" y="2897280"/>
            <a:ext cx="4248360" cy="3960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Documents and Settings\Berezin\Рабочий стол\20190511_143641.jpg"/>
          <p:cNvPicPr/>
          <p:nvPr/>
        </p:nvPicPr>
        <p:blipFill>
          <a:blip r:embed="rId8"/>
          <a:stretch/>
        </p:blipFill>
        <p:spPr>
          <a:xfrm>
            <a:off x="5796000" y="4581360"/>
            <a:ext cx="33480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8000"/>
                            </p:stCondLst>
                            <p:childTnLst>
                              <p:par>
                                <p:cTn id="4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http://lettersandnumbers.org/oldenglish-style/numbers/oldenglish-number-12.jpg"/>
          <p:cNvPicPr/>
          <p:nvPr/>
        </p:nvPicPr>
        <p:blipFill>
          <a:blip r:embed="rId2"/>
          <a:srcRect l="5941" t="8715" r="3365" b="16040"/>
          <a:stretch/>
        </p:blipFill>
        <p:spPr>
          <a:xfrm>
            <a:off x="5867280" y="3789360"/>
            <a:ext cx="2810160" cy="24717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2"/>
          <p:cNvSpPr/>
          <p:nvPr/>
        </p:nvSpPr>
        <p:spPr>
          <a:xfrm>
            <a:off x="539640" y="1628640"/>
            <a:ext cx="82090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mic Sans MS"/>
              </a:rPr>
              <a:t>«Математика — это искусство давать одно и то же имя разным предмета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нри Пуанка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4"/>
          <p:cNvSpPr/>
          <p:nvPr/>
        </p:nvSpPr>
        <p:spPr>
          <a:xfrm>
            <a:off x="755640" y="141300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12 = 2 · 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4643280" y="270828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12 = 6· 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8"/>
          <p:cNvSpPr/>
          <p:nvPr/>
        </p:nvSpPr>
        <p:spPr>
          <a:xfrm>
            <a:off x="684360" y="3789360"/>
            <a:ext cx="46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12 = 3 · 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9"/>
          <p:cNvSpPr/>
          <p:nvPr/>
        </p:nvSpPr>
        <p:spPr>
          <a:xfrm>
            <a:off x="4716360" y="522936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12 = 4 · 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2556000" y="134136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аблица умн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"/>
          <p:cNvSpPr/>
          <p:nvPr/>
        </p:nvSpPr>
        <p:spPr>
          <a:xfrm>
            <a:off x="2843280" y="1844640"/>
            <a:ext cx="38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omic Sans MS"/>
              </a:rPr>
              <a:t>6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b050"/>
                </a:solidFill>
                <a:latin typeface="Comic Sans MS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"/>
          <p:cNvSpPr/>
          <p:nvPr/>
        </p:nvSpPr>
        <p:spPr>
          <a:xfrm>
            <a:off x="0" y="2637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 перестановки множителей произведение не измен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5"/>
          <p:cNvSpPr/>
          <p:nvPr/>
        </p:nvSpPr>
        <p:spPr>
          <a:xfrm>
            <a:off x="0" y="364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сли произведение разделить на первый множитель, то получится второй множ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6"/>
          <p:cNvSpPr/>
          <p:nvPr/>
        </p:nvSpPr>
        <p:spPr>
          <a:xfrm>
            <a:off x="3059280" y="4508640"/>
            <a:ext cx="30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12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: </a:t>
            </a:r>
            <a:r>
              <a:rPr b="0" lang="ru-RU" sz="3200" spc="-1" strike="noStrike">
                <a:solidFill>
                  <a:srgbClr val="0070c0"/>
                </a:solidFill>
                <a:latin typeface="Comic Sans MS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ru-RU" sz="3200" spc="-1" strike="noStrike">
                <a:solidFill>
                  <a:srgbClr val="00b05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7"/>
          <p:cNvSpPr/>
          <p:nvPr/>
        </p:nvSpPr>
        <p:spPr>
          <a:xfrm>
            <a:off x="2771640" y="306864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omic Sans MS"/>
              </a:rPr>
              <a:t>2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· </a:t>
            </a:r>
            <a:r>
              <a:rPr b="0" lang="ru-RU" sz="3200" spc="-1" strike="noStrike">
                <a:solidFill>
                  <a:srgbClr val="0070c0"/>
                </a:solidFill>
                <a:latin typeface="Comic Sans MS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8"/>
          <p:cNvSpPr/>
          <p:nvPr/>
        </p:nvSpPr>
        <p:spPr>
          <a:xfrm>
            <a:off x="3419640" y="595008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12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: </a:t>
            </a:r>
            <a:r>
              <a:rPr b="0" lang="ru-RU" sz="4000" spc="-1" strike="noStrike">
                <a:solidFill>
                  <a:srgbClr val="00b050"/>
                </a:solidFill>
                <a:latin typeface="Comic Sans MS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ru-RU" sz="4000" spc="-1" strike="noStrike">
                <a:solidFill>
                  <a:srgbClr val="0070c0"/>
                </a:solidFill>
                <a:latin typeface="Comic Sans MS"/>
              </a:rPr>
              <a:t>6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3"/>
          <p:cNvSpPr/>
          <p:nvPr/>
        </p:nvSpPr>
        <p:spPr>
          <a:xfrm>
            <a:off x="0" y="5084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сли произведение разделить на второй  множитель, то получится первый множ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2"/>
          <p:cNvSpPr/>
          <p:nvPr/>
        </p:nvSpPr>
        <p:spPr>
          <a:xfrm>
            <a:off x="1547640" y="198900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3  ·  4  =  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1258920" y="342900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ервый множ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4067280" y="342900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торой множ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2195640" y="692280"/>
            <a:ext cx="374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роизве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авая фигурная скобка 7"/>
          <p:cNvSpPr/>
          <p:nvPr/>
        </p:nvSpPr>
        <p:spPr>
          <a:xfrm rot="16200000">
            <a:off x="3607560" y="361080"/>
            <a:ext cx="668160" cy="2771640"/>
          </a:xfrm>
          <a:custGeom>
            <a:avLst/>
            <a:gdLst>
              <a:gd name="textAreaLeft" fmla="*/ 0 w 668160"/>
              <a:gd name="textAreaRight" fmla="*/ 241200 w 668160"/>
              <a:gd name="textAreaTop" fmla="*/ 17280 h 2771640"/>
              <a:gd name="textAreaBottom" fmla="*/ 2754360 h 27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7"/>
                  <a:pt x="10800" y="434"/>
                </a:cubicBezTo>
                <a:lnTo>
                  <a:pt x="10800" y="10366"/>
                </a:lnTo>
                <a:cubicBezTo>
                  <a:pt x="10800" y="10583"/>
                  <a:pt x="16200" y="10800"/>
                  <a:pt x="21600" y="10800"/>
                </a:cubicBezTo>
                <a:cubicBezTo>
                  <a:pt x="16200" y="10800"/>
                  <a:pt x="10800" y="11017"/>
                  <a:pt x="10800" y="11234"/>
                </a:cubicBezTo>
                <a:lnTo>
                  <a:pt x="10800" y="21166"/>
                </a:lnTo>
                <a:cubicBezTo>
                  <a:pt x="10800" y="2138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Прямая со стрелкой 9"/>
          <p:cNvCxnSpPr/>
          <p:nvPr/>
        </p:nvCxnSpPr>
        <p:spPr>
          <a:xfrm flipH="1">
            <a:off x="2699640" y="2852280"/>
            <a:ext cx="432360" cy="5770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Прямая со стрелкой 11"/>
          <p:cNvCxnSpPr/>
          <p:nvPr/>
        </p:nvCxnSpPr>
        <p:spPr>
          <a:xfrm>
            <a:off x="4932000" y="2852280"/>
            <a:ext cx="432360" cy="5770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TextBox 30"/>
          <p:cNvSpPr/>
          <p:nvPr/>
        </p:nvSpPr>
        <p:spPr>
          <a:xfrm>
            <a:off x="6443640" y="3573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из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Прямая со стрелкой 32"/>
          <p:cNvCxnSpPr/>
          <p:nvPr/>
        </p:nvCxnSpPr>
        <p:spPr>
          <a:xfrm>
            <a:off x="6732360" y="2852280"/>
            <a:ext cx="432360" cy="5770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2"/>
          <p:cNvSpPr/>
          <p:nvPr/>
        </p:nvSpPr>
        <p:spPr>
          <a:xfrm>
            <a:off x="684360" y="1989000"/>
            <a:ext cx="777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12  :  4  = 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1258920" y="3429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ели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4067280" y="3429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ел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2195640" y="692280"/>
            <a:ext cx="37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част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авая фигурная скобка 7"/>
          <p:cNvSpPr/>
          <p:nvPr/>
        </p:nvSpPr>
        <p:spPr>
          <a:xfrm rot="16200000">
            <a:off x="3517920" y="450720"/>
            <a:ext cx="668160" cy="2592360"/>
          </a:xfrm>
          <a:custGeom>
            <a:avLst/>
            <a:gdLst>
              <a:gd name="textAreaLeft" fmla="*/ 0 w 668160"/>
              <a:gd name="textAreaRight" fmla="*/ 241200 w 668160"/>
              <a:gd name="textAreaTop" fmla="*/ 17280 h 2592360"/>
              <a:gd name="textAreaBottom" fmla="*/ 257508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32"/>
                  <a:pt x="10800" y="464"/>
                </a:cubicBezTo>
                <a:lnTo>
                  <a:pt x="10800" y="10336"/>
                </a:lnTo>
                <a:cubicBezTo>
                  <a:pt x="10800" y="10568"/>
                  <a:pt x="16200" y="10800"/>
                  <a:pt x="21600" y="10800"/>
                </a:cubicBezTo>
                <a:cubicBezTo>
                  <a:pt x="16200" y="10800"/>
                  <a:pt x="10800" y="11032"/>
                  <a:pt x="10800" y="11264"/>
                </a:cubicBezTo>
                <a:lnTo>
                  <a:pt x="10800" y="21136"/>
                </a:lnTo>
                <a:cubicBezTo>
                  <a:pt x="10800" y="21368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Прямая со стрелкой 9"/>
          <p:cNvCxnSpPr/>
          <p:nvPr/>
        </p:nvCxnSpPr>
        <p:spPr>
          <a:xfrm flipH="1">
            <a:off x="2699640" y="2852280"/>
            <a:ext cx="432360" cy="5770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Прямая со стрелкой 11"/>
          <p:cNvCxnSpPr/>
          <p:nvPr/>
        </p:nvCxnSpPr>
        <p:spPr>
          <a:xfrm>
            <a:off x="4787640" y="2852280"/>
            <a:ext cx="432360" cy="5770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TextBox 30"/>
          <p:cNvSpPr/>
          <p:nvPr/>
        </p:nvSpPr>
        <p:spPr>
          <a:xfrm>
            <a:off x="6875640" y="3429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аст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Прямая со стрелкой 32"/>
          <p:cNvCxnSpPr/>
          <p:nvPr/>
        </p:nvCxnSpPr>
        <p:spPr>
          <a:xfrm>
            <a:off x="6443640" y="2781000"/>
            <a:ext cx="432720" cy="5770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2"/>
          <p:cNvSpPr/>
          <p:nvPr/>
        </p:nvSpPr>
        <p:spPr>
          <a:xfrm>
            <a:off x="2195640" y="5445000"/>
            <a:ext cx="6048360" cy="792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1"/>
          <p:cNvSpPr/>
          <p:nvPr/>
        </p:nvSpPr>
        <p:spPr>
          <a:xfrm>
            <a:off x="2124000" y="2421000"/>
            <a:ext cx="5977080" cy="79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2556000" y="33336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множение на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3203640" y="321300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множение на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1763640" y="112536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Comic Sans MS"/>
              </a:rPr>
              <a:t>5  · 1 =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5580000" y="112536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mic Sans MS"/>
              </a:rPr>
              <a:t>1  · 5 =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2779560" y="1773360"/>
            <a:ext cx="46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1+ 1 + 1+ 1 +1 =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492360" y="2349360"/>
            <a:ext cx="33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а · 1 = 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7"/>
          <p:cNvSpPr/>
          <p:nvPr/>
        </p:nvSpPr>
        <p:spPr>
          <a:xfrm>
            <a:off x="1619280" y="393372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omic Sans MS"/>
              </a:rPr>
              <a:t>3  · 0 =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8"/>
          <p:cNvSpPr/>
          <p:nvPr/>
        </p:nvSpPr>
        <p:spPr>
          <a:xfrm>
            <a:off x="5580000" y="393372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omic Sans MS"/>
              </a:rPr>
              <a:t>0  · 3 =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9"/>
          <p:cNvSpPr/>
          <p:nvPr/>
        </p:nvSpPr>
        <p:spPr>
          <a:xfrm>
            <a:off x="3635280" y="458136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0 + 0 + 0  =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0"/>
          <p:cNvSpPr/>
          <p:nvPr/>
        </p:nvSpPr>
        <p:spPr>
          <a:xfrm>
            <a:off x="3492360" y="5445000"/>
            <a:ext cx="33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а · 0 = 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2268360" y="189000"/>
            <a:ext cx="518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omic Sans MS"/>
              </a:rPr>
              <a:t>Умножение на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2771640" y="98100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4  · 10  = 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1403280" y="162864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omic Sans MS"/>
              </a:rPr>
              <a:t>10 + 10 + 10 + 10 = 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5"/>
          <p:cNvSpPr/>
          <p:nvPr/>
        </p:nvSpPr>
        <p:spPr>
          <a:xfrm>
            <a:off x="2771640" y="285264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0 · 4 = 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2916360" y="4076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40 : 4 =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2916360" y="530064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40 : 10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2T17:28:43Z</dcterms:created>
  <dc:creator>PC</dc:creator>
  <dc:description/>
  <dc:language>en-US</dc:language>
  <cp:lastModifiedBy>Berezin</cp:lastModifiedBy>
  <dcterms:modified xsi:type="dcterms:W3CDTF">2019-12-23T21:03:29Z</dcterms:modified>
  <cp:revision>45</cp:revision>
  <dc:subject/>
  <dc:title>Слайд 1</dc:title>
</cp:coreProperties>
</file>